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5C4-7C65-46AE-A28A-8FA10077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734-AB04-47F8-ADA0-92A4A834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B04-EFEF-463E-BF5F-856E15B8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E6D-A127-4716-9B4F-50748451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3E51-F05E-45EF-932E-4566E0A5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1807-2AF2-4394-BCBB-262EB2A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44AA-FD14-459E-96B2-06DA2C9E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B816-C877-4A69-95E8-26101B45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1B71-631E-43C9-9D39-503D8350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88C5-AD6D-4BF8-8777-B36B96DB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4AFD-332E-4CFD-B6DC-49756ABC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51F-F186-486E-AA76-E7E3F5CA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C157-177E-466D-B3BF-89AAF73A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A931-9638-4E0B-AD5A-745AC635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1C7C-DD30-4D67-8B82-A0FCF467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BCA8-B210-472E-9740-FEED7EB1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CFBA-566D-4E9E-B89D-28ABB204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C3F-F15E-4431-AFAF-E31FDDB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E80-E2EB-4900-9079-95F915F7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8BF-1C8A-48EF-A318-8542B8DF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8F6-1FF4-40F9-AA85-071C580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245-C466-4954-90F3-D1676BF3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B60-ACFF-499E-A459-A7FA63F7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387-498D-49ED-A7D7-8514EA3D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F5EB-5851-4E86-A2E3-5268C0FB39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1E8E-2114-42EC-B292-47C0123E68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 Students will determine equivalent ratios/propor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3200" spc="-1" strike="noStrike">
                <a:solidFill>
                  <a:srgbClr val="827f4c"/>
                </a:solidFill>
                <a:latin typeface="Arial"/>
              </a:rPr>
              <a:t>Proportions in Geometry?</a:t>
            </a: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rtions can be used to find missing dimensions of similar fig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4419720"/>
            <a:ext cx="1600200" cy="1066680"/>
          </a:xfrm>
          <a:prstGeom prst="rect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40200" y="29923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429000"/>
            <a:ext cx="3048120" cy="1523880"/>
          </a:xfrm>
          <a:prstGeom prst="rect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9760" y="4068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47680" y="47545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00560" y="39164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72120" y="304164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9880" y="2357280"/>
            <a:ext cx="5160960" cy="420840"/>
          </a:xfrm>
          <a:custGeom>
            <a:avLst/>
            <a:gdLst/>
            <a:ahLst/>
            <a:rect l="l" t="t" r="r" b="b"/>
            <a:pathLst>
              <a:path w="14338" h="1167">
                <a:moveTo>
                  <a:pt x="2332" y="6648"/>
                </a:moveTo>
                <a:cubicBezTo>
                  <a:pt x="2338" y="6660"/>
                  <a:pt x="2369" y="6774"/>
                  <a:pt x="2381" y="6796"/>
                </a:cubicBezTo>
                <a:cubicBezTo>
                  <a:pt x="2475" y="6969"/>
                  <a:pt x="2733" y="6804"/>
                  <a:pt x="2828" y="6722"/>
                </a:cubicBezTo>
                <a:cubicBezTo>
                  <a:pt x="2844" y="6697"/>
                  <a:pt x="2861" y="6673"/>
                  <a:pt x="2877" y="6648"/>
                </a:cubicBezTo>
                <a:cubicBezTo>
                  <a:pt x="2918" y="6681"/>
                  <a:pt x="2993" y="6747"/>
                  <a:pt x="3076" y="6747"/>
                </a:cubicBezTo>
                <a:cubicBezTo>
                  <a:pt x="3152" y="6747"/>
                  <a:pt x="3212" y="6635"/>
                  <a:pt x="3274" y="6648"/>
                </a:cubicBezTo>
                <a:cubicBezTo>
                  <a:pt x="3362" y="6666"/>
                  <a:pt x="3434" y="6770"/>
                  <a:pt x="3572" y="6722"/>
                </a:cubicBezTo>
                <a:cubicBezTo>
                  <a:pt x="3727" y="6668"/>
                  <a:pt x="3670" y="6712"/>
                  <a:pt x="3845" y="6697"/>
                </a:cubicBezTo>
                <a:cubicBezTo>
                  <a:pt x="3925" y="6690"/>
                  <a:pt x="3966" y="6574"/>
                  <a:pt x="4043" y="6598"/>
                </a:cubicBezTo>
                <a:cubicBezTo>
                  <a:pt x="4120" y="6622"/>
                  <a:pt x="4169" y="6699"/>
                  <a:pt x="4291" y="6672"/>
                </a:cubicBezTo>
                <a:cubicBezTo>
                  <a:pt x="4407" y="6626"/>
                  <a:pt x="4441" y="6616"/>
                  <a:pt x="4490" y="6548"/>
                </a:cubicBezTo>
                <a:cubicBezTo>
                  <a:pt x="4527" y="6580"/>
                  <a:pt x="4504" y="6638"/>
                  <a:pt x="4614" y="6648"/>
                </a:cubicBezTo>
                <a:cubicBezTo>
                  <a:pt x="4700" y="6656"/>
                  <a:pt x="4771" y="6583"/>
                  <a:pt x="4837" y="6548"/>
                </a:cubicBezTo>
              </a:path>
              <a:path w="14338" h="1167">
                <a:moveTo>
                  <a:pt x="3423" y="6970"/>
                </a:moveTo>
                <a:cubicBezTo>
                  <a:pt x="3404" y="7084"/>
                  <a:pt x="3324" y="7200"/>
                  <a:pt x="3324" y="7317"/>
                </a:cubicBezTo>
                <a:cubicBezTo>
                  <a:pt x="3324" y="7525"/>
                  <a:pt x="3541" y="7450"/>
                  <a:pt x="3671" y="7441"/>
                </a:cubicBezTo>
              </a:path>
              <a:path w="14338" h="1167">
                <a:moveTo>
                  <a:pt x="4266" y="7144"/>
                </a:moveTo>
                <a:cubicBezTo>
                  <a:pt x="4195" y="7144"/>
                  <a:pt x="4151" y="7140"/>
                  <a:pt x="4093" y="7169"/>
                </a:cubicBezTo>
                <a:cubicBezTo>
                  <a:pt x="4179" y="7230"/>
                  <a:pt x="4252" y="7287"/>
                  <a:pt x="4316" y="7367"/>
                </a:cubicBezTo>
                <a:cubicBezTo>
                  <a:pt x="4227" y="7469"/>
                  <a:pt x="4146" y="7506"/>
                  <a:pt x="4043" y="7441"/>
                </a:cubicBezTo>
              </a:path>
              <a:path w="14338" h="1167">
                <a:moveTo>
                  <a:pt x="4936" y="7293"/>
                </a:moveTo>
                <a:cubicBezTo>
                  <a:pt x="4835" y="7242"/>
                  <a:pt x="4719" y="7139"/>
                  <a:pt x="4614" y="7243"/>
                </a:cubicBezTo>
                <a:cubicBezTo>
                  <a:pt x="4510" y="7347"/>
                  <a:pt x="4639" y="7512"/>
                  <a:pt x="4738" y="7417"/>
                </a:cubicBezTo>
                <a:cubicBezTo>
                  <a:pt x="4754" y="7384"/>
                  <a:pt x="4771" y="7350"/>
                  <a:pt x="4787" y="7317"/>
                </a:cubicBezTo>
                <a:cubicBezTo>
                  <a:pt x="4810" y="7410"/>
                  <a:pt x="4893" y="7450"/>
                  <a:pt x="4986" y="7417"/>
                </a:cubicBezTo>
                <a:cubicBezTo>
                  <a:pt x="5086" y="7381"/>
                  <a:pt x="5064" y="7217"/>
                  <a:pt x="5085" y="7317"/>
                </a:cubicBezTo>
                <a:cubicBezTo>
                  <a:pt x="5104" y="7391"/>
                  <a:pt x="5112" y="7398"/>
                  <a:pt x="5110" y="7441"/>
                </a:cubicBezTo>
                <a:cubicBezTo>
                  <a:pt x="5110" y="7383"/>
                  <a:pt x="5110" y="7326"/>
                  <a:pt x="5110" y="7268"/>
                </a:cubicBezTo>
                <a:cubicBezTo>
                  <a:pt x="5235" y="7286"/>
                  <a:pt x="5272" y="7331"/>
                  <a:pt x="5358" y="7417"/>
                </a:cubicBezTo>
                <a:cubicBezTo>
                  <a:pt x="5372" y="7319"/>
                  <a:pt x="5398" y="7189"/>
                  <a:pt x="5531" y="7218"/>
                </a:cubicBezTo>
                <a:cubicBezTo>
                  <a:pt x="5684" y="7252"/>
                  <a:pt x="5607" y="7368"/>
                  <a:pt x="5705" y="7417"/>
                </a:cubicBezTo>
              </a:path>
              <a:path w="14338" h="1167">
                <a:moveTo>
                  <a:pt x="5854" y="7317"/>
                </a:moveTo>
                <a:cubicBezTo>
                  <a:pt x="5947" y="7294"/>
                  <a:pt x="6037" y="7244"/>
                  <a:pt x="6127" y="7218"/>
                </a:cubicBezTo>
                <a:cubicBezTo>
                  <a:pt x="6018" y="7160"/>
                  <a:pt x="5853" y="7088"/>
                  <a:pt x="5829" y="7293"/>
                </a:cubicBezTo>
                <a:cubicBezTo>
                  <a:pt x="5799" y="7552"/>
                  <a:pt x="6135" y="7446"/>
                  <a:pt x="6251" y="7417"/>
                </a:cubicBezTo>
              </a:path>
              <a:path w="14338" h="1167">
                <a:moveTo>
                  <a:pt x="7243" y="7094"/>
                </a:moveTo>
                <a:cubicBezTo>
                  <a:pt x="7147" y="7072"/>
                  <a:pt x="7054" y="7039"/>
                  <a:pt x="6995" y="7119"/>
                </a:cubicBezTo>
                <a:cubicBezTo>
                  <a:pt x="7111" y="7171"/>
                  <a:pt x="7226" y="7216"/>
                  <a:pt x="7342" y="7268"/>
                </a:cubicBezTo>
                <a:cubicBezTo>
                  <a:pt x="7231" y="7394"/>
                  <a:pt x="7144" y="7392"/>
                  <a:pt x="6995" y="7342"/>
                </a:cubicBezTo>
              </a:path>
              <a:path w="14338" h="1167">
                <a:moveTo>
                  <a:pt x="7441" y="6921"/>
                </a:moveTo>
                <a:cubicBezTo>
                  <a:pt x="7483" y="7067"/>
                  <a:pt x="7541" y="7218"/>
                  <a:pt x="7565" y="7367"/>
                </a:cubicBezTo>
                <a:cubicBezTo>
                  <a:pt x="7565" y="7297"/>
                  <a:pt x="7540" y="7094"/>
                  <a:pt x="7665" y="7094"/>
                </a:cubicBezTo>
                <a:cubicBezTo>
                  <a:pt x="7851" y="7094"/>
                  <a:pt x="7898" y="7247"/>
                  <a:pt x="7913" y="7392"/>
                </a:cubicBezTo>
              </a:path>
              <a:path w="14338" h="1167">
                <a:moveTo>
                  <a:pt x="8260" y="7119"/>
                </a:moveTo>
                <a:cubicBezTo>
                  <a:pt x="8101" y="7139"/>
                  <a:pt x="8105" y="7139"/>
                  <a:pt x="8012" y="7268"/>
                </a:cubicBezTo>
                <a:cubicBezTo>
                  <a:pt x="8159" y="7395"/>
                  <a:pt x="8229" y="7328"/>
                  <a:pt x="8334" y="7193"/>
                </a:cubicBezTo>
                <a:cubicBezTo>
                  <a:pt x="8334" y="7287"/>
                  <a:pt x="8411" y="7376"/>
                  <a:pt x="8508" y="7392"/>
                </a:cubicBezTo>
                <a:cubicBezTo>
                  <a:pt x="8609" y="7409"/>
                  <a:pt x="8652" y="7186"/>
                  <a:pt x="8682" y="7317"/>
                </a:cubicBezTo>
                <a:cubicBezTo>
                  <a:pt x="8709" y="7459"/>
                  <a:pt x="8723" y="7518"/>
                  <a:pt x="8756" y="7615"/>
                </a:cubicBezTo>
                <a:cubicBezTo>
                  <a:pt x="8775" y="7689"/>
                  <a:pt x="8809" y="7722"/>
                  <a:pt x="8756" y="7714"/>
                </a:cubicBezTo>
                <a:cubicBezTo>
                  <a:pt x="8666" y="7525"/>
                  <a:pt x="8524" y="7240"/>
                  <a:pt x="8781" y="7094"/>
                </a:cubicBezTo>
                <a:cubicBezTo>
                  <a:pt x="8831" y="7086"/>
                  <a:pt x="8880" y="7077"/>
                  <a:pt x="8930" y="7069"/>
                </a:cubicBezTo>
                <a:cubicBezTo>
                  <a:pt x="8953" y="7271"/>
                  <a:pt x="8946" y="7379"/>
                  <a:pt x="8706" y="7367"/>
                </a:cubicBezTo>
                <a:cubicBezTo>
                  <a:pt x="8624" y="7346"/>
                  <a:pt x="8591" y="7356"/>
                  <a:pt x="8607" y="7293"/>
                </a:cubicBezTo>
              </a:path>
              <a:path w="14338" h="1167">
                <a:moveTo>
                  <a:pt x="9004" y="7169"/>
                </a:moveTo>
                <a:cubicBezTo>
                  <a:pt x="9066" y="7150"/>
                  <a:pt x="9187" y="7143"/>
                  <a:pt x="9203" y="7094"/>
                </a:cubicBezTo>
                <a:cubicBezTo>
                  <a:pt x="9166" y="7003"/>
                  <a:pt x="9039" y="6947"/>
                  <a:pt x="8954" y="7045"/>
                </a:cubicBezTo>
                <a:cubicBezTo>
                  <a:pt x="8794" y="7230"/>
                  <a:pt x="9068" y="7380"/>
                  <a:pt x="9227" y="7367"/>
                </a:cubicBezTo>
                <a:cubicBezTo>
                  <a:pt x="9268" y="7350"/>
                  <a:pt x="9310" y="7334"/>
                  <a:pt x="9351" y="7317"/>
                </a:cubicBezTo>
              </a:path>
              <a:path w="14338" h="1167">
                <a:moveTo>
                  <a:pt x="10592" y="7144"/>
                </a:moveTo>
                <a:cubicBezTo>
                  <a:pt x="10641" y="7127"/>
                  <a:pt x="10574" y="7072"/>
                  <a:pt x="10517" y="7045"/>
                </a:cubicBezTo>
                <a:cubicBezTo>
                  <a:pt x="10258" y="6922"/>
                  <a:pt x="10156" y="7075"/>
                  <a:pt x="10145" y="7293"/>
                </a:cubicBezTo>
                <a:cubicBezTo>
                  <a:pt x="10390" y="7302"/>
                  <a:pt x="10595" y="7302"/>
                  <a:pt x="10542" y="6995"/>
                </a:cubicBezTo>
                <a:cubicBezTo>
                  <a:pt x="10526" y="6901"/>
                  <a:pt x="10481" y="6818"/>
                  <a:pt x="10468" y="6722"/>
                </a:cubicBezTo>
                <a:cubicBezTo>
                  <a:pt x="10544" y="6924"/>
                  <a:pt x="10606" y="7129"/>
                  <a:pt x="10641" y="7342"/>
                </a:cubicBezTo>
              </a:path>
              <a:path w="14338" h="1167">
                <a:moveTo>
                  <a:pt x="9624" y="6970"/>
                </a:moveTo>
                <a:lnTo>
                  <a:pt x="9624" y="6970"/>
                </a:lnTo>
              </a:path>
              <a:path w="14338" h="1167">
                <a:moveTo>
                  <a:pt x="9773" y="7441"/>
                </a:moveTo>
                <a:cubicBezTo>
                  <a:pt x="9761" y="7489"/>
                  <a:pt x="9747" y="7658"/>
                  <a:pt x="9723" y="7541"/>
                </a:cubicBezTo>
              </a:path>
              <a:path w="14338" h="1167">
                <a:moveTo>
                  <a:pt x="10765" y="7045"/>
                </a:moveTo>
                <a:cubicBezTo>
                  <a:pt x="10786" y="7122"/>
                  <a:pt x="10806" y="7191"/>
                  <a:pt x="10815" y="7268"/>
                </a:cubicBezTo>
              </a:path>
              <a:path w="14338" h="1167">
                <a:moveTo>
                  <a:pt x="10765" y="6871"/>
                </a:moveTo>
                <a:cubicBezTo>
                  <a:pt x="10773" y="6871"/>
                  <a:pt x="10782" y="6871"/>
                  <a:pt x="10790" y="6871"/>
                </a:cubicBezTo>
              </a:path>
              <a:path w="14338" h="1167">
                <a:moveTo>
                  <a:pt x="10790" y="6871"/>
                </a:moveTo>
                <a:lnTo>
                  <a:pt x="10790" y="6871"/>
                </a:lnTo>
              </a:path>
              <a:path w="14338" h="1167">
                <a:moveTo>
                  <a:pt x="11410" y="6772"/>
                </a:moveTo>
                <a:cubicBezTo>
                  <a:pt x="11329" y="6677"/>
                  <a:pt x="11243" y="6649"/>
                  <a:pt x="11187" y="6796"/>
                </a:cubicBezTo>
                <a:cubicBezTo>
                  <a:pt x="11131" y="6943"/>
                  <a:pt x="11202" y="7077"/>
                  <a:pt x="11286" y="7193"/>
                </a:cubicBezTo>
              </a:path>
              <a:path w="14338" h="1167">
                <a:moveTo>
                  <a:pt x="11162" y="7020"/>
                </a:moveTo>
                <a:cubicBezTo>
                  <a:pt x="11369" y="7020"/>
                  <a:pt x="11444" y="7021"/>
                  <a:pt x="11584" y="7045"/>
                </a:cubicBezTo>
              </a:path>
              <a:path w="14338" h="1167">
                <a:moveTo>
                  <a:pt x="11881" y="6871"/>
                </a:moveTo>
                <a:cubicBezTo>
                  <a:pt x="11826" y="6828"/>
                  <a:pt x="11652" y="6710"/>
                  <a:pt x="11609" y="6846"/>
                </a:cubicBezTo>
                <a:cubicBezTo>
                  <a:pt x="11563" y="6989"/>
                  <a:pt x="11697" y="7146"/>
                  <a:pt x="11757" y="7268"/>
                </a:cubicBezTo>
              </a:path>
              <a:path w="14338" h="1167">
                <a:moveTo>
                  <a:pt x="11559" y="7094"/>
                </a:moveTo>
                <a:cubicBezTo>
                  <a:pt x="11741" y="7094"/>
                  <a:pt x="11940" y="7083"/>
                  <a:pt x="12105" y="7119"/>
                </a:cubicBezTo>
                <a:cubicBezTo>
                  <a:pt x="12177" y="7135"/>
                  <a:pt x="12241" y="7097"/>
                  <a:pt x="12303" y="7069"/>
                </a:cubicBezTo>
                <a:cubicBezTo>
                  <a:pt x="12221" y="6906"/>
                  <a:pt x="12152" y="6993"/>
                  <a:pt x="12030" y="7069"/>
                </a:cubicBezTo>
                <a:cubicBezTo>
                  <a:pt x="12067" y="7215"/>
                  <a:pt x="12183" y="7300"/>
                  <a:pt x="12353" y="7218"/>
                </a:cubicBezTo>
                <a:cubicBezTo>
                  <a:pt x="12418" y="7187"/>
                  <a:pt x="12443" y="7091"/>
                  <a:pt x="12477" y="7193"/>
                </a:cubicBezTo>
                <a:cubicBezTo>
                  <a:pt x="12477" y="7218"/>
                  <a:pt x="12477" y="7226"/>
                  <a:pt x="12477" y="7193"/>
                </a:cubicBezTo>
                <a:cubicBezTo>
                  <a:pt x="12496" y="7062"/>
                  <a:pt x="12518" y="7010"/>
                  <a:pt x="12650" y="6995"/>
                </a:cubicBezTo>
                <a:cubicBezTo>
                  <a:pt x="12730" y="6995"/>
                  <a:pt x="12759" y="6998"/>
                  <a:pt x="12799" y="7045"/>
                </a:cubicBezTo>
              </a:path>
              <a:path w="14338" h="1167">
                <a:moveTo>
                  <a:pt x="12824" y="7069"/>
                </a:moveTo>
                <a:cubicBezTo>
                  <a:pt x="12849" y="7069"/>
                  <a:pt x="12873" y="7069"/>
                  <a:pt x="12898" y="7069"/>
                </a:cubicBezTo>
                <a:cubicBezTo>
                  <a:pt x="12952" y="6964"/>
                  <a:pt x="12730" y="7020"/>
                  <a:pt x="12700" y="7069"/>
                </a:cubicBezTo>
                <a:cubicBezTo>
                  <a:pt x="12571" y="7280"/>
                  <a:pt x="13028" y="7204"/>
                  <a:pt x="13097" y="7169"/>
                </a:cubicBezTo>
                <a:cubicBezTo>
                  <a:pt x="13149" y="7143"/>
                  <a:pt x="13121" y="7245"/>
                  <a:pt x="13146" y="7193"/>
                </a:cubicBezTo>
                <a:cubicBezTo>
                  <a:pt x="13192" y="7099"/>
                  <a:pt x="13237" y="6945"/>
                  <a:pt x="13370" y="7069"/>
                </a:cubicBezTo>
                <a:cubicBezTo>
                  <a:pt x="13418" y="7113"/>
                  <a:pt x="13469" y="7193"/>
                  <a:pt x="13519" y="7243"/>
                </a:cubicBezTo>
              </a:path>
              <a:path w="14338" h="1167">
                <a:moveTo>
                  <a:pt x="13692" y="6623"/>
                </a:moveTo>
                <a:cubicBezTo>
                  <a:pt x="13704" y="6822"/>
                  <a:pt x="13721" y="7021"/>
                  <a:pt x="13742" y="7218"/>
                </a:cubicBezTo>
                <a:cubicBezTo>
                  <a:pt x="13742" y="7243"/>
                  <a:pt x="13742" y="7251"/>
                  <a:pt x="13767" y="7243"/>
                </a:cubicBezTo>
              </a:path>
              <a:path w="14338" h="1167">
                <a:moveTo>
                  <a:pt x="13469" y="6921"/>
                </a:moveTo>
                <a:cubicBezTo>
                  <a:pt x="13628" y="6907"/>
                  <a:pt x="13778" y="6915"/>
                  <a:pt x="13940" y="6921"/>
                </a:cubicBezTo>
              </a:path>
              <a:path w="14338" h="1167">
                <a:moveTo>
                  <a:pt x="14759" y="6796"/>
                </a:moveTo>
                <a:cubicBezTo>
                  <a:pt x="14609" y="6882"/>
                  <a:pt x="14791" y="6895"/>
                  <a:pt x="14883" y="6945"/>
                </a:cubicBezTo>
                <a:cubicBezTo>
                  <a:pt x="14995" y="7013"/>
                  <a:pt x="15033" y="7024"/>
                  <a:pt x="15032" y="7119"/>
                </a:cubicBezTo>
                <a:cubicBezTo>
                  <a:pt x="14846" y="7172"/>
                  <a:pt x="14651" y="7262"/>
                  <a:pt x="14734" y="7045"/>
                </a:cubicBezTo>
              </a:path>
              <a:path w="14338" h="1167">
                <a:moveTo>
                  <a:pt x="15280" y="7069"/>
                </a:moveTo>
                <a:cubicBezTo>
                  <a:pt x="15280" y="7163"/>
                  <a:pt x="15259" y="7183"/>
                  <a:pt x="15304" y="7218"/>
                </a:cubicBezTo>
              </a:path>
              <a:path w="14338" h="1167">
                <a:moveTo>
                  <a:pt x="15230" y="6747"/>
                </a:moveTo>
                <a:lnTo>
                  <a:pt x="15230" y="6747"/>
                </a:lnTo>
                <a:lnTo>
                  <a:pt x="15230" y="6747"/>
                </a:lnTo>
              </a:path>
              <a:path w="14338" h="1167">
                <a:moveTo>
                  <a:pt x="15230" y="6747"/>
                </a:moveTo>
                <a:lnTo>
                  <a:pt x="15230" y="6747"/>
                </a:lnTo>
              </a:path>
              <a:path w="14338" h="1167">
                <a:moveTo>
                  <a:pt x="15553" y="6896"/>
                </a:moveTo>
                <a:cubicBezTo>
                  <a:pt x="15669" y="6896"/>
                  <a:pt x="15784" y="6896"/>
                  <a:pt x="15900" y="6896"/>
                </a:cubicBezTo>
                <a:cubicBezTo>
                  <a:pt x="15863" y="7015"/>
                  <a:pt x="15796" y="7074"/>
                  <a:pt x="15701" y="7169"/>
                </a:cubicBezTo>
                <a:cubicBezTo>
                  <a:pt x="15820" y="7227"/>
                  <a:pt x="15939" y="7218"/>
                  <a:pt x="16073" y="7218"/>
                </a:cubicBezTo>
              </a:path>
              <a:path w="14338" h="1167">
                <a:moveTo>
                  <a:pt x="16346" y="7020"/>
                </a:moveTo>
                <a:cubicBezTo>
                  <a:pt x="16388" y="6992"/>
                  <a:pt x="16566" y="6971"/>
                  <a:pt x="16570" y="6945"/>
                </a:cubicBezTo>
                <a:cubicBezTo>
                  <a:pt x="16562" y="6929"/>
                  <a:pt x="16553" y="6912"/>
                  <a:pt x="16545" y="6896"/>
                </a:cubicBezTo>
                <a:cubicBezTo>
                  <a:pt x="16465" y="6802"/>
                  <a:pt x="16326" y="6787"/>
                  <a:pt x="16272" y="6945"/>
                </a:cubicBezTo>
                <a:cubicBezTo>
                  <a:pt x="16204" y="7143"/>
                  <a:pt x="16391" y="7220"/>
                  <a:pt x="16545" y="7243"/>
                </a:cubicBezTo>
                <a:cubicBezTo>
                  <a:pt x="16619" y="7243"/>
                  <a:pt x="16628" y="7243"/>
                  <a:pt x="16669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0040" y="2884320"/>
            <a:ext cx="482760" cy="347760"/>
          </a:xfrm>
          <a:custGeom>
            <a:avLst/>
            <a:gdLst/>
            <a:ahLst/>
            <a:rect l="l" t="t" r="r" b="b"/>
            <a:pathLst>
              <a:path w="1340" h="968">
                <a:moveTo>
                  <a:pt x="7888" y="8111"/>
                </a:moveTo>
                <a:cubicBezTo>
                  <a:pt x="7998" y="8064"/>
                  <a:pt x="8068" y="7959"/>
                  <a:pt x="8186" y="8062"/>
                </a:cubicBezTo>
                <a:cubicBezTo>
                  <a:pt x="8304" y="8165"/>
                  <a:pt x="8174" y="8255"/>
                  <a:pt x="8111" y="8334"/>
                </a:cubicBezTo>
                <a:cubicBezTo>
                  <a:pt x="8095" y="8342"/>
                  <a:pt x="8078" y="8351"/>
                  <a:pt x="8062" y="8359"/>
                </a:cubicBezTo>
                <a:cubicBezTo>
                  <a:pt x="8148" y="8301"/>
                  <a:pt x="8321" y="8302"/>
                  <a:pt x="8359" y="8434"/>
                </a:cubicBezTo>
                <a:cubicBezTo>
                  <a:pt x="8407" y="8599"/>
                  <a:pt x="8087" y="8769"/>
                  <a:pt x="7962" y="8731"/>
                </a:cubicBezTo>
                <a:cubicBezTo>
                  <a:pt x="7941" y="8666"/>
                  <a:pt x="7933" y="8650"/>
                  <a:pt x="7938" y="8607"/>
                </a:cubicBezTo>
              </a:path>
              <a:path w="1340" h="968">
                <a:moveTo>
                  <a:pt x="8607" y="8384"/>
                </a:moveTo>
                <a:cubicBezTo>
                  <a:pt x="8599" y="8384"/>
                  <a:pt x="8590" y="8384"/>
                  <a:pt x="8582" y="8384"/>
                </a:cubicBezTo>
              </a:path>
              <a:path w="1340" h="968">
                <a:moveTo>
                  <a:pt x="8830" y="8235"/>
                </a:moveTo>
                <a:cubicBezTo>
                  <a:pt x="8873" y="8306"/>
                  <a:pt x="8984" y="8441"/>
                  <a:pt x="9054" y="8508"/>
                </a:cubicBezTo>
                <a:cubicBezTo>
                  <a:pt x="9144" y="8595"/>
                  <a:pt x="9159" y="8605"/>
                  <a:pt x="9203" y="8508"/>
                </a:cubicBezTo>
              </a:path>
              <a:path w="1340" h="968">
                <a:moveTo>
                  <a:pt x="9153" y="8136"/>
                </a:moveTo>
                <a:cubicBezTo>
                  <a:pt x="9153" y="8353"/>
                  <a:pt x="9146" y="8566"/>
                  <a:pt x="9178" y="8781"/>
                </a:cubicBezTo>
                <a:cubicBezTo>
                  <a:pt x="9189" y="8857"/>
                  <a:pt x="9214" y="8910"/>
                  <a:pt x="9227" y="89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17920" y="2955960"/>
            <a:ext cx="196920" cy="88920"/>
          </a:xfrm>
          <a:custGeom>
            <a:avLst/>
            <a:gdLst/>
            <a:ahLst/>
            <a:rect l="l" t="t" r="r" b="b"/>
            <a:pathLst>
              <a:path w="547" h="249">
                <a:moveTo>
                  <a:pt x="9773" y="8260"/>
                </a:moveTo>
                <a:cubicBezTo>
                  <a:pt x="9870" y="8260"/>
                  <a:pt x="9976" y="8250"/>
                  <a:pt x="10071" y="8235"/>
                </a:cubicBezTo>
                <a:cubicBezTo>
                  <a:pt x="10209" y="8212"/>
                  <a:pt x="10135" y="8214"/>
                  <a:pt x="10220" y="8235"/>
                </a:cubicBezTo>
              </a:path>
              <a:path w="547" h="249">
                <a:moveTo>
                  <a:pt x="9922" y="8458"/>
                </a:moveTo>
                <a:cubicBezTo>
                  <a:pt x="10054" y="8433"/>
                  <a:pt x="10187" y="8403"/>
                  <a:pt x="10319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40" y="3089160"/>
            <a:ext cx="2036520" cy="652680"/>
          </a:xfrm>
          <a:custGeom>
            <a:avLst/>
            <a:gdLst/>
            <a:ahLst/>
            <a:rect l="l" t="t" r="r" b="b"/>
            <a:pathLst>
              <a:path w="5656" h="1812">
                <a:moveTo>
                  <a:pt x="2555" y="8657"/>
                </a:moveTo>
                <a:cubicBezTo>
                  <a:pt x="2493" y="8594"/>
                  <a:pt x="2358" y="8604"/>
                  <a:pt x="2257" y="8582"/>
                </a:cubicBezTo>
                <a:cubicBezTo>
                  <a:pt x="2243" y="8653"/>
                  <a:pt x="2203" y="8755"/>
                  <a:pt x="2232" y="8830"/>
                </a:cubicBezTo>
                <a:cubicBezTo>
                  <a:pt x="2242" y="8856"/>
                  <a:pt x="2529" y="8855"/>
                  <a:pt x="2530" y="8855"/>
                </a:cubicBezTo>
                <a:cubicBezTo>
                  <a:pt x="2783" y="8957"/>
                  <a:pt x="2772" y="9160"/>
                  <a:pt x="2530" y="9252"/>
                </a:cubicBezTo>
                <a:cubicBezTo>
                  <a:pt x="2448" y="9283"/>
                  <a:pt x="2329" y="9288"/>
                  <a:pt x="2282" y="9252"/>
                </a:cubicBezTo>
              </a:path>
              <a:path w="5656" h="1812">
                <a:moveTo>
                  <a:pt x="1736" y="9550"/>
                </a:moveTo>
                <a:cubicBezTo>
                  <a:pt x="2133" y="9483"/>
                  <a:pt x="2528" y="9474"/>
                  <a:pt x="2927" y="9426"/>
                </a:cubicBezTo>
                <a:cubicBezTo>
                  <a:pt x="3018" y="9408"/>
                  <a:pt x="3059" y="9366"/>
                  <a:pt x="3051" y="9426"/>
                </a:cubicBezTo>
              </a:path>
              <a:path w="5656" h="1812">
                <a:moveTo>
                  <a:pt x="2257" y="9872"/>
                </a:moveTo>
                <a:cubicBezTo>
                  <a:pt x="2318" y="9750"/>
                  <a:pt x="2558" y="9764"/>
                  <a:pt x="2679" y="9798"/>
                </a:cubicBezTo>
                <a:cubicBezTo>
                  <a:pt x="2840" y="9843"/>
                  <a:pt x="2606" y="9997"/>
                  <a:pt x="2580" y="10021"/>
                </a:cubicBezTo>
                <a:cubicBezTo>
                  <a:pt x="2572" y="10029"/>
                  <a:pt x="2563" y="10038"/>
                  <a:pt x="2555" y="10046"/>
                </a:cubicBezTo>
                <a:cubicBezTo>
                  <a:pt x="2635" y="10059"/>
                  <a:pt x="2829" y="10117"/>
                  <a:pt x="2753" y="10244"/>
                </a:cubicBezTo>
                <a:cubicBezTo>
                  <a:pt x="2688" y="10353"/>
                  <a:pt x="2399" y="10459"/>
                  <a:pt x="2282" y="10393"/>
                </a:cubicBezTo>
                <a:cubicBezTo>
                  <a:pt x="2282" y="10385"/>
                  <a:pt x="2282" y="10376"/>
                  <a:pt x="2282" y="10368"/>
                </a:cubicBezTo>
              </a:path>
              <a:path w="5656" h="1812">
                <a:moveTo>
                  <a:pt x="3597" y="9351"/>
                </a:moveTo>
                <a:cubicBezTo>
                  <a:pt x="3663" y="9371"/>
                  <a:pt x="3781" y="9361"/>
                  <a:pt x="3795" y="9376"/>
                </a:cubicBezTo>
              </a:path>
              <a:path w="5656" h="1812">
                <a:moveTo>
                  <a:pt x="3671" y="9649"/>
                </a:moveTo>
                <a:cubicBezTo>
                  <a:pt x="3769" y="9632"/>
                  <a:pt x="3871" y="9611"/>
                  <a:pt x="3969" y="9599"/>
                </a:cubicBezTo>
              </a:path>
              <a:path w="5656" h="1812">
                <a:moveTo>
                  <a:pt x="298" y="8830"/>
                </a:moveTo>
                <a:cubicBezTo>
                  <a:pt x="396" y="8757"/>
                  <a:pt x="414" y="9061"/>
                  <a:pt x="422" y="9103"/>
                </a:cubicBezTo>
                <a:cubicBezTo>
                  <a:pt x="441" y="9205"/>
                  <a:pt x="458" y="9322"/>
                  <a:pt x="471" y="9426"/>
                </a:cubicBezTo>
                <a:cubicBezTo>
                  <a:pt x="471" y="9310"/>
                  <a:pt x="446" y="9199"/>
                  <a:pt x="521" y="9103"/>
                </a:cubicBezTo>
                <a:cubicBezTo>
                  <a:pt x="601" y="9000"/>
                  <a:pt x="657" y="8938"/>
                  <a:pt x="769" y="9029"/>
                </a:cubicBezTo>
                <a:cubicBezTo>
                  <a:pt x="862" y="9104"/>
                  <a:pt x="955" y="9231"/>
                  <a:pt x="943" y="9351"/>
                </a:cubicBezTo>
                <a:cubicBezTo>
                  <a:pt x="935" y="9368"/>
                  <a:pt x="926" y="9384"/>
                  <a:pt x="918" y="9401"/>
                </a:cubicBezTo>
              </a:path>
              <a:path w="5656" h="1812">
                <a:moveTo>
                  <a:pt x="50" y="9525"/>
                </a:moveTo>
                <a:cubicBezTo>
                  <a:pt x="282" y="9513"/>
                  <a:pt x="512" y="9465"/>
                  <a:pt x="744" y="9451"/>
                </a:cubicBezTo>
                <a:cubicBezTo>
                  <a:pt x="833" y="9445"/>
                  <a:pt x="927" y="9451"/>
                  <a:pt x="1017" y="9451"/>
                </a:cubicBezTo>
              </a:path>
              <a:path w="5656" h="1812">
                <a:moveTo>
                  <a:pt x="397" y="9798"/>
                </a:moveTo>
                <a:cubicBezTo>
                  <a:pt x="431" y="9934"/>
                  <a:pt x="501" y="10061"/>
                  <a:pt x="546" y="10195"/>
                </a:cubicBezTo>
                <a:cubicBezTo>
                  <a:pt x="598" y="10060"/>
                  <a:pt x="610" y="9869"/>
                  <a:pt x="695" y="9748"/>
                </a:cubicBezTo>
                <a:cubicBezTo>
                  <a:pt x="703" y="9748"/>
                  <a:pt x="711" y="9748"/>
                  <a:pt x="719" y="9748"/>
                </a:cubicBezTo>
              </a:path>
              <a:path w="5656" h="1812">
                <a:moveTo>
                  <a:pt x="4787" y="9500"/>
                </a:moveTo>
                <a:cubicBezTo>
                  <a:pt x="4676" y="9500"/>
                  <a:pt x="4951" y="9446"/>
                  <a:pt x="5060" y="9426"/>
                </a:cubicBezTo>
                <a:cubicBezTo>
                  <a:pt x="5232" y="9395"/>
                  <a:pt x="5407" y="9376"/>
                  <a:pt x="5581" y="9376"/>
                </a:cubicBezTo>
                <a:cubicBezTo>
                  <a:pt x="5622" y="9376"/>
                  <a:pt x="5664" y="9376"/>
                  <a:pt x="5705" y="9376"/>
                </a:cubicBezTo>
              </a:path>
              <a:path w="5656" h="1812">
                <a:moveTo>
                  <a:pt x="4738" y="8806"/>
                </a:moveTo>
                <a:cubicBezTo>
                  <a:pt x="4782" y="8872"/>
                  <a:pt x="4909" y="9000"/>
                  <a:pt x="4986" y="9054"/>
                </a:cubicBezTo>
                <a:cubicBezTo>
                  <a:pt x="5014" y="9054"/>
                  <a:pt x="5025" y="9056"/>
                  <a:pt x="5035" y="9079"/>
                </a:cubicBezTo>
              </a:path>
              <a:path w="5656" h="1812">
                <a:moveTo>
                  <a:pt x="5035" y="8706"/>
                </a:moveTo>
                <a:cubicBezTo>
                  <a:pt x="5014" y="8856"/>
                  <a:pt x="5026" y="9002"/>
                  <a:pt x="5011" y="9153"/>
                </a:cubicBezTo>
                <a:cubicBezTo>
                  <a:pt x="5001" y="9255"/>
                  <a:pt x="4986" y="9347"/>
                  <a:pt x="4986" y="9451"/>
                </a:cubicBezTo>
              </a:path>
              <a:path w="5656" h="1812">
                <a:moveTo>
                  <a:pt x="5159" y="9748"/>
                </a:moveTo>
                <a:cubicBezTo>
                  <a:pt x="5159" y="9676"/>
                  <a:pt x="5136" y="9926"/>
                  <a:pt x="5135" y="9947"/>
                </a:cubicBezTo>
                <a:cubicBezTo>
                  <a:pt x="5132" y="10049"/>
                  <a:pt x="5138" y="10060"/>
                  <a:pt x="5159" y="10145"/>
                </a:cubicBezTo>
                <a:cubicBezTo>
                  <a:pt x="5174" y="10209"/>
                  <a:pt x="5298" y="10217"/>
                  <a:pt x="5358" y="10220"/>
                </a:cubicBezTo>
                <a:cubicBezTo>
                  <a:pt x="5438" y="10224"/>
                  <a:pt x="5534" y="10189"/>
                  <a:pt x="5581" y="10120"/>
                </a:cubicBezTo>
                <a:cubicBezTo>
                  <a:pt x="5619" y="10063"/>
                  <a:pt x="5625" y="10054"/>
                  <a:pt x="5606" y="9996"/>
                </a:cubicBezTo>
                <a:cubicBezTo>
                  <a:pt x="5593" y="9956"/>
                  <a:pt x="5566" y="9971"/>
                  <a:pt x="5531" y="9947"/>
                </a:cubicBezTo>
                <a:cubicBezTo>
                  <a:pt x="5500" y="9926"/>
                  <a:pt x="5461" y="9912"/>
                  <a:pt x="5432" y="9947"/>
                </a:cubicBezTo>
                <a:cubicBezTo>
                  <a:pt x="5392" y="9995"/>
                  <a:pt x="5407" y="10063"/>
                  <a:pt x="5407" y="10120"/>
                </a:cubicBezTo>
                <a:cubicBezTo>
                  <a:pt x="5407" y="10145"/>
                  <a:pt x="5407" y="10153"/>
                  <a:pt x="5407" y="10170"/>
                </a:cubicBezTo>
              </a:path>
              <a:path w="5656" h="1812">
                <a:moveTo>
                  <a:pt x="3299" y="9773"/>
                </a:moveTo>
                <a:cubicBezTo>
                  <a:pt x="3412" y="9692"/>
                  <a:pt x="3538" y="9616"/>
                  <a:pt x="3646" y="9525"/>
                </a:cubicBezTo>
                <a:cubicBezTo>
                  <a:pt x="3766" y="9424"/>
                  <a:pt x="3860" y="9352"/>
                  <a:pt x="3994" y="9277"/>
                </a:cubicBezTo>
                <a:cubicBezTo>
                  <a:pt x="4065" y="9229"/>
                  <a:pt x="4086" y="9214"/>
                  <a:pt x="4142" y="9203"/>
                </a:cubicBezTo>
                <a:cubicBezTo>
                  <a:pt x="4250" y="9122"/>
                  <a:pt x="4085" y="9222"/>
                  <a:pt x="4043" y="9252"/>
                </a:cubicBezTo>
                <a:cubicBezTo>
                  <a:pt x="3863" y="9379"/>
                  <a:pt x="3681" y="9522"/>
                  <a:pt x="3522" y="9674"/>
                </a:cubicBezTo>
                <a:cubicBezTo>
                  <a:pt x="3474" y="9720"/>
                  <a:pt x="3399" y="9763"/>
                  <a:pt x="3373" y="9798"/>
                </a:cubicBezTo>
                <a:cubicBezTo>
                  <a:pt x="3355" y="9823"/>
                  <a:pt x="3330" y="9826"/>
                  <a:pt x="3299" y="9872"/>
                </a:cubicBezTo>
                <a:cubicBezTo>
                  <a:pt x="3268" y="9872"/>
                  <a:pt x="3406" y="9765"/>
                  <a:pt x="3448" y="9723"/>
                </a:cubicBezTo>
                <a:cubicBezTo>
                  <a:pt x="3591" y="9581"/>
                  <a:pt x="3716" y="9427"/>
                  <a:pt x="3870" y="9302"/>
                </a:cubicBezTo>
                <a:cubicBezTo>
                  <a:pt x="3893" y="9283"/>
                  <a:pt x="3936" y="9231"/>
                  <a:pt x="3944" y="9227"/>
                </a:cubicBezTo>
                <a:cubicBezTo>
                  <a:pt x="3982" y="9208"/>
                  <a:pt x="4007" y="9196"/>
                  <a:pt x="4043" y="9178"/>
                </a:cubicBezTo>
              </a:path>
              <a:path w="5656" h="1812">
                <a:moveTo>
                  <a:pt x="3373" y="9203"/>
                </a:moveTo>
                <a:cubicBezTo>
                  <a:pt x="3377" y="9148"/>
                  <a:pt x="3513" y="9295"/>
                  <a:pt x="3597" y="9351"/>
                </a:cubicBezTo>
                <a:cubicBezTo>
                  <a:pt x="3831" y="9507"/>
                  <a:pt x="4056" y="9622"/>
                  <a:pt x="4316" y="9723"/>
                </a:cubicBezTo>
                <a:cubicBezTo>
                  <a:pt x="4374" y="9810"/>
                  <a:pt x="4167" y="9734"/>
                  <a:pt x="4068" y="9699"/>
                </a:cubicBezTo>
                <a:cubicBezTo>
                  <a:pt x="3848" y="9621"/>
                  <a:pt x="3749" y="9504"/>
                  <a:pt x="3572" y="9376"/>
                </a:cubicBezTo>
                <a:cubicBezTo>
                  <a:pt x="3564" y="9376"/>
                  <a:pt x="3555" y="9376"/>
                  <a:pt x="3547" y="9376"/>
                </a:cubicBezTo>
                <a:cubicBezTo>
                  <a:pt x="3659" y="9414"/>
                  <a:pt x="3792" y="9531"/>
                  <a:pt x="3894" y="9599"/>
                </a:cubicBezTo>
                <a:cubicBezTo>
                  <a:pt x="3911" y="9610"/>
                  <a:pt x="4226" y="9778"/>
                  <a:pt x="4242" y="9798"/>
                </a:cubicBezTo>
                <a:cubicBezTo>
                  <a:pt x="4242" y="9806"/>
                  <a:pt x="4242" y="9815"/>
                  <a:pt x="4242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27240" y="5081760"/>
            <a:ext cx="473040" cy="44280"/>
          </a:xfrm>
          <a:custGeom>
            <a:avLst/>
            <a:gdLst/>
            <a:ahLst/>
            <a:rect l="l" t="t" r="r" b="b"/>
            <a:pathLst>
              <a:path w="1315" h="125">
                <a:moveTo>
                  <a:pt x="8434" y="14238"/>
                </a:moveTo>
                <a:cubicBezTo>
                  <a:pt x="8360" y="14238"/>
                  <a:pt x="8554" y="14214"/>
                  <a:pt x="8558" y="14213"/>
                </a:cubicBezTo>
                <a:cubicBezTo>
                  <a:pt x="8642" y="14193"/>
                  <a:pt x="8690" y="14188"/>
                  <a:pt x="8781" y="14188"/>
                </a:cubicBezTo>
                <a:cubicBezTo>
                  <a:pt x="8864" y="14188"/>
                  <a:pt x="8940" y="14163"/>
                  <a:pt x="9029" y="14163"/>
                </a:cubicBezTo>
                <a:cubicBezTo>
                  <a:pt x="9099" y="14163"/>
                  <a:pt x="9162" y="14125"/>
                  <a:pt x="9227" y="14114"/>
                </a:cubicBezTo>
                <a:cubicBezTo>
                  <a:pt x="9296" y="14102"/>
                  <a:pt x="9361" y="14155"/>
                  <a:pt x="9426" y="14163"/>
                </a:cubicBezTo>
                <a:cubicBezTo>
                  <a:pt x="9516" y="14174"/>
                  <a:pt x="9610" y="14182"/>
                  <a:pt x="9699" y="14188"/>
                </a:cubicBezTo>
                <a:cubicBezTo>
                  <a:pt x="9707" y="14188"/>
                  <a:pt x="9715" y="14188"/>
                  <a:pt x="9723" y="141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68760" y="3160800"/>
            <a:ext cx="5840280" cy="2911320"/>
          </a:xfrm>
          <a:custGeom>
            <a:avLst/>
            <a:gdLst/>
            <a:ahLst/>
            <a:rect l="l" t="t" r="r" b="b"/>
            <a:pathLst>
              <a:path w="16224" h="8087">
                <a:moveTo>
                  <a:pt x="22349" y="11956"/>
                </a:moveTo>
                <a:cubicBezTo>
                  <a:pt x="22439" y="11922"/>
                  <a:pt x="22548" y="11919"/>
                  <a:pt x="22647" y="11931"/>
                </a:cubicBezTo>
                <a:cubicBezTo>
                  <a:pt x="22805" y="11949"/>
                  <a:pt x="22961" y="12015"/>
                  <a:pt x="23118" y="12030"/>
                </a:cubicBezTo>
                <a:cubicBezTo>
                  <a:pt x="23275" y="12045"/>
                  <a:pt x="23438" y="12038"/>
                  <a:pt x="23589" y="12030"/>
                </a:cubicBezTo>
                <a:cubicBezTo>
                  <a:pt x="23678" y="12025"/>
                  <a:pt x="23804" y="11997"/>
                  <a:pt x="23887" y="12005"/>
                </a:cubicBezTo>
                <a:cubicBezTo>
                  <a:pt x="23912" y="12005"/>
                  <a:pt x="23920" y="12005"/>
                  <a:pt x="23912" y="12030"/>
                </a:cubicBezTo>
              </a:path>
              <a:path w="16224" h="8087">
                <a:moveTo>
                  <a:pt x="9773" y="14610"/>
                </a:moveTo>
                <a:cubicBezTo>
                  <a:pt x="9820" y="14688"/>
                  <a:pt x="9826" y="14794"/>
                  <a:pt x="9897" y="14883"/>
                </a:cubicBezTo>
                <a:cubicBezTo>
                  <a:pt x="10527" y="15669"/>
                  <a:pt x="11495" y="16048"/>
                  <a:pt x="12427" y="16346"/>
                </a:cubicBezTo>
                <a:cubicBezTo>
                  <a:pt x="13094" y="16559"/>
                  <a:pt x="13792" y="16662"/>
                  <a:pt x="14486" y="16743"/>
                </a:cubicBezTo>
                <a:cubicBezTo>
                  <a:pt x="15047" y="16808"/>
                  <a:pt x="15609" y="16860"/>
                  <a:pt x="16173" y="16867"/>
                </a:cubicBezTo>
                <a:cubicBezTo>
                  <a:pt x="17026" y="16878"/>
                  <a:pt x="17890" y="16693"/>
                  <a:pt x="18728" y="16545"/>
                </a:cubicBezTo>
                <a:cubicBezTo>
                  <a:pt x="19108" y="16478"/>
                  <a:pt x="19477" y="16420"/>
                  <a:pt x="19844" y="16297"/>
                </a:cubicBezTo>
                <a:cubicBezTo>
                  <a:pt x="20132" y="16201"/>
                  <a:pt x="20402" y="16055"/>
                  <a:pt x="20687" y="15949"/>
                </a:cubicBezTo>
                <a:cubicBezTo>
                  <a:pt x="21199" y="15759"/>
                  <a:pt x="21677" y="15606"/>
                  <a:pt x="22151" y="15329"/>
                </a:cubicBezTo>
                <a:cubicBezTo>
                  <a:pt x="22741" y="14984"/>
                  <a:pt x="23316" y="14411"/>
                  <a:pt x="23589" y="13767"/>
                </a:cubicBezTo>
                <a:cubicBezTo>
                  <a:pt x="23679" y="13555"/>
                  <a:pt x="23738" y="13238"/>
                  <a:pt x="23763" y="13022"/>
                </a:cubicBezTo>
                <a:cubicBezTo>
                  <a:pt x="23770" y="12959"/>
                  <a:pt x="23787" y="12780"/>
                  <a:pt x="23788" y="12750"/>
                </a:cubicBezTo>
                <a:cubicBezTo>
                  <a:pt x="23780" y="12750"/>
                  <a:pt x="23771" y="12750"/>
                  <a:pt x="23763" y="12750"/>
                </a:cubicBezTo>
              </a:path>
              <a:path w="16224" h="8087">
                <a:moveTo>
                  <a:pt x="9029" y="11385"/>
                </a:moveTo>
                <a:cubicBezTo>
                  <a:pt x="9460" y="11385"/>
                  <a:pt x="9888" y="11407"/>
                  <a:pt x="10319" y="11410"/>
                </a:cubicBezTo>
                <a:cubicBezTo>
                  <a:pt x="10792" y="11413"/>
                  <a:pt x="11262" y="11379"/>
                  <a:pt x="11733" y="11361"/>
                </a:cubicBezTo>
                <a:cubicBezTo>
                  <a:pt x="11843" y="11357"/>
                  <a:pt x="11995" y="11339"/>
                  <a:pt x="12080" y="11336"/>
                </a:cubicBezTo>
                <a:cubicBezTo>
                  <a:pt x="12168" y="11333"/>
                  <a:pt x="12216" y="11306"/>
                  <a:pt x="12303" y="11286"/>
                </a:cubicBezTo>
                <a:cubicBezTo>
                  <a:pt x="12406" y="11263"/>
                  <a:pt x="12494" y="11264"/>
                  <a:pt x="12601" y="11261"/>
                </a:cubicBezTo>
                <a:cubicBezTo>
                  <a:pt x="12626" y="11260"/>
                  <a:pt x="12650" y="11261"/>
                  <a:pt x="12675" y="11261"/>
                </a:cubicBezTo>
                <a:cubicBezTo>
                  <a:pt x="12675" y="11018"/>
                  <a:pt x="12660" y="10781"/>
                  <a:pt x="12626" y="10542"/>
                </a:cubicBezTo>
                <a:cubicBezTo>
                  <a:pt x="12617" y="10476"/>
                  <a:pt x="12601" y="10405"/>
                  <a:pt x="12576" y="10344"/>
                </a:cubicBezTo>
                <a:cubicBezTo>
                  <a:pt x="12550" y="10282"/>
                  <a:pt x="12508" y="10237"/>
                  <a:pt x="12477" y="10170"/>
                </a:cubicBezTo>
                <a:cubicBezTo>
                  <a:pt x="12424" y="10056"/>
                  <a:pt x="12473" y="10128"/>
                  <a:pt x="12378" y="10120"/>
                </a:cubicBezTo>
                <a:cubicBezTo>
                  <a:pt x="12243" y="10108"/>
                  <a:pt x="12115" y="10141"/>
                  <a:pt x="11981" y="10145"/>
                </a:cubicBezTo>
                <a:cubicBezTo>
                  <a:pt x="11632" y="10154"/>
                  <a:pt x="11284" y="10143"/>
                  <a:pt x="10939" y="10170"/>
                </a:cubicBezTo>
                <a:cubicBezTo>
                  <a:pt x="10757" y="10184"/>
                  <a:pt x="10574" y="10202"/>
                  <a:pt x="10393" y="10220"/>
                </a:cubicBezTo>
                <a:cubicBezTo>
                  <a:pt x="10292" y="10230"/>
                  <a:pt x="10199" y="10242"/>
                  <a:pt x="10096" y="10244"/>
                </a:cubicBezTo>
                <a:cubicBezTo>
                  <a:pt x="9967" y="10247"/>
                  <a:pt x="9847" y="10206"/>
                  <a:pt x="9723" y="10195"/>
                </a:cubicBezTo>
                <a:cubicBezTo>
                  <a:pt x="9492" y="10175"/>
                  <a:pt x="9254" y="10208"/>
                  <a:pt x="9029" y="10220"/>
                </a:cubicBezTo>
                <a:cubicBezTo>
                  <a:pt x="8929" y="10225"/>
                  <a:pt x="8841" y="10220"/>
                  <a:pt x="8756" y="10244"/>
                </a:cubicBezTo>
                <a:cubicBezTo>
                  <a:pt x="8713" y="10256"/>
                  <a:pt x="8687" y="10233"/>
                  <a:pt x="8682" y="10294"/>
                </a:cubicBezTo>
                <a:cubicBezTo>
                  <a:pt x="8667" y="10470"/>
                  <a:pt x="8753" y="10631"/>
                  <a:pt x="8806" y="10790"/>
                </a:cubicBezTo>
                <a:cubicBezTo>
                  <a:pt x="8844" y="10906"/>
                  <a:pt x="8913" y="11042"/>
                  <a:pt x="8905" y="11162"/>
                </a:cubicBezTo>
                <a:cubicBezTo>
                  <a:pt x="8900" y="11240"/>
                  <a:pt x="8891" y="11284"/>
                  <a:pt x="8880" y="11361"/>
                </a:cubicBezTo>
                <a:cubicBezTo>
                  <a:pt x="8880" y="11353"/>
                  <a:pt x="8880" y="11344"/>
                  <a:pt x="8880" y="11336"/>
                </a:cubicBezTo>
              </a:path>
              <a:path w="16224" h="8087">
                <a:moveTo>
                  <a:pt x="8756" y="8930"/>
                </a:moveTo>
                <a:cubicBezTo>
                  <a:pt x="8689" y="8925"/>
                  <a:pt x="8601" y="8930"/>
                  <a:pt x="8558" y="8930"/>
                </a:cubicBezTo>
                <a:cubicBezTo>
                  <a:pt x="8437" y="8930"/>
                  <a:pt x="8346" y="8967"/>
                  <a:pt x="8235" y="8979"/>
                </a:cubicBezTo>
                <a:cubicBezTo>
                  <a:pt x="8102" y="8994"/>
                  <a:pt x="7908" y="8939"/>
                  <a:pt x="7789" y="9004"/>
                </a:cubicBezTo>
                <a:cubicBezTo>
                  <a:pt x="7725" y="9039"/>
                  <a:pt x="7707" y="9082"/>
                  <a:pt x="7689" y="9153"/>
                </a:cubicBezTo>
                <a:cubicBezTo>
                  <a:pt x="7662" y="9261"/>
                  <a:pt x="7706" y="9400"/>
                  <a:pt x="7739" y="9500"/>
                </a:cubicBezTo>
                <a:cubicBezTo>
                  <a:pt x="7767" y="9585"/>
                  <a:pt x="7832" y="9691"/>
                  <a:pt x="7838" y="9773"/>
                </a:cubicBezTo>
                <a:cubicBezTo>
                  <a:pt x="7843" y="9838"/>
                  <a:pt x="7816" y="9884"/>
                  <a:pt x="7813" y="9947"/>
                </a:cubicBezTo>
                <a:cubicBezTo>
                  <a:pt x="7807" y="10098"/>
                  <a:pt x="7830" y="10251"/>
                  <a:pt x="7838" y="10393"/>
                </a:cubicBezTo>
                <a:cubicBezTo>
                  <a:pt x="7843" y="10487"/>
                  <a:pt x="7860" y="10662"/>
                  <a:pt x="7863" y="10716"/>
                </a:cubicBezTo>
                <a:cubicBezTo>
                  <a:pt x="7865" y="10752"/>
                  <a:pt x="7861" y="10754"/>
                  <a:pt x="7863" y="10790"/>
                </a:cubicBezTo>
                <a:cubicBezTo>
                  <a:pt x="7875" y="10972"/>
                  <a:pt x="7819" y="11226"/>
                  <a:pt x="7888" y="11385"/>
                </a:cubicBezTo>
                <a:cubicBezTo>
                  <a:pt x="7915" y="11448"/>
                  <a:pt x="7913" y="11427"/>
                  <a:pt x="7962" y="11485"/>
                </a:cubicBezTo>
                <a:cubicBezTo>
                  <a:pt x="8050" y="11590"/>
                  <a:pt x="8164" y="11670"/>
                  <a:pt x="8285" y="11733"/>
                </a:cubicBezTo>
                <a:cubicBezTo>
                  <a:pt x="8437" y="11812"/>
                  <a:pt x="8589" y="11812"/>
                  <a:pt x="8756" y="11807"/>
                </a:cubicBezTo>
                <a:cubicBezTo>
                  <a:pt x="8851" y="11804"/>
                  <a:pt x="8921" y="11746"/>
                  <a:pt x="9004" y="11708"/>
                </a:cubicBezTo>
                <a:cubicBezTo>
                  <a:pt x="9137" y="11648"/>
                  <a:pt x="9254" y="11615"/>
                  <a:pt x="9401" y="11584"/>
                </a:cubicBezTo>
                <a:cubicBezTo>
                  <a:pt x="9647" y="11532"/>
                  <a:pt x="9898" y="11519"/>
                  <a:pt x="10145" y="11485"/>
                </a:cubicBezTo>
                <a:cubicBezTo>
                  <a:pt x="10276" y="11467"/>
                  <a:pt x="10384" y="11485"/>
                  <a:pt x="10517" y="11485"/>
                </a:cubicBezTo>
                <a:cubicBezTo>
                  <a:pt x="10669" y="11485"/>
                  <a:pt x="10814" y="11513"/>
                  <a:pt x="10964" y="11509"/>
                </a:cubicBezTo>
                <a:cubicBezTo>
                  <a:pt x="11115" y="11505"/>
                  <a:pt x="11258" y="11487"/>
                  <a:pt x="11410" y="11485"/>
                </a:cubicBezTo>
                <a:cubicBezTo>
                  <a:pt x="11552" y="11483"/>
                  <a:pt x="11692" y="11477"/>
                  <a:pt x="11832" y="11460"/>
                </a:cubicBezTo>
                <a:cubicBezTo>
                  <a:pt x="11998" y="11439"/>
                  <a:pt x="12159" y="11413"/>
                  <a:pt x="12328" y="11410"/>
                </a:cubicBezTo>
                <a:cubicBezTo>
                  <a:pt x="12508" y="11407"/>
                  <a:pt x="12700" y="11434"/>
                  <a:pt x="12874" y="11385"/>
                </a:cubicBezTo>
                <a:cubicBezTo>
                  <a:pt x="12943" y="11366"/>
                  <a:pt x="12987" y="11363"/>
                  <a:pt x="13022" y="11286"/>
                </a:cubicBezTo>
                <a:cubicBezTo>
                  <a:pt x="13078" y="11164"/>
                  <a:pt x="13036" y="11037"/>
                  <a:pt x="13022" y="10914"/>
                </a:cubicBezTo>
                <a:cubicBezTo>
                  <a:pt x="13002" y="10739"/>
                  <a:pt x="12946" y="10643"/>
                  <a:pt x="12874" y="10492"/>
                </a:cubicBezTo>
                <a:cubicBezTo>
                  <a:pt x="12825" y="10389"/>
                  <a:pt x="12772" y="10279"/>
                  <a:pt x="12725" y="10170"/>
                </a:cubicBezTo>
                <a:cubicBezTo>
                  <a:pt x="12665" y="10033"/>
                  <a:pt x="12575" y="9869"/>
                  <a:pt x="12551" y="9723"/>
                </a:cubicBezTo>
                <a:cubicBezTo>
                  <a:pt x="12527" y="9576"/>
                  <a:pt x="12556" y="9443"/>
                  <a:pt x="12502" y="9302"/>
                </a:cubicBezTo>
                <a:cubicBezTo>
                  <a:pt x="12482" y="9249"/>
                  <a:pt x="12477" y="9195"/>
                  <a:pt x="12427" y="9153"/>
                </a:cubicBezTo>
                <a:cubicBezTo>
                  <a:pt x="12323" y="9066"/>
                  <a:pt x="12159" y="9055"/>
                  <a:pt x="12030" y="9029"/>
                </a:cubicBezTo>
                <a:cubicBezTo>
                  <a:pt x="11937" y="9010"/>
                  <a:pt x="11845" y="9001"/>
                  <a:pt x="11757" y="8979"/>
                </a:cubicBezTo>
                <a:cubicBezTo>
                  <a:pt x="11687" y="8961"/>
                  <a:pt x="11587" y="8929"/>
                  <a:pt x="11509" y="8905"/>
                </a:cubicBezTo>
                <a:cubicBezTo>
                  <a:pt x="11406" y="8874"/>
                  <a:pt x="11315" y="8849"/>
                  <a:pt x="11212" y="8830"/>
                </a:cubicBezTo>
                <a:cubicBezTo>
                  <a:pt x="11120" y="8813"/>
                  <a:pt x="11006" y="8787"/>
                  <a:pt x="10914" y="8781"/>
                </a:cubicBezTo>
                <a:cubicBezTo>
                  <a:pt x="10773" y="8772"/>
                  <a:pt x="10627" y="8778"/>
                  <a:pt x="10492" y="8806"/>
                </a:cubicBezTo>
                <a:cubicBezTo>
                  <a:pt x="10360" y="8833"/>
                  <a:pt x="10229" y="8870"/>
                  <a:pt x="10096" y="8880"/>
                </a:cubicBezTo>
                <a:cubicBezTo>
                  <a:pt x="9879" y="8896"/>
                  <a:pt x="9690" y="8910"/>
                  <a:pt x="9475" y="8954"/>
                </a:cubicBezTo>
                <a:cubicBezTo>
                  <a:pt x="9394" y="8971"/>
                  <a:pt x="9311" y="8973"/>
                  <a:pt x="9227" y="8979"/>
                </a:cubicBezTo>
                <a:cubicBezTo>
                  <a:pt x="9018" y="8993"/>
                  <a:pt x="8814" y="8974"/>
                  <a:pt x="8607" y="9004"/>
                </a:cubicBezTo>
                <a:cubicBezTo>
                  <a:pt x="8508" y="9018"/>
                  <a:pt x="8509" y="9021"/>
                  <a:pt x="8458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8120" y="4340160"/>
            <a:ext cx="392040" cy="17640"/>
          </a:xfrm>
          <a:custGeom>
            <a:avLst/>
            <a:gdLst/>
            <a:ahLst/>
            <a:rect l="l" t="t" r="r" b="b"/>
            <a:pathLst>
              <a:path w="1092" h="51">
                <a:moveTo>
                  <a:pt x="4490" y="12105"/>
                </a:moveTo>
                <a:cubicBezTo>
                  <a:pt x="4424" y="12105"/>
                  <a:pt x="4572" y="12105"/>
                  <a:pt x="4638" y="12105"/>
                </a:cubicBezTo>
                <a:cubicBezTo>
                  <a:pt x="4856" y="12105"/>
                  <a:pt x="5068" y="12096"/>
                  <a:pt x="5283" y="12080"/>
                </a:cubicBezTo>
                <a:cubicBezTo>
                  <a:pt x="5372" y="12073"/>
                  <a:pt x="5442" y="12055"/>
                  <a:pt x="5531" y="12055"/>
                </a:cubicBezTo>
                <a:cubicBezTo>
                  <a:pt x="5539" y="12055"/>
                  <a:pt x="5548" y="12055"/>
                  <a:pt x="5556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01960" y="2795760"/>
            <a:ext cx="1554120" cy="1303200"/>
          </a:xfrm>
          <a:custGeom>
            <a:avLst/>
            <a:gdLst/>
            <a:ahLst/>
            <a:rect l="l" t="t" r="r" b="b"/>
            <a:pathLst>
              <a:path w="4317" h="3622">
                <a:moveTo>
                  <a:pt x="11137" y="7863"/>
                </a:moveTo>
                <a:cubicBezTo>
                  <a:pt x="11025" y="7933"/>
                  <a:pt x="10943" y="7896"/>
                  <a:pt x="10840" y="7938"/>
                </a:cubicBezTo>
                <a:cubicBezTo>
                  <a:pt x="10782" y="7962"/>
                  <a:pt x="10828" y="8147"/>
                  <a:pt x="10840" y="8186"/>
                </a:cubicBezTo>
                <a:cubicBezTo>
                  <a:pt x="10934" y="8186"/>
                  <a:pt x="11016" y="8123"/>
                  <a:pt x="11112" y="8136"/>
                </a:cubicBezTo>
                <a:cubicBezTo>
                  <a:pt x="11288" y="8159"/>
                  <a:pt x="11349" y="8337"/>
                  <a:pt x="11187" y="8434"/>
                </a:cubicBezTo>
                <a:cubicBezTo>
                  <a:pt x="11124" y="8472"/>
                  <a:pt x="11033" y="8458"/>
                  <a:pt x="10964" y="8458"/>
                </a:cubicBezTo>
              </a:path>
              <a:path w="4317" h="3622">
                <a:moveTo>
                  <a:pt x="11584" y="8111"/>
                </a:moveTo>
                <a:lnTo>
                  <a:pt x="11584" y="8111"/>
                </a:lnTo>
              </a:path>
              <a:path w="4317" h="3622">
                <a:moveTo>
                  <a:pt x="11807" y="7764"/>
                </a:moveTo>
                <a:cubicBezTo>
                  <a:pt x="11807" y="7859"/>
                  <a:pt x="11772" y="7937"/>
                  <a:pt x="11782" y="8037"/>
                </a:cubicBezTo>
                <a:cubicBezTo>
                  <a:pt x="11797" y="8180"/>
                  <a:pt x="11850" y="8293"/>
                  <a:pt x="12005" y="8285"/>
                </a:cubicBezTo>
                <a:cubicBezTo>
                  <a:pt x="12136" y="8278"/>
                  <a:pt x="12251" y="8228"/>
                  <a:pt x="12328" y="8136"/>
                </a:cubicBezTo>
                <a:cubicBezTo>
                  <a:pt x="12358" y="8106"/>
                  <a:pt x="12369" y="8092"/>
                  <a:pt x="12378" y="8062"/>
                </a:cubicBezTo>
                <a:cubicBezTo>
                  <a:pt x="12331" y="8027"/>
                  <a:pt x="12236" y="7981"/>
                  <a:pt x="12179" y="8037"/>
                </a:cubicBezTo>
                <a:cubicBezTo>
                  <a:pt x="12157" y="8058"/>
                  <a:pt x="12054" y="8239"/>
                  <a:pt x="12154" y="8260"/>
                </a:cubicBezTo>
                <a:cubicBezTo>
                  <a:pt x="12171" y="8252"/>
                  <a:pt x="12187" y="8243"/>
                  <a:pt x="12204" y="8235"/>
                </a:cubicBezTo>
              </a:path>
              <a:path w="4317" h="3622">
                <a:moveTo>
                  <a:pt x="8136" y="9252"/>
                </a:moveTo>
                <a:cubicBezTo>
                  <a:pt x="8179" y="9187"/>
                  <a:pt x="8326" y="9051"/>
                  <a:pt x="8409" y="9178"/>
                </a:cubicBezTo>
                <a:cubicBezTo>
                  <a:pt x="8459" y="9255"/>
                  <a:pt x="8285" y="9429"/>
                  <a:pt x="8334" y="9376"/>
                </a:cubicBezTo>
                <a:cubicBezTo>
                  <a:pt x="8490" y="9393"/>
                  <a:pt x="8647" y="9455"/>
                  <a:pt x="8458" y="9624"/>
                </a:cubicBezTo>
                <a:cubicBezTo>
                  <a:pt x="8396" y="9679"/>
                  <a:pt x="8177" y="9749"/>
                  <a:pt x="8260" y="9624"/>
                </a:cubicBezTo>
              </a:path>
              <a:path w="4317" h="3622">
                <a:moveTo>
                  <a:pt x="8706" y="9327"/>
                </a:moveTo>
                <a:cubicBezTo>
                  <a:pt x="8706" y="9431"/>
                  <a:pt x="8695" y="9513"/>
                  <a:pt x="8830" y="9500"/>
                </a:cubicBezTo>
                <a:cubicBezTo>
                  <a:pt x="8978" y="9485"/>
                  <a:pt x="8970" y="9400"/>
                  <a:pt x="8905" y="9302"/>
                </a:cubicBezTo>
                <a:cubicBezTo>
                  <a:pt x="8945" y="9444"/>
                  <a:pt x="9044" y="9589"/>
                  <a:pt x="9029" y="9748"/>
                </a:cubicBezTo>
                <a:cubicBezTo>
                  <a:pt x="9019" y="9851"/>
                  <a:pt x="8831" y="10107"/>
                  <a:pt x="8706" y="9996"/>
                </a:cubicBezTo>
                <a:cubicBezTo>
                  <a:pt x="8698" y="9971"/>
                  <a:pt x="8690" y="9947"/>
                  <a:pt x="8682" y="9922"/>
                </a:cubicBezTo>
              </a:path>
              <a:path w="4317" h="3622">
                <a:moveTo>
                  <a:pt x="9178" y="9302"/>
                </a:moveTo>
                <a:cubicBezTo>
                  <a:pt x="9275" y="9263"/>
                  <a:pt x="9371" y="9238"/>
                  <a:pt x="9475" y="9227"/>
                </a:cubicBezTo>
              </a:path>
              <a:path w="4317" h="3622">
                <a:moveTo>
                  <a:pt x="9252" y="9475"/>
                </a:moveTo>
                <a:cubicBezTo>
                  <a:pt x="9342" y="9442"/>
                  <a:pt x="9407" y="9414"/>
                  <a:pt x="9500" y="9401"/>
                </a:cubicBezTo>
              </a:path>
              <a:path w="4317" h="3622">
                <a:moveTo>
                  <a:pt x="9773" y="9079"/>
                </a:moveTo>
                <a:cubicBezTo>
                  <a:pt x="9855" y="9046"/>
                  <a:pt x="9895" y="9012"/>
                  <a:pt x="9996" y="9004"/>
                </a:cubicBezTo>
                <a:cubicBezTo>
                  <a:pt x="10023" y="9111"/>
                  <a:pt x="10042" y="9217"/>
                  <a:pt x="9897" y="9252"/>
                </a:cubicBezTo>
                <a:cubicBezTo>
                  <a:pt x="9905" y="9244"/>
                  <a:pt x="9914" y="9235"/>
                  <a:pt x="9922" y="9227"/>
                </a:cubicBezTo>
                <a:cubicBezTo>
                  <a:pt x="10010" y="9215"/>
                  <a:pt x="10250" y="9195"/>
                  <a:pt x="10170" y="9376"/>
                </a:cubicBezTo>
                <a:cubicBezTo>
                  <a:pt x="10126" y="9474"/>
                  <a:pt x="9921" y="9572"/>
                  <a:pt x="9922" y="9475"/>
                </a:cubicBezTo>
              </a:path>
              <a:path w="4317" h="3622">
                <a:moveTo>
                  <a:pt x="10443" y="8954"/>
                </a:moveTo>
                <a:cubicBezTo>
                  <a:pt x="10373" y="9014"/>
                  <a:pt x="10295" y="9119"/>
                  <a:pt x="10319" y="9227"/>
                </a:cubicBezTo>
                <a:cubicBezTo>
                  <a:pt x="10364" y="9426"/>
                  <a:pt x="10584" y="9356"/>
                  <a:pt x="10666" y="9227"/>
                </a:cubicBezTo>
                <a:cubicBezTo>
                  <a:pt x="10775" y="9056"/>
                  <a:pt x="10552" y="8994"/>
                  <a:pt x="10443" y="8979"/>
                </a:cubicBezTo>
              </a:path>
              <a:path w="4317" h="3622">
                <a:moveTo>
                  <a:pt x="8086" y="9847"/>
                </a:moveTo>
                <a:cubicBezTo>
                  <a:pt x="7978" y="9847"/>
                  <a:pt x="8252" y="9867"/>
                  <a:pt x="8359" y="9872"/>
                </a:cubicBezTo>
                <a:cubicBezTo>
                  <a:pt x="8560" y="9881"/>
                  <a:pt x="8755" y="9869"/>
                  <a:pt x="8954" y="9897"/>
                </a:cubicBezTo>
                <a:cubicBezTo>
                  <a:pt x="8946" y="9897"/>
                  <a:pt x="8938" y="9897"/>
                  <a:pt x="8930" y="9897"/>
                </a:cubicBezTo>
              </a:path>
              <a:path w="4317" h="3622">
                <a:moveTo>
                  <a:pt x="8359" y="10096"/>
                </a:moveTo>
                <a:cubicBezTo>
                  <a:pt x="8384" y="10089"/>
                  <a:pt x="8652" y="10049"/>
                  <a:pt x="8607" y="10120"/>
                </a:cubicBezTo>
                <a:cubicBezTo>
                  <a:pt x="8568" y="10182"/>
                  <a:pt x="8511" y="10203"/>
                  <a:pt x="8458" y="10244"/>
                </a:cubicBezTo>
                <a:cubicBezTo>
                  <a:pt x="8597" y="10261"/>
                  <a:pt x="8640" y="10268"/>
                  <a:pt x="8682" y="10393"/>
                </a:cubicBezTo>
                <a:cubicBezTo>
                  <a:pt x="8664" y="10399"/>
                  <a:pt x="8302" y="10470"/>
                  <a:pt x="8334" y="10418"/>
                </a:cubicBezTo>
                <a:cubicBezTo>
                  <a:pt x="8359" y="10401"/>
                  <a:pt x="8384" y="10385"/>
                  <a:pt x="8409" y="10368"/>
                </a:cubicBezTo>
              </a:path>
              <a:path w="4317" h="3622">
                <a:moveTo>
                  <a:pt x="8136" y="9029"/>
                </a:moveTo>
                <a:cubicBezTo>
                  <a:pt x="8313" y="9100"/>
                  <a:pt x="8265" y="9483"/>
                  <a:pt x="8285" y="9624"/>
                </a:cubicBezTo>
                <a:cubicBezTo>
                  <a:pt x="8319" y="9858"/>
                  <a:pt x="8339" y="10085"/>
                  <a:pt x="8359" y="10319"/>
                </a:cubicBezTo>
              </a:path>
              <a:path w="4317" h="3622">
                <a:moveTo>
                  <a:pt x="9054" y="10567"/>
                </a:moveTo>
                <a:cubicBezTo>
                  <a:pt x="9069" y="10668"/>
                  <a:pt x="9098" y="10812"/>
                  <a:pt x="9203" y="10864"/>
                </a:cubicBezTo>
                <a:cubicBezTo>
                  <a:pt x="9322" y="10923"/>
                  <a:pt x="9321" y="10703"/>
                  <a:pt x="9327" y="10641"/>
                </a:cubicBezTo>
                <a:cubicBezTo>
                  <a:pt x="9381" y="10772"/>
                  <a:pt x="9461" y="10914"/>
                  <a:pt x="9451" y="11063"/>
                </a:cubicBezTo>
                <a:cubicBezTo>
                  <a:pt x="9444" y="11159"/>
                  <a:pt x="9139" y="11471"/>
                  <a:pt x="9128" y="11385"/>
                </a:cubicBezTo>
                <a:cubicBezTo>
                  <a:pt x="9145" y="11344"/>
                  <a:pt x="9161" y="11302"/>
                  <a:pt x="9178" y="11261"/>
                </a:cubicBezTo>
              </a:path>
              <a:path w="4317" h="3622">
                <a:moveTo>
                  <a:pt x="9798" y="10592"/>
                </a:moveTo>
                <a:cubicBezTo>
                  <a:pt x="9897" y="10592"/>
                  <a:pt x="9997" y="10592"/>
                  <a:pt x="10096" y="10592"/>
                </a:cubicBezTo>
              </a:path>
              <a:path w="4317" h="3622">
                <a:moveTo>
                  <a:pt x="9897" y="10740"/>
                </a:moveTo>
                <a:cubicBezTo>
                  <a:pt x="9988" y="10740"/>
                  <a:pt x="10079" y="10740"/>
                  <a:pt x="10170" y="10740"/>
                </a:cubicBezTo>
              </a:path>
              <a:path w="4317" h="3622">
                <a:moveTo>
                  <a:pt x="9996" y="9575"/>
                </a:moveTo>
                <a:cubicBezTo>
                  <a:pt x="10251" y="9559"/>
                  <a:pt x="10519" y="9493"/>
                  <a:pt x="10765" y="9426"/>
                </a:cubicBezTo>
                <a:cubicBezTo>
                  <a:pt x="10922" y="9373"/>
                  <a:pt x="10926" y="9348"/>
                  <a:pt x="11013" y="9351"/>
                </a:cubicBezTo>
              </a:path>
              <a:path w="4317" h="3622">
                <a:moveTo>
                  <a:pt x="10368" y="9649"/>
                </a:moveTo>
                <a:cubicBezTo>
                  <a:pt x="10472" y="9636"/>
                  <a:pt x="10577" y="9602"/>
                  <a:pt x="10666" y="9624"/>
                </a:cubicBezTo>
                <a:cubicBezTo>
                  <a:pt x="10626" y="9697"/>
                  <a:pt x="10591" y="9732"/>
                  <a:pt x="10542" y="9798"/>
                </a:cubicBezTo>
                <a:cubicBezTo>
                  <a:pt x="10624" y="9798"/>
                  <a:pt x="10689" y="9817"/>
                  <a:pt x="10765" y="9847"/>
                </a:cubicBezTo>
                <a:cubicBezTo>
                  <a:pt x="10687" y="9943"/>
                  <a:pt x="10669" y="9971"/>
                  <a:pt x="10542" y="9971"/>
                </a:cubicBezTo>
              </a:path>
              <a:path w="4317" h="3622">
                <a:moveTo>
                  <a:pt x="10443" y="10468"/>
                </a:moveTo>
                <a:cubicBezTo>
                  <a:pt x="10443" y="10620"/>
                  <a:pt x="10453" y="10764"/>
                  <a:pt x="10468" y="10914"/>
                </a:cubicBezTo>
                <a:cubicBezTo>
                  <a:pt x="10468" y="10939"/>
                  <a:pt x="10468" y="10947"/>
                  <a:pt x="10468" y="10964"/>
                </a:cubicBezTo>
              </a:path>
              <a:path w="4317" h="3622">
                <a:moveTo>
                  <a:pt x="10815" y="10517"/>
                </a:moveTo>
                <a:cubicBezTo>
                  <a:pt x="10719" y="10662"/>
                  <a:pt x="10681" y="10757"/>
                  <a:pt x="10765" y="10914"/>
                </a:cubicBezTo>
                <a:cubicBezTo>
                  <a:pt x="10939" y="10882"/>
                  <a:pt x="11084" y="10754"/>
                  <a:pt x="10964" y="10542"/>
                </a:cubicBezTo>
                <a:cubicBezTo>
                  <a:pt x="10876" y="10477"/>
                  <a:pt x="10858" y="10457"/>
                  <a:pt x="10790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71960" y="3821040"/>
            <a:ext cx="376200" cy="135000"/>
          </a:xfrm>
          <a:custGeom>
            <a:avLst/>
            <a:gdLst/>
            <a:ahLst/>
            <a:rect l="l" t="t" r="r" b="b"/>
            <a:pathLst>
              <a:path w="1043" h="373">
                <a:moveTo>
                  <a:pt x="11485" y="10740"/>
                </a:moveTo>
                <a:cubicBezTo>
                  <a:pt x="11485" y="10797"/>
                  <a:pt x="11468" y="10710"/>
                  <a:pt x="11460" y="10691"/>
                </a:cubicBezTo>
                <a:cubicBezTo>
                  <a:pt x="11350" y="10705"/>
                  <a:pt x="11253" y="10810"/>
                  <a:pt x="11311" y="10939"/>
                </a:cubicBezTo>
                <a:cubicBezTo>
                  <a:pt x="11374" y="11081"/>
                  <a:pt x="11567" y="10943"/>
                  <a:pt x="11633" y="10914"/>
                </a:cubicBezTo>
              </a:path>
              <a:path w="1043" h="373">
                <a:moveTo>
                  <a:pt x="11733" y="10691"/>
                </a:moveTo>
                <a:cubicBezTo>
                  <a:pt x="11733" y="10734"/>
                  <a:pt x="11733" y="10913"/>
                  <a:pt x="11733" y="10864"/>
                </a:cubicBezTo>
                <a:cubicBezTo>
                  <a:pt x="11733" y="10788"/>
                  <a:pt x="11739" y="10734"/>
                  <a:pt x="11757" y="10666"/>
                </a:cubicBezTo>
                <a:cubicBezTo>
                  <a:pt x="11863" y="10712"/>
                  <a:pt x="11959" y="10750"/>
                  <a:pt x="12005" y="10864"/>
                </a:cubicBezTo>
                <a:cubicBezTo>
                  <a:pt x="12005" y="10778"/>
                  <a:pt x="11964" y="10652"/>
                  <a:pt x="12080" y="10616"/>
                </a:cubicBezTo>
                <a:cubicBezTo>
                  <a:pt x="12246" y="10564"/>
                  <a:pt x="12334" y="10833"/>
                  <a:pt x="12353" y="109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6760" y="3027240"/>
            <a:ext cx="1268280" cy="411120"/>
          </a:xfrm>
          <a:custGeom>
            <a:avLst/>
            <a:gdLst/>
            <a:ahLst/>
            <a:rect l="l" t="t" r="r" b="b"/>
            <a:pathLst>
              <a:path w="3523" h="1142">
                <a:moveTo>
                  <a:pt x="17140" y="9550"/>
                </a:moveTo>
                <a:cubicBezTo>
                  <a:pt x="17013" y="9518"/>
                  <a:pt x="17203" y="9525"/>
                  <a:pt x="17239" y="9525"/>
                </a:cubicBezTo>
                <a:cubicBezTo>
                  <a:pt x="17297" y="9525"/>
                  <a:pt x="17355" y="9525"/>
                  <a:pt x="17413" y="9525"/>
                </a:cubicBezTo>
                <a:cubicBezTo>
                  <a:pt x="17636" y="9525"/>
                  <a:pt x="17200" y="9549"/>
                  <a:pt x="17190" y="9550"/>
                </a:cubicBezTo>
                <a:cubicBezTo>
                  <a:pt x="17149" y="9550"/>
                  <a:pt x="17107" y="9550"/>
                  <a:pt x="17066" y="9550"/>
                </a:cubicBezTo>
                <a:cubicBezTo>
                  <a:pt x="16954" y="9550"/>
                  <a:pt x="17009" y="9562"/>
                  <a:pt x="17090" y="9550"/>
                </a:cubicBezTo>
                <a:cubicBezTo>
                  <a:pt x="17216" y="9532"/>
                  <a:pt x="17399" y="9558"/>
                  <a:pt x="17512" y="9500"/>
                </a:cubicBezTo>
                <a:cubicBezTo>
                  <a:pt x="17504" y="9500"/>
                  <a:pt x="17495" y="9500"/>
                  <a:pt x="17487" y="9500"/>
                </a:cubicBezTo>
              </a:path>
              <a:path w="3523" h="1142">
                <a:moveTo>
                  <a:pt x="17686" y="8855"/>
                </a:moveTo>
                <a:cubicBezTo>
                  <a:pt x="17794" y="8855"/>
                  <a:pt x="17873" y="8797"/>
                  <a:pt x="17983" y="8781"/>
                </a:cubicBezTo>
                <a:cubicBezTo>
                  <a:pt x="18008" y="8781"/>
                  <a:pt x="18033" y="8781"/>
                  <a:pt x="18058" y="8781"/>
                </a:cubicBezTo>
              </a:path>
              <a:path w="3523" h="1142">
                <a:moveTo>
                  <a:pt x="17810" y="8979"/>
                </a:moveTo>
                <a:cubicBezTo>
                  <a:pt x="17898" y="8962"/>
                  <a:pt x="17968" y="8954"/>
                  <a:pt x="18058" y="8954"/>
                </a:cubicBezTo>
              </a:path>
              <a:path w="3523" h="1142">
                <a:moveTo>
                  <a:pt x="18479" y="8458"/>
                </a:moveTo>
                <a:cubicBezTo>
                  <a:pt x="18488" y="8561"/>
                  <a:pt x="18504" y="9028"/>
                  <a:pt x="18504" y="8954"/>
                </a:cubicBezTo>
              </a:path>
              <a:path w="3523" h="1142">
                <a:moveTo>
                  <a:pt x="18827" y="8409"/>
                </a:moveTo>
                <a:cubicBezTo>
                  <a:pt x="18794" y="8541"/>
                  <a:pt x="18653" y="8647"/>
                  <a:pt x="18653" y="8806"/>
                </a:cubicBezTo>
                <a:cubicBezTo>
                  <a:pt x="18670" y="8847"/>
                  <a:pt x="18686" y="8889"/>
                  <a:pt x="18703" y="8930"/>
                </a:cubicBezTo>
                <a:cubicBezTo>
                  <a:pt x="18917" y="8941"/>
                  <a:pt x="19103" y="8881"/>
                  <a:pt x="19050" y="8607"/>
                </a:cubicBezTo>
                <a:cubicBezTo>
                  <a:pt x="19015" y="8426"/>
                  <a:pt x="18920" y="8429"/>
                  <a:pt x="18777" y="8409"/>
                </a:cubicBezTo>
              </a:path>
              <a:path w="3523" h="1142">
                <a:moveTo>
                  <a:pt x="19447" y="8533"/>
                </a:moveTo>
                <a:cubicBezTo>
                  <a:pt x="19475" y="8618"/>
                  <a:pt x="19462" y="8485"/>
                  <a:pt x="19397" y="8508"/>
                </a:cubicBezTo>
                <a:cubicBezTo>
                  <a:pt x="19197" y="8580"/>
                  <a:pt x="19314" y="8883"/>
                  <a:pt x="19521" y="8855"/>
                </a:cubicBezTo>
                <a:cubicBezTo>
                  <a:pt x="19571" y="8830"/>
                  <a:pt x="19620" y="8806"/>
                  <a:pt x="19670" y="8781"/>
                </a:cubicBezTo>
              </a:path>
              <a:path w="3523" h="1142">
                <a:moveTo>
                  <a:pt x="19819" y="8458"/>
                </a:moveTo>
                <a:cubicBezTo>
                  <a:pt x="19832" y="8546"/>
                  <a:pt x="19841" y="8657"/>
                  <a:pt x="19869" y="8731"/>
                </a:cubicBezTo>
                <a:cubicBezTo>
                  <a:pt x="19869" y="8711"/>
                  <a:pt x="19858" y="8400"/>
                  <a:pt x="19968" y="8483"/>
                </a:cubicBezTo>
                <a:cubicBezTo>
                  <a:pt x="20045" y="8541"/>
                  <a:pt x="20092" y="8644"/>
                  <a:pt x="20117" y="8731"/>
                </a:cubicBezTo>
                <a:cubicBezTo>
                  <a:pt x="20133" y="8618"/>
                  <a:pt x="20138" y="8492"/>
                  <a:pt x="20265" y="8434"/>
                </a:cubicBezTo>
                <a:cubicBezTo>
                  <a:pt x="20430" y="8359"/>
                  <a:pt x="20537" y="8671"/>
                  <a:pt x="20513" y="8781"/>
                </a:cubicBezTo>
                <a:cubicBezTo>
                  <a:pt x="20505" y="8781"/>
                  <a:pt x="20497" y="8781"/>
                  <a:pt x="20489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54360" y="5562720"/>
            <a:ext cx="2224440" cy="617400"/>
          </a:xfrm>
          <a:custGeom>
            <a:avLst/>
            <a:gdLst/>
            <a:ahLst/>
            <a:rect l="l" t="t" r="r" b="b"/>
            <a:pathLst>
              <a:path w="6178" h="1713">
                <a:moveTo>
                  <a:pt x="12973" y="15677"/>
                </a:moveTo>
                <a:cubicBezTo>
                  <a:pt x="12973" y="15567"/>
                  <a:pt x="12962" y="15556"/>
                  <a:pt x="12923" y="15453"/>
                </a:cubicBezTo>
                <a:cubicBezTo>
                  <a:pt x="12791" y="15500"/>
                  <a:pt x="12514" y="15737"/>
                  <a:pt x="12675" y="15925"/>
                </a:cubicBezTo>
                <a:cubicBezTo>
                  <a:pt x="12861" y="16004"/>
                  <a:pt x="12932" y="16026"/>
                  <a:pt x="13072" y="15949"/>
                </a:cubicBezTo>
              </a:path>
              <a:path w="6178" h="1713">
                <a:moveTo>
                  <a:pt x="13246" y="15726"/>
                </a:moveTo>
                <a:cubicBezTo>
                  <a:pt x="13135" y="15880"/>
                  <a:pt x="13088" y="15907"/>
                  <a:pt x="13122" y="16073"/>
                </a:cubicBezTo>
                <a:cubicBezTo>
                  <a:pt x="13276" y="16081"/>
                  <a:pt x="13586" y="16064"/>
                  <a:pt x="13444" y="15801"/>
                </a:cubicBezTo>
                <a:cubicBezTo>
                  <a:pt x="13411" y="15776"/>
                  <a:pt x="13378" y="15751"/>
                  <a:pt x="13345" y="15726"/>
                </a:cubicBezTo>
              </a:path>
              <a:path w="6178" h="1713">
                <a:moveTo>
                  <a:pt x="13618" y="16024"/>
                </a:moveTo>
                <a:cubicBezTo>
                  <a:pt x="13596" y="16156"/>
                  <a:pt x="13588" y="16188"/>
                  <a:pt x="13593" y="16272"/>
                </a:cubicBezTo>
                <a:cubicBezTo>
                  <a:pt x="13622" y="16143"/>
                  <a:pt x="13656" y="15932"/>
                  <a:pt x="13816" y="15900"/>
                </a:cubicBezTo>
                <a:cubicBezTo>
                  <a:pt x="13849" y="15908"/>
                  <a:pt x="13882" y="15917"/>
                  <a:pt x="13915" y="15925"/>
                </a:cubicBezTo>
              </a:path>
              <a:path w="6178" h="1713">
                <a:moveTo>
                  <a:pt x="14039" y="16272"/>
                </a:moveTo>
                <a:cubicBezTo>
                  <a:pt x="14039" y="16373"/>
                  <a:pt x="14049" y="16394"/>
                  <a:pt x="14015" y="16446"/>
                </a:cubicBezTo>
                <a:cubicBezTo>
                  <a:pt x="13988" y="16260"/>
                  <a:pt x="14024" y="16120"/>
                  <a:pt x="14188" y="15999"/>
                </a:cubicBezTo>
                <a:cubicBezTo>
                  <a:pt x="14288" y="15974"/>
                  <a:pt x="14321" y="15966"/>
                  <a:pt x="14387" y="15999"/>
                </a:cubicBezTo>
              </a:path>
              <a:path w="6178" h="1713">
                <a:moveTo>
                  <a:pt x="14511" y="16272"/>
                </a:moveTo>
                <a:cubicBezTo>
                  <a:pt x="14647" y="16211"/>
                  <a:pt x="14669" y="16218"/>
                  <a:pt x="14734" y="16098"/>
                </a:cubicBezTo>
                <a:cubicBezTo>
                  <a:pt x="14589" y="16098"/>
                  <a:pt x="14239" y="16245"/>
                  <a:pt x="14436" y="16470"/>
                </a:cubicBezTo>
                <a:cubicBezTo>
                  <a:pt x="14494" y="16495"/>
                  <a:pt x="14552" y="16520"/>
                  <a:pt x="14610" y="16545"/>
                </a:cubicBezTo>
              </a:path>
              <a:path w="6178" h="1713">
                <a:moveTo>
                  <a:pt x="14883" y="16123"/>
                </a:moveTo>
                <a:cubicBezTo>
                  <a:pt x="14856" y="16296"/>
                  <a:pt x="15032" y="16397"/>
                  <a:pt x="15180" y="16545"/>
                </a:cubicBezTo>
                <a:cubicBezTo>
                  <a:pt x="14994" y="16580"/>
                  <a:pt x="14940" y="16554"/>
                  <a:pt x="14759" y="16495"/>
                </a:cubicBezTo>
              </a:path>
              <a:path w="6178" h="1713">
                <a:moveTo>
                  <a:pt x="15553" y="16446"/>
                </a:moveTo>
                <a:cubicBezTo>
                  <a:pt x="15534" y="16638"/>
                  <a:pt x="15528" y="16823"/>
                  <a:pt x="15528" y="17016"/>
                </a:cubicBezTo>
                <a:cubicBezTo>
                  <a:pt x="15528" y="17008"/>
                  <a:pt x="15528" y="16999"/>
                  <a:pt x="15528" y="16991"/>
                </a:cubicBezTo>
              </a:path>
              <a:path w="6178" h="1713">
                <a:moveTo>
                  <a:pt x="15701" y="16222"/>
                </a:moveTo>
                <a:cubicBezTo>
                  <a:pt x="15803" y="16302"/>
                  <a:pt x="16192" y="16596"/>
                  <a:pt x="15850" y="16694"/>
                </a:cubicBezTo>
                <a:cubicBezTo>
                  <a:pt x="15673" y="16694"/>
                  <a:pt x="15627" y="16702"/>
                  <a:pt x="15528" y="16644"/>
                </a:cubicBezTo>
              </a:path>
              <a:path w="6178" h="1713">
                <a:moveTo>
                  <a:pt x="16148" y="16272"/>
                </a:moveTo>
                <a:cubicBezTo>
                  <a:pt x="16053" y="16393"/>
                  <a:pt x="15819" y="16673"/>
                  <a:pt x="16123" y="16718"/>
                </a:cubicBezTo>
                <a:cubicBezTo>
                  <a:pt x="16391" y="16758"/>
                  <a:pt x="16325" y="16441"/>
                  <a:pt x="16272" y="16321"/>
                </a:cubicBezTo>
              </a:path>
              <a:path w="6178" h="1713">
                <a:moveTo>
                  <a:pt x="16495" y="16594"/>
                </a:moveTo>
                <a:cubicBezTo>
                  <a:pt x="16548" y="16683"/>
                  <a:pt x="16522" y="16485"/>
                  <a:pt x="16594" y="16396"/>
                </a:cubicBezTo>
                <a:cubicBezTo>
                  <a:pt x="16783" y="16162"/>
                  <a:pt x="16870" y="16506"/>
                  <a:pt x="16892" y="16644"/>
                </a:cubicBezTo>
                <a:cubicBezTo>
                  <a:pt x="16892" y="16661"/>
                  <a:pt x="16892" y="16677"/>
                  <a:pt x="16892" y="16694"/>
                </a:cubicBezTo>
              </a:path>
              <a:path w="6178" h="1713">
                <a:moveTo>
                  <a:pt x="17239" y="16346"/>
                </a:moveTo>
                <a:cubicBezTo>
                  <a:pt x="17129" y="16146"/>
                  <a:pt x="16970" y="16264"/>
                  <a:pt x="16867" y="16446"/>
                </a:cubicBezTo>
                <a:cubicBezTo>
                  <a:pt x="16859" y="16487"/>
                  <a:pt x="16850" y="16529"/>
                  <a:pt x="16842" y="16570"/>
                </a:cubicBezTo>
                <a:cubicBezTo>
                  <a:pt x="17149" y="16774"/>
                  <a:pt x="17172" y="16606"/>
                  <a:pt x="17264" y="16297"/>
                </a:cubicBezTo>
              </a:path>
              <a:path w="6178" h="1713">
                <a:moveTo>
                  <a:pt x="17264" y="15776"/>
                </a:moveTo>
                <a:cubicBezTo>
                  <a:pt x="17264" y="16038"/>
                  <a:pt x="17224" y="16342"/>
                  <a:pt x="17314" y="16594"/>
                </a:cubicBezTo>
                <a:cubicBezTo>
                  <a:pt x="17322" y="16594"/>
                  <a:pt x="17330" y="16594"/>
                  <a:pt x="17338" y="16594"/>
                </a:cubicBezTo>
              </a:path>
              <a:path w="6178" h="1713">
                <a:moveTo>
                  <a:pt x="17587" y="16272"/>
                </a:moveTo>
                <a:cubicBezTo>
                  <a:pt x="17550" y="16439"/>
                  <a:pt x="17542" y="16409"/>
                  <a:pt x="17562" y="16570"/>
                </a:cubicBezTo>
              </a:path>
              <a:path w="6178" h="1713">
                <a:moveTo>
                  <a:pt x="17661" y="15875"/>
                </a:moveTo>
                <a:lnTo>
                  <a:pt x="17661" y="15875"/>
                </a:lnTo>
                <a:lnTo>
                  <a:pt x="17661" y="15875"/>
                </a:lnTo>
              </a:path>
              <a:path w="6178" h="1713">
                <a:moveTo>
                  <a:pt x="17661" y="15875"/>
                </a:moveTo>
                <a:lnTo>
                  <a:pt x="17661" y="15875"/>
                </a:lnTo>
              </a:path>
              <a:path w="6178" h="1713">
                <a:moveTo>
                  <a:pt x="17909" y="16470"/>
                </a:moveTo>
                <a:cubicBezTo>
                  <a:pt x="17909" y="16502"/>
                  <a:pt x="18024" y="16143"/>
                  <a:pt x="18058" y="16098"/>
                </a:cubicBezTo>
                <a:cubicBezTo>
                  <a:pt x="18099" y="16065"/>
                  <a:pt x="18141" y="16032"/>
                  <a:pt x="18182" y="15999"/>
                </a:cubicBezTo>
                <a:cubicBezTo>
                  <a:pt x="18261" y="16085"/>
                  <a:pt x="18335" y="16508"/>
                  <a:pt x="18355" y="16520"/>
                </a:cubicBezTo>
                <a:cubicBezTo>
                  <a:pt x="18396" y="16512"/>
                  <a:pt x="18438" y="16503"/>
                  <a:pt x="18479" y="16495"/>
                </a:cubicBezTo>
              </a:path>
              <a:path w="6178" h="1713">
                <a:moveTo>
                  <a:pt x="18728" y="16098"/>
                </a:moveTo>
                <a:cubicBezTo>
                  <a:pt x="18604" y="16236"/>
                  <a:pt x="18566" y="16231"/>
                  <a:pt x="18579" y="16396"/>
                </a:cubicBezTo>
                <a:cubicBezTo>
                  <a:pt x="18756" y="16360"/>
                  <a:pt x="18764" y="16298"/>
                  <a:pt x="18827" y="16123"/>
                </a:cubicBezTo>
                <a:cubicBezTo>
                  <a:pt x="18819" y="16337"/>
                  <a:pt x="18830" y="16585"/>
                  <a:pt x="18777" y="16793"/>
                </a:cubicBezTo>
                <a:cubicBezTo>
                  <a:pt x="18675" y="17192"/>
                  <a:pt x="18501" y="17179"/>
                  <a:pt x="18182" y="17066"/>
                </a:cubicBezTo>
              </a:path>
              <a:path w="6178" h="1713">
                <a:moveTo>
                  <a:pt x="14932" y="16073"/>
                </a:moveTo>
                <a:cubicBezTo>
                  <a:pt x="14979" y="16101"/>
                  <a:pt x="15045" y="16119"/>
                  <a:pt x="15106" y="16123"/>
                </a:cubicBezTo>
                <a:cubicBezTo>
                  <a:pt x="15151" y="16123"/>
                  <a:pt x="15164" y="16119"/>
                  <a:pt x="15180" y="16148"/>
                </a:cubicBezTo>
              </a:path>
              <a:path w="6178" h="1713">
                <a:moveTo>
                  <a:pt x="15528" y="16247"/>
                </a:moveTo>
                <a:cubicBezTo>
                  <a:pt x="15553" y="16310"/>
                  <a:pt x="15510" y="16383"/>
                  <a:pt x="15503" y="16470"/>
                </a:cubicBezTo>
                <a:cubicBezTo>
                  <a:pt x="15498" y="16535"/>
                  <a:pt x="15503" y="16456"/>
                  <a:pt x="15503" y="16446"/>
                </a:cubicBezTo>
              </a:path>
              <a:path w="6178" h="1713">
                <a:moveTo>
                  <a:pt x="15577" y="16222"/>
                </a:moveTo>
                <a:cubicBezTo>
                  <a:pt x="15622" y="16222"/>
                  <a:pt x="15635" y="16219"/>
                  <a:pt x="15652" y="162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7920" y="5330880"/>
            <a:ext cx="795240" cy="403200"/>
          </a:xfrm>
          <a:custGeom>
            <a:avLst/>
            <a:gdLst/>
            <a:ahLst/>
            <a:rect l="l" t="t" r="r" b="b"/>
            <a:pathLst>
              <a:path w="2209" h="1118">
                <a:moveTo>
                  <a:pt x="19720" y="15577"/>
                </a:moveTo>
                <a:cubicBezTo>
                  <a:pt x="19648" y="15591"/>
                  <a:pt x="19589" y="15618"/>
                  <a:pt x="19521" y="15652"/>
                </a:cubicBezTo>
                <a:cubicBezTo>
                  <a:pt x="19714" y="15679"/>
                  <a:pt x="19825" y="15687"/>
                  <a:pt x="19893" y="15850"/>
                </a:cubicBezTo>
                <a:cubicBezTo>
                  <a:pt x="19720" y="15906"/>
                  <a:pt x="19683" y="15935"/>
                  <a:pt x="19546" y="15850"/>
                </a:cubicBezTo>
              </a:path>
              <a:path w="2209" h="1118">
                <a:moveTo>
                  <a:pt x="20067" y="15701"/>
                </a:moveTo>
                <a:cubicBezTo>
                  <a:pt x="20067" y="15792"/>
                  <a:pt x="20067" y="15800"/>
                  <a:pt x="20067" y="15850"/>
                </a:cubicBezTo>
              </a:path>
              <a:path w="2209" h="1118">
                <a:moveTo>
                  <a:pt x="20092" y="15280"/>
                </a:moveTo>
                <a:cubicBezTo>
                  <a:pt x="20092" y="15288"/>
                  <a:pt x="20092" y="15296"/>
                  <a:pt x="20092" y="15304"/>
                </a:cubicBezTo>
              </a:path>
              <a:path w="2209" h="1118">
                <a:moveTo>
                  <a:pt x="20092" y="15304"/>
                </a:moveTo>
                <a:lnTo>
                  <a:pt x="20092" y="15304"/>
                </a:lnTo>
              </a:path>
              <a:path w="2209" h="1118">
                <a:moveTo>
                  <a:pt x="20638" y="15379"/>
                </a:moveTo>
                <a:cubicBezTo>
                  <a:pt x="20530" y="15271"/>
                  <a:pt x="20307" y="15466"/>
                  <a:pt x="20365" y="15652"/>
                </a:cubicBezTo>
                <a:cubicBezTo>
                  <a:pt x="20398" y="15677"/>
                  <a:pt x="20431" y="15701"/>
                  <a:pt x="20464" y="15726"/>
                </a:cubicBezTo>
                <a:cubicBezTo>
                  <a:pt x="20757" y="15595"/>
                  <a:pt x="20652" y="15386"/>
                  <a:pt x="20638" y="15081"/>
                </a:cubicBezTo>
                <a:cubicBezTo>
                  <a:pt x="20638" y="15048"/>
                  <a:pt x="20638" y="15015"/>
                  <a:pt x="20638" y="14982"/>
                </a:cubicBezTo>
                <a:cubicBezTo>
                  <a:pt x="20661" y="15213"/>
                  <a:pt x="20696" y="15453"/>
                  <a:pt x="20762" y="15677"/>
                </a:cubicBezTo>
                <a:cubicBezTo>
                  <a:pt x="20762" y="15669"/>
                  <a:pt x="20762" y="15660"/>
                  <a:pt x="20762" y="15652"/>
                </a:cubicBezTo>
              </a:path>
              <a:path w="2209" h="1118">
                <a:moveTo>
                  <a:pt x="20861" y="15354"/>
                </a:moveTo>
                <a:cubicBezTo>
                  <a:pt x="20923" y="15341"/>
                  <a:pt x="21272" y="15309"/>
                  <a:pt x="21134" y="15156"/>
                </a:cubicBezTo>
                <a:cubicBezTo>
                  <a:pt x="21109" y="15139"/>
                  <a:pt x="21084" y="15123"/>
                  <a:pt x="21059" y="15106"/>
                </a:cubicBezTo>
                <a:cubicBezTo>
                  <a:pt x="20977" y="15189"/>
                  <a:pt x="20824" y="15450"/>
                  <a:pt x="21034" y="15528"/>
                </a:cubicBezTo>
                <a:cubicBezTo>
                  <a:pt x="21075" y="15520"/>
                  <a:pt x="21117" y="15511"/>
                  <a:pt x="21158" y="15503"/>
                </a:cubicBezTo>
              </a:path>
              <a:path w="2209" h="1118">
                <a:moveTo>
                  <a:pt x="21481" y="14808"/>
                </a:moveTo>
                <a:cubicBezTo>
                  <a:pt x="21434" y="14855"/>
                  <a:pt x="21420" y="14867"/>
                  <a:pt x="21406" y="14908"/>
                </a:cubicBezTo>
                <a:cubicBezTo>
                  <a:pt x="21513" y="15001"/>
                  <a:pt x="21736" y="14973"/>
                  <a:pt x="21729" y="15180"/>
                </a:cubicBezTo>
                <a:cubicBezTo>
                  <a:pt x="21724" y="15322"/>
                  <a:pt x="21503" y="15298"/>
                  <a:pt x="21431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3200" spc="-1" strike="noStrike">
                <a:solidFill>
                  <a:srgbClr val="827f4c"/>
                </a:solidFill>
                <a:latin typeface="Arial"/>
              </a:rPr>
              <a:t>Let’s Practice</a:t>
            </a:r>
            <a:r>
              <a:rPr b="0" lang="en-US" sz="4000" spc="-1" strike="noStrike">
                <a:solidFill>
                  <a:srgbClr val="827f4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962520"/>
            <a:ext cx="1066680" cy="1295280"/>
          </a:xfrm>
          <a:prstGeom prst="rtTriangle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1066680"/>
            <a:ext cx="1981080" cy="2362320"/>
          </a:xfrm>
          <a:prstGeom prst="rtTriangle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648320"/>
            <a:ext cx="5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65840" y="525780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3581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187880" y="1874880"/>
            <a:ext cx="393480" cy="1073160"/>
          </a:xfrm>
          <a:custGeom>
            <a:avLst/>
            <a:gdLst/>
            <a:ahLst/>
            <a:rect l="l" t="t" r="r" b="b"/>
            <a:pathLst>
              <a:path w="1093" h="2978">
                <a:moveTo>
                  <a:pt x="11807" y="5581"/>
                </a:moveTo>
                <a:cubicBezTo>
                  <a:pt x="11953" y="5698"/>
                  <a:pt x="11842" y="5877"/>
                  <a:pt x="11782" y="6028"/>
                </a:cubicBezTo>
                <a:cubicBezTo>
                  <a:pt x="11774" y="6044"/>
                  <a:pt x="11765" y="6061"/>
                  <a:pt x="11757" y="6077"/>
                </a:cubicBezTo>
                <a:cubicBezTo>
                  <a:pt x="11941" y="6049"/>
                  <a:pt x="12114" y="6009"/>
                  <a:pt x="12303" y="6003"/>
                </a:cubicBezTo>
                <a:cubicBezTo>
                  <a:pt x="12320" y="6003"/>
                  <a:pt x="12336" y="6003"/>
                  <a:pt x="12353" y="6003"/>
                </a:cubicBezTo>
              </a:path>
              <a:path w="1093" h="2978">
                <a:moveTo>
                  <a:pt x="12303" y="5209"/>
                </a:moveTo>
                <a:cubicBezTo>
                  <a:pt x="12336" y="5631"/>
                  <a:pt x="12339" y="6052"/>
                  <a:pt x="12328" y="6474"/>
                </a:cubicBezTo>
                <a:cubicBezTo>
                  <a:pt x="12328" y="6585"/>
                  <a:pt x="12301" y="6608"/>
                  <a:pt x="12353" y="6648"/>
                </a:cubicBezTo>
              </a:path>
              <a:path w="1093" h="2978">
                <a:moveTo>
                  <a:pt x="11633" y="7020"/>
                </a:moveTo>
                <a:cubicBezTo>
                  <a:pt x="11986" y="6931"/>
                  <a:pt x="12336" y="6822"/>
                  <a:pt x="12700" y="6796"/>
                </a:cubicBezTo>
                <a:cubicBezTo>
                  <a:pt x="12733" y="6796"/>
                  <a:pt x="12742" y="6804"/>
                  <a:pt x="12725" y="6846"/>
                </a:cubicBezTo>
              </a:path>
              <a:path w="1093" h="2978">
                <a:moveTo>
                  <a:pt x="12204" y="7367"/>
                </a:moveTo>
                <a:cubicBezTo>
                  <a:pt x="12469" y="7477"/>
                  <a:pt x="12705" y="7670"/>
                  <a:pt x="12427" y="7987"/>
                </a:cubicBezTo>
                <a:cubicBezTo>
                  <a:pt x="12254" y="8185"/>
                  <a:pt x="12092" y="8173"/>
                  <a:pt x="11881" y="8136"/>
                </a:cubicBezTo>
                <a:cubicBezTo>
                  <a:pt x="12016" y="7880"/>
                  <a:pt x="12212" y="7866"/>
                  <a:pt x="12502" y="7987"/>
                </a:cubicBezTo>
                <a:cubicBezTo>
                  <a:pt x="12556" y="8010"/>
                  <a:pt x="12608" y="8068"/>
                  <a:pt x="12650" y="81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3280" y="2062080"/>
            <a:ext cx="304920" cy="608040"/>
          </a:xfrm>
          <a:custGeom>
            <a:avLst/>
            <a:gdLst/>
            <a:ahLst/>
            <a:rect l="l" t="t" r="r" b="b"/>
            <a:pathLst>
              <a:path w="844" h="1688">
                <a:moveTo>
                  <a:pt x="9748" y="5779"/>
                </a:moveTo>
                <a:cubicBezTo>
                  <a:pt x="9840" y="5944"/>
                  <a:pt x="9968" y="6110"/>
                  <a:pt x="9996" y="6300"/>
                </a:cubicBezTo>
                <a:cubicBezTo>
                  <a:pt x="10028" y="6108"/>
                  <a:pt x="10095" y="5924"/>
                  <a:pt x="10195" y="5755"/>
                </a:cubicBezTo>
                <a:cubicBezTo>
                  <a:pt x="10203" y="5747"/>
                  <a:pt x="10212" y="5738"/>
                  <a:pt x="10220" y="5730"/>
                </a:cubicBezTo>
              </a:path>
              <a:path w="844" h="1688">
                <a:moveTo>
                  <a:pt x="9649" y="6722"/>
                </a:moveTo>
                <a:cubicBezTo>
                  <a:pt x="9874" y="6632"/>
                  <a:pt x="10101" y="6595"/>
                  <a:pt x="10344" y="6573"/>
                </a:cubicBezTo>
                <a:cubicBezTo>
                  <a:pt x="10402" y="6573"/>
                  <a:pt x="10410" y="6573"/>
                  <a:pt x="10443" y="6573"/>
                </a:cubicBezTo>
              </a:path>
              <a:path w="844" h="1688">
                <a:moveTo>
                  <a:pt x="9947" y="6846"/>
                </a:moveTo>
                <a:cubicBezTo>
                  <a:pt x="9974" y="6929"/>
                  <a:pt x="10002" y="7050"/>
                  <a:pt x="10021" y="7169"/>
                </a:cubicBezTo>
                <a:cubicBezTo>
                  <a:pt x="10041" y="7286"/>
                  <a:pt x="10035" y="7307"/>
                  <a:pt x="10071" y="7367"/>
                </a:cubicBezTo>
                <a:cubicBezTo>
                  <a:pt x="10071" y="7272"/>
                  <a:pt x="10057" y="7173"/>
                  <a:pt x="10096" y="7094"/>
                </a:cubicBezTo>
                <a:cubicBezTo>
                  <a:pt x="10161" y="6962"/>
                  <a:pt x="10320" y="7025"/>
                  <a:pt x="10393" y="7119"/>
                </a:cubicBezTo>
                <a:cubicBezTo>
                  <a:pt x="10454" y="7198"/>
                  <a:pt x="10481" y="7322"/>
                  <a:pt x="10492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4929120"/>
            <a:ext cx="19080" cy="285840"/>
          </a:xfrm>
          <a:custGeom>
            <a:avLst/>
            <a:gdLst/>
            <a:ahLst/>
            <a:rect l="l" t="t" r="r" b="b"/>
            <a:pathLst>
              <a:path w="51" h="795">
                <a:moveTo>
                  <a:pt x="3175" y="13692"/>
                </a:moveTo>
                <a:cubicBezTo>
                  <a:pt x="3197" y="13957"/>
                  <a:pt x="3225" y="14220"/>
                  <a:pt x="3225" y="144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2116080"/>
            <a:ext cx="1009800" cy="777960"/>
          </a:xfrm>
          <a:custGeom>
            <a:avLst/>
            <a:gdLst/>
            <a:ahLst/>
            <a:rect l="l" t="t" r="r" b="b"/>
            <a:pathLst>
              <a:path w="2804" h="2159">
                <a:moveTo>
                  <a:pt x="13419" y="6871"/>
                </a:moveTo>
                <a:cubicBezTo>
                  <a:pt x="13501" y="6838"/>
                  <a:pt x="13707" y="6871"/>
                  <a:pt x="13816" y="6871"/>
                </a:cubicBezTo>
                <a:cubicBezTo>
                  <a:pt x="13858" y="6871"/>
                  <a:pt x="13866" y="6871"/>
                  <a:pt x="13891" y="6871"/>
                </a:cubicBezTo>
              </a:path>
              <a:path w="2804" h="2159">
                <a:moveTo>
                  <a:pt x="13568" y="7193"/>
                </a:moveTo>
                <a:cubicBezTo>
                  <a:pt x="13711" y="7185"/>
                  <a:pt x="13852" y="7176"/>
                  <a:pt x="13990" y="7144"/>
                </a:cubicBezTo>
              </a:path>
              <a:path w="2804" h="2159">
                <a:moveTo>
                  <a:pt x="14635" y="6995"/>
                </a:moveTo>
                <a:cubicBezTo>
                  <a:pt x="14878" y="6942"/>
                  <a:pt x="15155" y="6993"/>
                  <a:pt x="15404" y="6995"/>
                </a:cubicBezTo>
                <a:cubicBezTo>
                  <a:pt x="15443" y="6995"/>
                  <a:pt x="16049" y="6937"/>
                  <a:pt x="16098" y="6970"/>
                </a:cubicBezTo>
                <a:cubicBezTo>
                  <a:pt x="16098" y="6978"/>
                  <a:pt x="16098" y="6987"/>
                  <a:pt x="16098" y="6995"/>
                </a:cubicBezTo>
              </a:path>
              <a:path w="2804" h="2159">
                <a:moveTo>
                  <a:pt x="14709" y="6003"/>
                </a:moveTo>
                <a:cubicBezTo>
                  <a:pt x="14709" y="6242"/>
                  <a:pt x="14730" y="6487"/>
                  <a:pt x="14684" y="6722"/>
                </a:cubicBezTo>
                <a:cubicBezTo>
                  <a:pt x="14676" y="6739"/>
                  <a:pt x="14668" y="6755"/>
                  <a:pt x="14660" y="6772"/>
                </a:cubicBezTo>
              </a:path>
              <a:path w="2804" h="2159">
                <a:moveTo>
                  <a:pt x="15205" y="5879"/>
                </a:moveTo>
                <a:cubicBezTo>
                  <a:pt x="15109" y="5994"/>
                  <a:pt x="15091" y="6125"/>
                  <a:pt x="15081" y="6276"/>
                </a:cubicBezTo>
                <a:cubicBezTo>
                  <a:pt x="15066" y="6497"/>
                  <a:pt x="15042" y="6590"/>
                  <a:pt x="15230" y="6697"/>
                </a:cubicBezTo>
                <a:cubicBezTo>
                  <a:pt x="15394" y="6534"/>
                  <a:pt x="15449" y="6359"/>
                  <a:pt x="15354" y="6127"/>
                </a:cubicBezTo>
                <a:cubicBezTo>
                  <a:pt x="15324" y="6052"/>
                  <a:pt x="15240" y="5953"/>
                  <a:pt x="15156" y="5953"/>
                </a:cubicBezTo>
              </a:path>
              <a:path w="2804" h="2159">
                <a:moveTo>
                  <a:pt x="15478" y="7516"/>
                </a:moveTo>
                <a:cubicBezTo>
                  <a:pt x="15478" y="7667"/>
                  <a:pt x="15532" y="7793"/>
                  <a:pt x="15553" y="7938"/>
                </a:cubicBezTo>
                <a:cubicBezTo>
                  <a:pt x="15553" y="7971"/>
                  <a:pt x="15553" y="8004"/>
                  <a:pt x="15553" y="8037"/>
                </a:cubicBezTo>
                <a:cubicBezTo>
                  <a:pt x="15598" y="8021"/>
                  <a:pt x="15533" y="7895"/>
                  <a:pt x="15528" y="7838"/>
                </a:cubicBezTo>
                <a:cubicBezTo>
                  <a:pt x="15513" y="7673"/>
                  <a:pt x="15530" y="7539"/>
                  <a:pt x="15652" y="7417"/>
                </a:cubicBezTo>
                <a:cubicBezTo>
                  <a:pt x="15753" y="7316"/>
                  <a:pt x="15854" y="7359"/>
                  <a:pt x="15974" y="7367"/>
                </a:cubicBezTo>
                <a:cubicBezTo>
                  <a:pt x="15982" y="7367"/>
                  <a:pt x="15991" y="7367"/>
                  <a:pt x="15999" y="7367"/>
                </a:cubicBezTo>
              </a:path>
              <a:path w="2804" h="2159">
                <a:moveTo>
                  <a:pt x="13370" y="6945"/>
                </a:moveTo>
                <a:cubicBezTo>
                  <a:pt x="13522" y="6961"/>
                  <a:pt x="13933" y="7116"/>
                  <a:pt x="14114" y="7193"/>
                </a:cubicBezTo>
                <a:cubicBezTo>
                  <a:pt x="14319" y="7280"/>
                  <a:pt x="14539" y="7393"/>
                  <a:pt x="14734" y="7491"/>
                </a:cubicBezTo>
              </a:path>
              <a:path w="2804" h="2159">
                <a:moveTo>
                  <a:pt x="13320" y="7466"/>
                </a:moveTo>
                <a:cubicBezTo>
                  <a:pt x="13320" y="7332"/>
                  <a:pt x="13562" y="7194"/>
                  <a:pt x="13692" y="7119"/>
                </a:cubicBezTo>
                <a:cubicBezTo>
                  <a:pt x="13862" y="7020"/>
                  <a:pt x="14062" y="6902"/>
                  <a:pt x="14238" y="6821"/>
                </a:cubicBezTo>
                <a:cubicBezTo>
                  <a:pt x="14273" y="6805"/>
                  <a:pt x="14251" y="6808"/>
                  <a:pt x="14288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1500120"/>
            <a:ext cx="1447920" cy="1482840"/>
          </a:xfrm>
          <a:custGeom>
            <a:avLst/>
            <a:gdLst/>
            <a:ahLst/>
            <a:rect l="l" t="t" r="r" b="b"/>
            <a:pathLst>
              <a:path w="4020" h="4119">
                <a:moveTo>
                  <a:pt x="18355" y="4589"/>
                </a:moveTo>
                <a:cubicBezTo>
                  <a:pt x="18336" y="4721"/>
                  <a:pt x="18316" y="4853"/>
                  <a:pt x="18306" y="4986"/>
                </a:cubicBezTo>
                <a:cubicBezTo>
                  <a:pt x="18438" y="4986"/>
                  <a:pt x="18573" y="5031"/>
                  <a:pt x="18703" y="5011"/>
                </a:cubicBezTo>
                <a:cubicBezTo>
                  <a:pt x="18744" y="4970"/>
                  <a:pt x="18757" y="4940"/>
                  <a:pt x="18752" y="4887"/>
                </a:cubicBezTo>
              </a:path>
              <a:path w="4020" h="4119">
                <a:moveTo>
                  <a:pt x="18678" y="4316"/>
                </a:moveTo>
                <a:cubicBezTo>
                  <a:pt x="18733" y="4645"/>
                  <a:pt x="18748" y="4974"/>
                  <a:pt x="18752" y="5308"/>
                </a:cubicBezTo>
                <a:cubicBezTo>
                  <a:pt x="18753" y="5390"/>
                  <a:pt x="18752" y="5589"/>
                  <a:pt x="18752" y="5507"/>
                </a:cubicBezTo>
              </a:path>
              <a:path w="4020" h="4119">
                <a:moveTo>
                  <a:pt x="19075" y="5110"/>
                </a:moveTo>
                <a:cubicBezTo>
                  <a:pt x="19090" y="5217"/>
                  <a:pt x="19115" y="5323"/>
                  <a:pt x="19124" y="5432"/>
                </a:cubicBezTo>
                <a:cubicBezTo>
                  <a:pt x="19107" y="5295"/>
                  <a:pt x="19047" y="5108"/>
                  <a:pt x="19149" y="4986"/>
                </a:cubicBezTo>
                <a:cubicBezTo>
                  <a:pt x="19236" y="4881"/>
                  <a:pt x="19370" y="4884"/>
                  <a:pt x="19472" y="4911"/>
                </a:cubicBezTo>
                <a:cubicBezTo>
                  <a:pt x="19480" y="4911"/>
                  <a:pt x="19488" y="4911"/>
                  <a:pt x="19496" y="4911"/>
                </a:cubicBezTo>
              </a:path>
              <a:path w="4020" h="4119">
                <a:moveTo>
                  <a:pt x="19844" y="4887"/>
                </a:moveTo>
                <a:cubicBezTo>
                  <a:pt x="19958" y="4909"/>
                  <a:pt x="20042" y="4933"/>
                  <a:pt x="20166" y="4936"/>
                </a:cubicBezTo>
                <a:cubicBezTo>
                  <a:pt x="20224" y="4937"/>
                  <a:pt x="20282" y="4936"/>
                  <a:pt x="20340" y="4936"/>
                </a:cubicBezTo>
              </a:path>
              <a:path w="4020" h="4119">
                <a:moveTo>
                  <a:pt x="19918" y="5209"/>
                </a:moveTo>
                <a:cubicBezTo>
                  <a:pt x="19996" y="5209"/>
                  <a:pt x="20318" y="5167"/>
                  <a:pt x="20340" y="5234"/>
                </a:cubicBezTo>
              </a:path>
              <a:path w="4020" h="4119">
                <a:moveTo>
                  <a:pt x="20935" y="4762"/>
                </a:moveTo>
                <a:cubicBezTo>
                  <a:pt x="20838" y="4891"/>
                  <a:pt x="21050" y="4555"/>
                  <a:pt x="21084" y="4539"/>
                </a:cubicBezTo>
                <a:cubicBezTo>
                  <a:pt x="21125" y="4539"/>
                  <a:pt x="21167" y="4539"/>
                  <a:pt x="21208" y="4539"/>
                </a:cubicBezTo>
                <a:cubicBezTo>
                  <a:pt x="21295" y="4841"/>
                  <a:pt x="21342" y="5086"/>
                  <a:pt x="21059" y="5308"/>
                </a:cubicBezTo>
                <a:cubicBezTo>
                  <a:pt x="20953" y="5351"/>
                  <a:pt x="20932" y="5367"/>
                  <a:pt x="20861" y="5358"/>
                </a:cubicBezTo>
                <a:cubicBezTo>
                  <a:pt x="20881" y="5178"/>
                  <a:pt x="20980" y="5174"/>
                  <a:pt x="21158" y="5184"/>
                </a:cubicBezTo>
                <a:cubicBezTo>
                  <a:pt x="21320" y="5193"/>
                  <a:pt x="21344" y="5329"/>
                  <a:pt x="21456" y="5234"/>
                </a:cubicBezTo>
              </a:path>
              <a:path w="4020" h="4119">
                <a:moveTo>
                  <a:pt x="21754" y="4514"/>
                </a:moveTo>
                <a:cubicBezTo>
                  <a:pt x="21646" y="4541"/>
                  <a:pt x="21579" y="4796"/>
                  <a:pt x="21580" y="4887"/>
                </a:cubicBezTo>
                <a:cubicBezTo>
                  <a:pt x="21583" y="5075"/>
                  <a:pt x="21789" y="5301"/>
                  <a:pt x="21977" y="5159"/>
                </a:cubicBezTo>
                <a:cubicBezTo>
                  <a:pt x="22199" y="4992"/>
                  <a:pt x="22176" y="4635"/>
                  <a:pt x="21977" y="4465"/>
                </a:cubicBezTo>
                <a:cubicBezTo>
                  <a:pt x="21898" y="4397"/>
                  <a:pt x="21796" y="4373"/>
                  <a:pt x="21729" y="4440"/>
                </a:cubicBezTo>
              </a:path>
              <a:path w="4020" h="4119">
                <a:moveTo>
                  <a:pt x="18107" y="5606"/>
                </a:moveTo>
                <a:cubicBezTo>
                  <a:pt x="18232" y="5543"/>
                  <a:pt x="18611" y="5569"/>
                  <a:pt x="18777" y="5556"/>
                </a:cubicBezTo>
                <a:cubicBezTo>
                  <a:pt x="18984" y="5540"/>
                  <a:pt x="19192" y="5523"/>
                  <a:pt x="19397" y="5507"/>
                </a:cubicBezTo>
                <a:cubicBezTo>
                  <a:pt x="19422" y="5507"/>
                  <a:pt x="19430" y="5507"/>
                  <a:pt x="19447" y="5507"/>
                </a:cubicBezTo>
              </a:path>
              <a:path w="4020" h="4119">
                <a:moveTo>
                  <a:pt x="18653" y="5804"/>
                </a:moveTo>
                <a:cubicBezTo>
                  <a:pt x="18653" y="5717"/>
                  <a:pt x="18614" y="5916"/>
                  <a:pt x="18604" y="6003"/>
                </a:cubicBezTo>
                <a:cubicBezTo>
                  <a:pt x="18604" y="6028"/>
                  <a:pt x="18604" y="6052"/>
                  <a:pt x="18604" y="6077"/>
                </a:cubicBezTo>
                <a:cubicBezTo>
                  <a:pt x="18696" y="6077"/>
                  <a:pt x="18805" y="6065"/>
                  <a:pt x="18876" y="6077"/>
                </a:cubicBezTo>
                <a:cubicBezTo>
                  <a:pt x="18901" y="6077"/>
                  <a:pt x="18909" y="6077"/>
                  <a:pt x="18901" y="6052"/>
                </a:cubicBezTo>
              </a:path>
              <a:path w="4020" h="4119">
                <a:moveTo>
                  <a:pt x="18926" y="5680"/>
                </a:moveTo>
                <a:cubicBezTo>
                  <a:pt x="18926" y="5881"/>
                  <a:pt x="18940" y="6077"/>
                  <a:pt x="18951" y="6276"/>
                </a:cubicBezTo>
                <a:cubicBezTo>
                  <a:pt x="18956" y="6366"/>
                  <a:pt x="18920" y="6406"/>
                  <a:pt x="18976" y="6424"/>
                </a:cubicBezTo>
              </a:path>
              <a:path w="4020" h="4119">
                <a:moveTo>
                  <a:pt x="18455" y="4167"/>
                </a:moveTo>
                <a:cubicBezTo>
                  <a:pt x="18486" y="4556"/>
                  <a:pt x="18603" y="4925"/>
                  <a:pt x="18678" y="5308"/>
                </a:cubicBezTo>
                <a:cubicBezTo>
                  <a:pt x="18756" y="5706"/>
                  <a:pt x="18834" y="6107"/>
                  <a:pt x="18926" y="6499"/>
                </a:cubicBezTo>
                <a:cubicBezTo>
                  <a:pt x="18926" y="6507"/>
                  <a:pt x="18926" y="6516"/>
                  <a:pt x="18926" y="6524"/>
                </a:cubicBezTo>
              </a:path>
              <a:path w="4020" h="4119">
                <a:moveTo>
                  <a:pt x="18852" y="7689"/>
                </a:moveTo>
                <a:cubicBezTo>
                  <a:pt x="18864" y="7895"/>
                  <a:pt x="18907" y="8084"/>
                  <a:pt x="18951" y="8285"/>
                </a:cubicBezTo>
                <a:cubicBezTo>
                  <a:pt x="18884" y="8119"/>
                  <a:pt x="18846" y="7872"/>
                  <a:pt x="18901" y="7689"/>
                </a:cubicBezTo>
                <a:cubicBezTo>
                  <a:pt x="18965" y="7476"/>
                  <a:pt x="19119" y="7427"/>
                  <a:pt x="19298" y="7516"/>
                </a:cubicBezTo>
                <a:cubicBezTo>
                  <a:pt x="19323" y="7532"/>
                  <a:pt x="19347" y="7549"/>
                  <a:pt x="19372" y="7565"/>
                </a:cubicBezTo>
              </a:path>
              <a:path w="4020" h="4119">
                <a:moveTo>
                  <a:pt x="20762" y="5507"/>
                </a:moveTo>
                <a:cubicBezTo>
                  <a:pt x="21044" y="5470"/>
                  <a:pt x="21323" y="5466"/>
                  <a:pt x="21605" y="5407"/>
                </a:cubicBezTo>
                <a:cubicBezTo>
                  <a:pt x="21745" y="5378"/>
                  <a:pt x="21861" y="5333"/>
                  <a:pt x="22002" y="5333"/>
                </a:cubicBezTo>
              </a:path>
              <a:path w="4020" h="4119">
                <a:moveTo>
                  <a:pt x="21258" y="5779"/>
                </a:moveTo>
                <a:cubicBezTo>
                  <a:pt x="21258" y="5862"/>
                  <a:pt x="21258" y="5945"/>
                  <a:pt x="21258" y="6028"/>
                </a:cubicBezTo>
                <a:cubicBezTo>
                  <a:pt x="21359" y="6028"/>
                  <a:pt x="21491" y="6036"/>
                  <a:pt x="21580" y="5978"/>
                </a:cubicBezTo>
                <a:cubicBezTo>
                  <a:pt x="21580" y="5970"/>
                  <a:pt x="21580" y="5961"/>
                  <a:pt x="21580" y="5953"/>
                </a:cubicBezTo>
              </a:path>
              <a:path w="4020" h="4119">
                <a:moveTo>
                  <a:pt x="21506" y="5606"/>
                </a:moveTo>
                <a:cubicBezTo>
                  <a:pt x="21506" y="5847"/>
                  <a:pt x="21525" y="6084"/>
                  <a:pt x="21530" y="6325"/>
                </a:cubicBezTo>
                <a:cubicBezTo>
                  <a:pt x="21530" y="6350"/>
                  <a:pt x="21530" y="6375"/>
                  <a:pt x="21530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5120" y="2751120"/>
            <a:ext cx="169920" cy="1238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20042" y="7689"/>
                </a:moveTo>
                <a:cubicBezTo>
                  <a:pt x="20167" y="7678"/>
                  <a:pt x="20289" y="7649"/>
                  <a:pt x="20414" y="7640"/>
                </a:cubicBezTo>
              </a:path>
              <a:path w="472" h="348">
                <a:moveTo>
                  <a:pt x="20092" y="7987"/>
                </a:moveTo>
                <a:cubicBezTo>
                  <a:pt x="20186" y="7959"/>
                  <a:pt x="20353" y="7953"/>
                  <a:pt x="20439" y="7913"/>
                </a:cubicBezTo>
                <a:cubicBezTo>
                  <a:pt x="20464" y="7896"/>
                  <a:pt x="20488" y="7880"/>
                  <a:pt x="20513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4960" y="2581200"/>
            <a:ext cx="731880" cy="303120"/>
          </a:xfrm>
          <a:custGeom>
            <a:avLst/>
            <a:gdLst/>
            <a:ahLst/>
            <a:rect l="l" t="t" r="r" b="b"/>
            <a:pathLst>
              <a:path w="2035" h="844">
                <a:moveTo>
                  <a:pt x="21431" y="7169"/>
                </a:moveTo>
                <a:cubicBezTo>
                  <a:pt x="21305" y="7184"/>
                  <a:pt x="21187" y="7193"/>
                  <a:pt x="21059" y="7193"/>
                </a:cubicBezTo>
                <a:cubicBezTo>
                  <a:pt x="21051" y="7193"/>
                  <a:pt x="21042" y="7193"/>
                  <a:pt x="21034" y="7193"/>
                </a:cubicBezTo>
                <a:cubicBezTo>
                  <a:pt x="21023" y="7310"/>
                  <a:pt x="20991" y="7423"/>
                  <a:pt x="20985" y="7541"/>
                </a:cubicBezTo>
                <a:cubicBezTo>
                  <a:pt x="20985" y="7549"/>
                  <a:pt x="20985" y="7557"/>
                  <a:pt x="20985" y="7565"/>
                </a:cubicBezTo>
                <a:cubicBezTo>
                  <a:pt x="21123" y="7508"/>
                  <a:pt x="21220" y="7413"/>
                  <a:pt x="21382" y="7441"/>
                </a:cubicBezTo>
                <a:cubicBezTo>
                  <a:pt x="21612" y="7480"/>
                  <a:pt x="21651" y="7719"/>
                  <a:pt x="21530" y="7888"/>
                </a:cubicBezTo>
                <a:cubicBezTo>
                  <a:pt x="21458" y="7988"/>
                  <a:pt x="21320" y="8012"/>
                  <a:pt x="21208" y="8012"/>
                </a:cubicBezTo>
              </a:path>
              <a:path w="2035" h="844">
                <a:moveTo>
                  <a:pt x="22027" y="7615"/>
                </a:moveTo>
                <a:cubicBezTo>
                  <a:pt x="22041" y="7716"/>
                  <a:pt x="22050" y="7818"/>
                  <a:pt x="22076" y="7913"/>
                </a:cubicBezTo>
              </a:path>
              <a:path w="2035" h="844">
                <a:moveTo>
                  <a:pt x="22002" y="7466"/>
                </a:moveTo>
                <a:cubicBezTo>
                  <a:pt x="22002" y="7441"/>
                  <a:pt x="22002" y="7433"/>
                  <a:pt x="22027" y="7441"/>
                </a:cubicBezTo>
              </a:path>
              <a:path w="2035" h="844">
                <a:moveTo>
                  <a:pt x="22349" y="7665"/>
                </a:moveTo>
                <a:cubicBezTo>
                  <a:pt x="22390" y="7741"/>
                  <a:pt x="22416" y="7808"/>
                  <a:pt x="22448" y="7888"/>
                </a:cubicBezTo>
                <a:cubicBezTo>
                  <a:pt x="22413" y="7818"/>
                  <a:pt x="22365" y="7677"/>
                  <a:pt x="22399" y="7590"/>
                </a:cubicBezTo>
                <a:cubicBezTo>
                  <a:pt x="22439" y="7490"/>
                  <a:pt x="22576" y="7481"/>
                  <a:pt x="22647" y="7565"/>
                </a:cubicBezTo>
                <a:cubicBezTo>
                  <a:pt x="22725" y="7657"/>
                  <a:pt x="22746" y="7774"/>
                  <a:pt x="22746" y="7888"/>
                </a:cubicBezTo>
              </a:path>
              <a:path w="2035" h="844">
                <a:moveTo>
                  <a:pt x="23019" y="7838"/>
                </a:moveTo>
                <a:cubicBezTo>
                  <a:pt x="23011" y="7846"/>
                  <a:pt x="23002" y="7855"/>
                  <a:pt x="22994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16800" y="2446200"/>
            <a:ext cx="1911240" cy="652680"/>
          </a:xfrm>
          <a:custGeom>
            <a:avLst/>
            <a:gdLst/>
            <a:ahLst/>
            <a:rect l="l" t="t" r="r" b="b"/>
            <a:pathLst>
              <a:path w="5309" h="1812">
                <a:moveTo>
                  <a:pt x="18976" y="8582"/>
                </a:moveTo>
                <a:cubicBezTo>
                  <a:pt x="19132" y="8554"/>
                  <a:pt x="19287" y="8526"/>
                  <a:pt x="19447" y="8508"/>
                </a:cubicBezTo>
                <a:cubicBezTo>
                  <a:pt x="19747" y="8475"/>
                  <a:pt x="20038" y="8458"/>
                  <a:pt x="20340" y="8458"/>
                </a:cubicBezTo>
                <a:cubicBezTo>
                  <a:pt x="20597" y="8458"/>
                  <a:pt x="20851" y="8434"/>
                  <a:pt x="21109" y="8434"/>
                </a:cubicBezTo>
                <a:cubicBezTo>
                  <a:pt x="21716" y="8434"/>
                  <a:pt x="22316" y="8423"/>
                  <a:pt x="22920" y="8384"/>
                </a:cubicBezTo>
                <a:cubicBezTo>
                  <a:pt x="23083" y="8373"/>
                  <a:pt x="23253" y="8377"/>
                  <a:pt x="23416" y="8359"/>
                </a:cubicBezTo>
                <a:cubicBezTo>
                  <a:pt x="23515" y="8348"/>
                  <a:pt x="23590" y="8339"/>
                  <a:pt x="23688" y="8334"/>
                </a:cubicBezTo>
                <a:cubicBezTo>
                  <a:pt x="23625" y="8207"/>
                  <a:pt x="23572" y="8151"/>
                  <a:pt x="23540" y="7987"/>
                </a:cubicBezTo>
                <a:cubicBezTo>
                  <a:pt x="23493" y="7744"/>
                  <a:pt x="23479" y="7509"/>
                  <a:pt x="23416" y="7268"/>
                </a:cubicBezTo>
                <a:cubicBezTo>
                  <a:pt x="23392" y="7175"/>
                  <a:pt x="23370" y="7083"/>
                  <a:pt x="23341" y="6995"/>
                </a:cubicBezTo>
                <a:cubicBezTo>
                  <a:pt x="23321" y="6934"/>
                  <a:pt x="23305" y="6869"/>
                  <a:pt x="23267" y="6846"/>
                </a:cubicBezTo>
                <a:cubicBezTo>
                  <a:pt x="23105" y="6747"/>
                  <a:pt x="22540" y="6799"/>
                  <a:pt x="22349" y="6796"/>
                </a:cubicBezTo>
                <a:cubicBezTo>
                  <a:pt x="22170" y="6793"/>
                  <a:pt x="22003" y="6825"/>
                  <a:pt x="21828" y="6846"/>
                </a:cubicBezTo>
                <a:cubicBezTo>
                  <a:pt x="21647" y="6868"/>
                  <a:pt x="21465" y="6872"/>
                  <a:pt x="21282" y="6896"/>
                </a:cubicBezTo>
                <a:cubicBezTo>
                  <a:pt x="21087" y="6921"/>
                  <a:pt x="20908" y="6945"/>
                  <a:pt x="20712" y="6945"/>
                </a:cubicBezTo>
                <a:cubicBezTo>
                  <a:pt x="20535" y="6945"/>
                  <a:pt x="20343" y="6953"/>
                  <a:pt x="20166" y="6970"/>
                </a:cubicBezTo>
                <a:cubicBezTo>
                  <a:pt x="19903" y="6995"/>
                  <a:pt x="19637" y="7015"/>
                  <a:pt x="19372" y="7020"/>
                </a:cubicBezTo>
                <a:cubicBezTo>
                  <a:pt x="19205" y="7023"/>
                  <a:pt x="19041" y="7024"/>
                  <a:pt x="18876" y="7045"/>
                </a:cubicBezTo>
                <a:cubicBezTo>
                  <a:pt x="18743" y="7062"/>
                  <a:pt x="18608" y="7070"/>
                  <a:pt x="18479" y="7094"/>
                </a:cubicBezTo>
                <a:cubicBezTo>
                  <a:pt x="18418" y="7094"/>
                  <a:pt x="18402" y="7085"/>
                  <a:pt x="18380" y="7119"/>
                </a:cubicBezTo>
                <a:cubicBezTo>
                  <a:pt x="18387" y="7248"/>
                  <a:pt x="18404" y="7363"/>
                  <a:pt x="18430" y="7491"/>
                </a:cubicBezTo>
                <a:cubicBezTo>
                  <a:pt x="18460" y="7639"/>
                  <a:pt x="18478" y="7788"/>
                  <a:pt x="18504" y="7938"/>
                </a:cubicBezTo>
                <a:cubicBezTo>
                  <a:pt x="18523" y="8049"/>
                  <a:pt x="18552" y="8150"/>
                  <a:pt x="18579" y="8260"/>
                </a:cubicBezTo>
                <a:cubicBezTo>
                  <a:pt x="18599" y="8341"/>
                  <a:pt x="18609" y="8424"/>
                  <a:pt x="18628" y="8508"/>
                </a:cubicBezTo>
                <a:cubicBezTo>
                  <a:pt x="18635" y="8541"/>
                  <a:pt x="18645" y="8574"/>
                  <a:pt x="18653" y="8607"/>
                </a:cubicBezTo>
                <a:cubicBezTo>
                  <a:pt x="18775" y="8596"/>
                  <a:pt x="18904" y="8598"/>
                  <a:pt x="19025" y="8582"/>
                </a:cubicBezTo>
                <a:cubicBezTo>
                  <a:pt x="19083" y="8564"/>
                  <a:pt x="19089" y="8556"/>
                  <a:pt x="19124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Your turn: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600" y="1981080"/>
            <a:ext cx="86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ngle one has a length of 9 cm and width of 15 cm.  Rectangle two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ength 20 cm and width of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value of 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027320"/>
            <a:ext cx="84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iangle one has a leg 8 ft and another 21 ft.  Triangle two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eg 20 ft and another leg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t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value of q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04920" y="2820960"/>
            <a:ext cx="3046320" cy="750960"/>
          </a:xfrm>
          <a:custGeom>
            <a:avLst/>
            <a:gdLst/>
            <a:ahLst/>
            <a:rect l="l" t="t" r="r" b="b"/>
            <a:pathLst>
              <a:path w="8459" h="2085">
                <a:moveTo>
                  <a:pt x="3349" y="9277"/>
                </a:moveTo>
                <a:cubicBezTo>
                  <a:pt x="3391" y="9467"/>
                  <a:pt x="3437" y="9669"/>
                  <a:pt x="3448" y="9872"/>
                </a:cubicBezTo>
                <a:cubicBezTo>
                  <a:pt x="3448" y="9897"/>
                  <a:pt x="3448" y="9905"/>
                  <a:pt x="3448" y="9922"/>
                </a:cubicBezTo>
                <a:cubicBezTo>
                  <a:pt x="3638" y="9915"/>
                  <a:pt x="3828" y="9910"/>
                  <a:pt x="4018" y="9897"/>
                </a:cubicBezTo>
                <a:cubicBezTo>
                  <a:pt x="4339" y="9875"/>
                  <a:pt x="4641" y="9909"/>
                  <a:pt x="4961" y="9922"/>
                </a:cubicBezTo>
                <a:cubicBezTo>
                  <a:pt x="5291" y="9935"/>
                  <a:pt x="5627" y="9931"/>
                  <a:pt x="5953" y="9897"/>
                </a:cubicBezTo>
                <a:cubicBezTo>
                  <a:pt x="5978" y="9897"/>
                  <a:pt x="5986" y="9897"/>
                  <a:pt x="6003" y="9897"/>
                </a:cubicBezTo>
                <a:cubicBezTo>
                  <a:pt x="5951" y="9736"/>
                  <a:pt x="5895" y="9568"/>
                  <a:pt x="5854" y="9401"/>
                </a:cubicBezTo>
                <a:cubicBezTo>
                  <a:pt x="5833" y="9318"/>
                  <a:pt x="5840" y="9110"/>
                  <a:pt x="5779" y="9054"/>
                </a:cubicBezTo>
                <a:cubicBezTo>
                  <a:pt x="5740" y="9018"/>
                  <a:pt x="5661" y="9029"/>
                  <a:pt x="5581" y="9029"/>
                </a:cubicBezTo>
                <a:cubicBezTo>
                  <a:pt x="5431" y="9029"/>
                  <a:pt x="5287" y="9004"/>
                  <a:pt x="5135" y="9004"/>
                </a:cubicBezTo>
                <a:cubicBezTo>
                  <a:pt x="4975" y="9004"/>
                  <a:pt x="4821" y="9043"/>
                  <a:pt x="4663" y="9054"/>
                </a:cubicBezTo>
                <a:cubicBezTo>
                  <a:pt x="4512" y="9064"/>
                  <a:pt x="4366" y="9089"/>
                  <a:pt x="4217" y="9103"/>
                </a:cubicBezTo>
                <a:cubicBezTo>
                  <a:pt x="4093" y="9114"/>
                  <a:pt x="3966" y="9144"/>
                  <a:pt x="3845" y="9153"/>
                </a:cubicBezTo>
                <a:cubicBezTo>
                  <a:pt x="3712" y="9163"/>
                  <a:pt x="3582" y="9174"/>
                  <a:pt x="3448" y="9178"/>
                </a:cubicBezTo>
                <a:cubicBezTo>
                  <a:pt x="3423" y="9179"/>
                  <a:pt x="3398" y="9178"/>
                  <a:pt x="3373" y="9178"/>
                </a:cubicBezTo>
              </a:path>
              <a:path w="8459" h="2085">
                <a:moveTo>
                  <a:pt x="8136" y="7962"/>
                </a:moveTo>
                <a:cubicBezTo>
                  <a:pt x="8190" y="8168"/>
                  <a:pt x="8268" y="8376"/>
                  <a:pt x="8334" y="8582"/>
                </a:cubicBezTo>
                <a:cubicBezTo>
                  <a:pt x="8407" y="8809"/>
                  <a:pt x="8502" y="9013"/>
                  <a:pt x="8508" y="9252"/>
                </a:cubicBezTo>
                <a:cubicBezTo>
                  <a:pt x="8510" y="9325"/>
                  <a:pt x="8529" y="9344"/>
                  <a:pt x="8533" y="9401"/>
                </a:cubicBezTo>
                <a:cubicBezTo>
                  <a:pt x="8537" y="9459"/>
                  <a:pt x="8530" y="9517"/>
                  <a:pt x="8533" y="9575"/>
                </a:cubicBezTo>
                <a:cubicBezTo>
                  <a:pt x="8734" y="9524"/>
                  <a:pt x="8945" y="9460"/>
                  <a:pt x="9153" y="9426"/>
                </a:cubicBezTo>
                <a:cubicBezTo>
                  <a:pt x="9483" y="9372"/>
                  <a:pt x="9787" y="9368"/>
                  <a:pt x="10120" y="9351"/>
                </a:cubicBezTo>
                <a:cubicBezTo>
                  <a:pt x="10383" y="9337"/>
                  <a:pt x="10653" y="9338"/>
                  <a:pt x="10914" y="9302"/>
                </a:cubicBezTo>
                <a:cubicBezTo>
                  <a:pt x="11090" y="9278"/>
                  <a:pt x="11311" y="9246"/>
                  <a:pt x="11485" y="9252"/>
                </a:cubicBezTo>
                <a:cubicBezTo>
                  <a:pt x="11580" y="9255"/>
                  <a:pt x="11681" y="9277"/>
                  <a:pt x="11782" y="9277"/>
                </a:cubicBezTo>
                <a:cubicBezTo>
                  <a:pt x="11790" y="9277"/>
                  <a:pt x="11799" y="9277"/>
                  <a:pt x="11807" y="9277"/>
                </a:cubicBezTo>
                <a:cubicBezTo>
                  <a:pt x="11762" y="9098"/>
                  <a:pt x="11724" y="8913"/>
                  <a:pt x="11683" y="8731"/>
                </a:cubicBezTo>
                <a:cubicBezTo>
                  <a:pt x="11627" y="8484"/>
                  <a:pt x="11610" y="8234"/>
                  <a:pt x="11559" y="7987"/>
                </a:cubicBezTo>
                <a:cubicBezTo>
                  <a:pt x="11546" y="7925"/>
                  <a:pt x="11543" y="7892"/>
                  <a:pt x="11534" y="7838"/>
                </a:cubicBezTo>
                <a:cubicBezTo>
                  <a:pt x="11417" y="7866"/>
                  <a:pt x="11294" y="7898"/>
                  <a:pt x="11162" y="7913"/>
                </a:cubicBezTo>
                <a:cubicBezTo>
                  <a:pt x="10823" y="7952"/>
                  <a:pt x="10484" y="7962"/>
                  <a:pt x="10145" y="7987"/>
                </a:cubicBezTo>
                <a:cubicBezTo>
                  <a:pt x="9894" y="8006"/>
                  <a:pt x="9650" y="8025"/>
                  <a:pt x="9401" y="8062"/>
                </a:cubicBezTo>
                <a:cubicBezTo>
                  <a:pt x="9178" y="8095"/>
                  <a:pt x="8952" y="8114"/>
                  <a:pt x="8731" y="8161"/>
                </a:cubicBezTo>
                <a:cubicBezTo>
                  <a:pt x="8648" y="8178"/>
                  <a:pt x="8563" y="8193"/>
                  <a:pt x="8483" y="8210"/>
                </a:cubicBezTo>
                <a:cubicBezTo>
                  <a:pt x="8370" y="8234"/>
                  <a:pt x="8363" y="8218"/>
                  <a:pt x="8310" y="8210"/>
                </a:cubicBezTo>
              </a:path>
              <a:path w="8459" h="2085">
                <a:moveTo>
                  <a:pt x="4663" y="9376"/>
                </a:moveTo>
                <a:cubicBezTo>
                  <a:pt x="4673" y="9493"/>
                  <a:pt x="4698" y="9607"/>
                  <a:pt x="4713" y="9723"/>
                </a:cubicBezTo>
              </a:path>
              <a:path w="8459" h="2085">
                <a:moveTo>
                  <a:pt x="4341" y="9773"/>
                </a:moveTo>
                <a:cubicBezTo>
                  <a:pt x="4498" y="9819"/>
                  <a:pt x="4723" y="9907"/>
                  <a:pt x="4887" y="9823"/>
                </a:cubicBezTo>
                <a:cubicBezTo>
                  <a:pt x="5046" y="9741"/>
                  <a:pt x="5033" y="9525"/>
                  <a:pt x="4936" y="9401"/>
                </a:cubicBezTo>
                <a:cubicBezTo>
                  <a:pt x="4842" y="9281"/>
                  <a:pt x="4609" y="9187"/>
                  <a:pt x="4465" y="9277"/>
                </a:cubicBezTo>
                <a:cubicBezTo>
                  <a:pt x="4303" y="9378"/>
                  <a:pt x="4187" y="9611"/>
                  <a:pt x="4366" y="9748"/>
                </a:cubicBezTo>
                <a:cubicBezTo>
                  <a:pt x="4424" y="9773"/>
                  <a:pt x="4481" y="9798"/>
                  <a:pt x="4539" y="9823"/>
                </a:cubicBezTo>
              </a:path>
              <a:path w="8459" h="2085">
                <a:moveTo>
                  <a:pt x="9823" y="8384"/>
                </a:moveTo>
                <a:cubicBezTo>
                  <a:pt x="9932" y="8384"/>
                  <a:pt x="10017" y="8368"/>
                  <a:pt x="10120" y="8384"/>
                </a:cubicBezTo>
                <a:cubicBezTo>
                  <a:pt x="10121" y="8530"/>
                  <a:pt x="9997" y="8609"/>
                  <a:pt x="9872" y="8706"/>
                </a:cubicBezTo>
                <a:cubicBezTo>
                  <a:pt x="9906" y="8757"/>
                  <a:pt x="10071" y="8731"/>
                  <a:pt x="10145" y="8731"/>
                </a:cubicBezTo>
                <a:cubicBezTo>
                  <a:pt x="10203" y="8731"/>
                  <a:pt x="10211" y="8731"/>
                  <a:pt x="10244" y="8731"/>
                </a:cubicBezTo>
              </a:path>
              <a:path w="8459" h="2085">
                <a:moveTo>
                  <a:pt x="9550" y="8830"/>
                </a:moveTo>
                <a:cubicBezTo>
                  <a:pt x="9819" y="8900"/>
                  <a:pt x="10073" y="8938"/>
                  <a:pt x="10344" y="8830"/>
                </a:cubicBezTo>
                <a:cubicBezTo>
                  <a:pt x="10563" y="8743"/>
                  <a:pt x="10581" y="8655"/>
                  <a:pt x="10641" y="8458"/>
                </a:cubicBezTo>
                <a:cubicBezTo>
                  <a:pt x="10407" y="8296"/>
                  <a:pt x="10026" y="8099"/>
                  <a:pt x="9723" y="8260"/>
                </a:cubicBezTo>
                <a:cubicBezTo>
                  <a:pt x="9444" y="8408"/>
                  <a:pt x="9640" y="8659"/>
                  <a:pt x="9723" y="8830"/>
                </a:cubicBezTo>
              </a:path>
              <a:path w="8459" h="2085">
                <a:moveTo>
                  <a:pt x="7317" y="8905"/>
                </a:moveTo>
                <a:cubicBezTo>
                  <a:pt x="7385" y="8820"/>
                  <a:pt x="7340" y="8850"/>
                  <a:pt x="7466" y="8830"/>
                </a:cubicBezTo>
                <a:cubicBezTo>
                  <a:pt x="7564" y="9026"/>
                  <a:pt x="7537" y="9158"/>
                  <a:pt x="7317" y="9277"/>
                </a:cubicBezTo>
                <a:cubicBezTo>
                  <a:pt x="7216" y="9297"/>
                  <a:pt x="7185" y="9327"/>
                  <a:pt x="7169" y="9252"/>
                </a:cubicBezTo>
                <a:cubicBezTo>
                  <a:pt x="7245" y="9123"/>
                  <a:pt x="7324" y="9130"/>
                  <a:pt x="7466" y="9203"/>
                </a:cubicBezTo>
                <a:cubicBezTo>
                  <a:pt x="7489" y="9225"/>
                  <a:pt x="7494" y="9233"/>
                  <a:pt x="7516" y="9227"/>
                </a:cubicBezTo>
              </a:path>
              <a:path w="8459" h="2085">
                <a:moveTo>
                  <a:pt x="7739" y="8781"/>
                </a:moveTo>
                <a:cubicBezTo>
                  <a:pt x="7635" y="8872"/>
                  <a:pt x="7575" y="8983"/>
                  <a:pt x="7615" y="9128"/>
                </a:cubicBezTo>
                <a:cubicBezTo>
                  <a:pt x="7623" y="9136"/>
                  <a:pt x="7632" y="9145"/>
                  <a:pt x="7640" y="9153"/>
                </a:cubicBezTo>
                <a:cubicBezTo>
                  <a:pt x="7783" y="9095"/>
                  <a:pt x="7910" y="9006"/>
                  <a:pt x="7739" y="8855"/>
                </a:cubicBezTo>
                <a:cubicBezTo>
                  <a:pt x="7682" y="8836"/>
                  <a:pt x="7675" y="8827"/>
                  <a:pt x="7640" y="8830"/>
                </a:cubicBezTo>
              </a:path>
              <a:path w="8459" h="2085">
                <a:moveTo>
                  <a:pt x="8037" y="8979"/>
                </a:moveTo>
                <a:cubicBezTo>
                  <a:pt x="8028" y="8942"/>
                  <a:pt x="8016" y="8934"/>
                  <a:pt x="7987" y="8905"/>
                </a:cubicBezTo>
                <a:cubicBezTo>
                  <a:pt x="7969" y="8930"/>
                  <a:pt x="7846" y="9123"/>
                  <a:pt x="7962" y="9128"/>
                </a:cubicBezTo>
                <a:cubicBezTo>
                  <a:pt x="8063" y="9103"/>
                  <a:pt x="8096" y="9094"/>
                  <a:pt x="8136" y="9029"/>
                </a:cubicBezTo>
              </a:path>
              <a:path w="8459" h="2085">
                <a:moveTo>
                  <a:pt x="8186" y="8954"/>
                </a:moveTo>
                <a:cubicBezTo>
                  <a:pt x="8186" y="9007"/>
                  <a:pt x="8189" y="9036"/>
                  <a:pt x="8210" y="9079"/>
                </a:cubicBezTo>
                <a:cubicBezTo>
                  <a:pt x="8201" y="9040"/>
                  <a:pt x="8153" y="8993"/>
                  <a:pt x="8210" y="8979"/>
                </a:cubicBezTo>
                <a:cubicBezTo>
                  <a:pt x="8262" y="8966"/>
                  <a:pt x="8291" y="9004"/>
                  <a:pt x="8310" y="9029"/>
                </a:cubicBezTo>
                <a:cubicBezTo>
                  <a:pt x="8310" y="8915"/>
                  <a:pt x="8360" y="8941"/>
                  <a:pt x="8434" y="9004"/>
                </a:cubicBezTo>
                <a:cubicBezTo>
                  <a:pt x="8478" y="9042"/>
                  <a:pt x="8483" y="9095"/>
                  <a:pt x="8483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27280" y="3537000"/>
            <a:ext cx="295560" cy="115920"/>
          </a:xfrm>
          <a:custGeom>
            <a:avLst/>
            <a:gdLst/>
            <a:ahLst/>
            <a:rect l="l" t="t" r="r" b="b"/>
            <a:pathLst>
              <a:path w="819" h="323">
                <a:moveTo>
                  <a:pt x="9798" y="9823"/>
                </a:moveTo>
                <a:cubicBezTo>
                  <a:pt x="9825" y="9929"/>
                  <a:pt x="9897" y="10033"/>
                  <a:pt x="9897" y="10145"/>
                </a:cubicBezTo>
                <a:cubicBezTo>
                  <a:pt x="9897" y="10041"/>
                  <a:pt x="9890" y="9851"/>
                  <a:pt x="10046" y="9847"/>
                </a:cubicBezTo>
                <a:cubicBezTo>
                  <a:pt x="10153" y="9844"/>
                  <a:pt x="10137" y="10021"/>
                  <a:pt x="10244" y="10021"/>
                </a:cubicBezTo>
                <a:cubicBezTo>
                  <a:pt x="10244" y="9900"/>
                  <a:pt x="10247" y="9768"/>
                  <a:pt x="10418" y="9847"/>
                </a:cubicBezTo>
                <a:cubicBezTo>
                  <a:pt x="10506" y="9887"/>
                  <a:pt x="10598" y="9977"/>
                  <a:pt x="10616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240" y="3044880"/>
            <a:ext cx="455760" cy="536400"/>
          </a:xfrm>
          <a:custGeom>
            <a:avLst/>
            <a:gdLst/>
            <a:ahLst/>
            <a:rect l="l" t="t" r="r" b="b"/>
            <a:pathLst>
              <a:path w="1266" h="1490">
                <a:moveTo>
                  <a:pt x="2208" y="9599"/>
                </a:moveTo>
                <a:cubicBezTo>
                  <a:pt x="2208" y="9517"/>
                  <a:pt x="2174" y="9471"/>
                  <a:pt x="2133" y="9401"/>
                </a:cubicBezTo>
                <a:cubicBezTo>
                  <a:pt x="2009" y="9432"/>
                  <a:pt x="1860" y="9531"/>
                  <a:pt x="1910" y="9699"/>
                </a:cubicBezTo>
                <a:cubicBezTo>
                  <a:pt x="1927" y="9707"/>
                  <a:pt x="1943" y="9715"/>
                  <a:pt x="1960" y="9723"/>
                </a:cubicBezTo>
                <a:cubicBezTo>
                  <a:pt x="2100" y="9653"/>
                  <a:pt x="2112" y="9599"/>
                  <a:pt x="2158" y="9451"/>
                </a:cubicBezTo>
                <a:cubicBezTo>
                  <a:pt x="2184" y="9607"/>
                  <a:pt x="2231" y="9763"/>
                  <a:pt x="2257" y="9922"/>
                </a:cubicBezTo>
                <a:cubicBezTo>
                  <a:pt x="2257" y="9930"/>
                  <a:pt x="2257" y="9939"/>
                  <a:pt x="2257" y="9947"/>
                </a:cubicBezTo>
              </a:path>
              <a:path w="1266" h="1490">
                <a:moveTo>
                  <a:pt x="2505" y="9599"/>
                </a:moveTo>
                <a:cubicBezTo>
                  <a:pt x="2530" y="9599"/>
                  <a:pt x="2538" y="9599"/>
                  <a:pt x="2530" y="9575"/>
                </a:cubicBezTo>
                <a:cubicBezTo>
                  <a:pt x="2406" y="9544"/>
                  <a:pt x="2326" y="9697"/>
                  <a:pt x="2381" y="9823"/>
                </a:cubicBezTo>
                <a:cubicBezTo>
                  <a:pt x="2462" y="10007"/>
                  <a:pt x="2679" y="9777"/>
                  <a:pt x="2729" y="9723"/>
                </a:cubicBezTo>
              </a:path>
              <a:path w="1266" h="1490">
                <a:moveTo>
                  <a:pt x="2729" y="9500"/>
                </a:moveTo>
                <a:cubicBezTo>
                  <a:pt x="2749" y="9581"/>
                  <a:pt x="2763" y="9655"/>
                  <a:pt x="2803" y="9723"/>
                </a:cubicBezTo>
                <a:cubicBezTo>
                  <a:pt x="2799" y="9689"/>
                  <a:pt x="2743" y="9513"/>
                  <a:pt x="2778" y="9475"/>
                </a:cubicBezTo>
                <a:cubicBezTo>
                  <a:pt x="2846" y="9402"/>
                  <a:pt x="2933" y="9531"/>
                  <a:pt x="2977" y="9575"/>
                </a:cubicBezTo>
                <a:cubicBezTo>
                  <a:pt x="2967" y="9507"/>
                  <a:pt x="2923" y="9430"/>
                  <a:pt x="2977" y="9401"/>
                </a:cubicBezTo>
                <a:cubicBezTo>
                  <a:pt x="3077" y="9346"/>
                  <a:pt x="3161" y="9435"/>
                  <a:pt x="3175" y="9525"/>
                </a:cubicBezTo>
                <a:cubicBezTo>
                  <a:pt x="3175" y="9533"/>
                  <a:pt x="3175" y="9542"/>
                  <a:pt x="3175" y="9550"/>
                </a:cubicBezTo>
              </a:path>
              <a:path w="1266" h="1490">
                <a:moveTo>
                  <a:pt x="2158" y="8458"/>
                </a:moveTo>
                <a:cubicBezTo>
                  <a:pt x="2175" y="8544"/>
                  <a:pt x="2233" y="8619"/>
                  <a:pt x="2257" y="8706"/>
                </a:cubicBezTo>
                <a:cubicBezTo>
                  <a:pt x="2257" y="8714"/>
                  <a:pt x="2257" y="8723"/>
                  <a:pt x="2257" y="8731"/>
                </a:cubicBezTo>
                <a:cubicBezTo>
                  <a:pt x="2356" y="8707"/>
                  <a:pt x="2456" y="8657"/>
                  <a:pt x="2555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35040" y="3670200"/>
            <a:ext cx="689040" cy="393840"/>
          </a:xfrm>
          <a:custGeom>
            <a:avLst/>
            <a:gdLst/>
            <a:ahLst/>
            <a:rect l="l" t="t" r="r" b="b"/>
            <a:pathLst>
              <a:path w="1911" h="1092">
                <a:moveTo>
                  <a:pt x="4316" y="10368"/>
                </a:moveTo>
                <a:cubicBezTo>
                  <a:pt x="4224" y="10418"/>
                  <a:pt x="4252" y="10560"/>
                  <a:pt x="4341" y="10616"/>
                </a:cubicBezTo>
                <a:cubicBezTo>
                  <a:pt x="4357" y="10608"/>
                  <a:pt x="4374" y="10600"/>
                  <a:pt x="4390" y="10592"/>
                </a:cubicBezTo>
              </a:path>
              <a:path w="1911" h="1092">
                <a:moveTo>
                  <a:pt x="4911" y="10195"/>
                </a:moveTo>
                <a:cubicBezTo>
                  <a:pt x="4857" y="10206"/>
                  <a:pt x="4787" y="10256"/>
                  <a:pt x="4762" y="10269"/>
                </a:cubicBezTo>
                <a:cubicBezTo>
                  <a:pt x="4697" y="10302"/>
                  <a:pt x="4714" y="10252"/>
                  <a:pt x="4663" y="10368"/>
                </a:cubicBezTo>
                <a:cubicBezTo>
                  <a:pt x="4644" y="10426"/>
                  <a:pt x="4635" y="10433"/>
                  <a:pt x="4638" y="10468"/>
                </a:cubicBezTo>
                <a:cubicBezTo>
                  <a:pt x="4709" y="10468"/>
                  <a:pt x="4740" y="10409"/>
                  <a:pt x="4812" y="10418"/>
                </a:cubicBezTo>
                <a:cubicBezTo>
                  <a:pt x="4935" y="10433"/>
                  <a:pt x="4992" y="10503"/>
                  <a:pt x="4961" y="10616"/>
                </a:cubicBezTo>
                <a:cubicBezTo>
                  <a:pt x="4930" y="10727"/>
                  <a:pt x="4829" y="10716"/>
                  <a:pt x="4738" y="10716"/>
                </a:cubicBezTo>
                <a:cubicBezTo>
                  <a:pt x="4730" y="10716"/>
                  <a:pt x="4721" y="10716"/>
                  <a:pt x="4713" y="10716"/>
                </a:cubicBezTo>
              </a:path>
              <a:path w="1911" h="1092">
                <a:moveTo>
                  <a:pt x="5259" y="10443"/>
                </a:moveTo>
                <a:cubicBezTo>
                  <a:pt x="5294" y="10431"/>
                  <a:pt x="5294" y="10430"/>
                  <a:pt x="5259" y="10418"/>
                </a:cubicBezTo>
                <a:cubicBezTo>
                  <a:pt x="5237" y="10536"/>
                  <a:pt x="5196" y="10709"/>
                  <a:pt x="5383" y="10716"/>
                </a:cubicBezTo>
                <a:cubicBezTo>
                  <a:pt x="5466" y="10688"/>
                  <a:pt x="5497" y="10673"/>
                  <a:pt x="5531" y="10616"/>
                </a:cubicBezTo>
              </a:path>
              <a:path w="1911" h="1092">
                <a:moveTo>
                  <a:pt x="5606" y="10443"/>
                </a:moveTo>
                <a:cubicBezTo>
                  <a:pt x="5620" y="10511"/>
                  <a:pt x="5655" y="10711"/>
                  <a:pt x="5655" y="10641"/>
                </a:cubicBezTo>
                <a:cubicBezTo>
                  <a:pt x="5655" y="10633"/>
                  <a:pt x="5655" y="10624"/>
                  <a:pt x="5655" y="10616"/>
                </a:cubicBezTo>
                <a:cubicBezTo>
                  <a:pt x="5655" y="10583"/>
                  <a:pt x="5625" y="10335"/>
                  <a:pt x="5755" y="10393"/>
                </a:cubicBezTo>
                <a:cubicBezTo>
                  <a:pt x="5834" y="10428"/>
                  <a:pt x="5904" y="10679"/>
                  <a:pt x="5904" y="10592"/>
                </a:cubicBezTo>
                <a:cubicBezTo>
                  <a:pt x="5904" y="10498"/>
                  <a:pt x="5844" y="10443"/>
                  <a:pt x="5953" y="10393"/>
                </a:cubicBezTo>
                <a:cubicBezTo>
                  <a:pt x="6082" y="10334"/>
                  <a:pt x="6140" y="10457"/>
                  <a:pt x="6176" y="10567"/>
                </a:cubicBezTo>
                <a:cubicBezTo>
                  <a:pt x="6176" y="10575"/>
                  <a:pt x="6176" y="10584"/>
                  <a:pt x="6176" y="10592"/>
                </a:cubicBezTo>
              </a:path>
              <a:path w="1911" h="1092">
                <a:moveTo>
                  <a:pt x="4291" y="10468"/>
                </a:moveTo>
                <a:cubicBezTo>
                  <a:pt x="4207" y="10495"/>
                  <a:pt x="4314" y="10706"/>
                  <a:pt x="4341" y="10765"/>
                </a:cubicBezTo>
                <a:cubicBezTo>
                  <a:pt x="4359" y="10804"/>
                  <a:pt x="4366" y="10793"/>
                  <a:pt x="4366" y="10840"/>
                </a:cubicBezTo>
              </a:path>
              <a:path w="1911" h="1092">
                <a:moveTo>
                  <a:pt x="5060" y="11063"/>
                </a:moveTo>
                <a:cubicBezTo>
                  <a:pt x="5060" y="10996"/>
                  <a:pt x="5084" y="11210"/>
                  <a:pt x="5085" y="11212"/>
                </a:cubicBezTo>
                <a:cubicBezTo>
                  <a:pt x="5093" y="11237"/>
                  <a:pt x="5102" y="11261"/>
                  <a:pt x="5110" y="11286"/>
                </a:cubicBezTo>
                <a:cubicBezTo>
                  <a:pt x="5224" y="11267"/>
                  <a:pt x="5269" y="11221"/>
                  <a:pt x="5308" y="11112"/>
                </a:cubicBezTo>
                <a:cubicBezTo>
                  <a:pt x="5308" y="11104"/>
                  <a:pt x="5308" y="11096"/>
                  <a:pt x="5308" y="11088"/>
                </a:cubicBezTo>
                <a:cubicBezTo>
                  <a:pt x="5340" y="11126"/>
                  <a:pt x="5406" y="11260"/>
                  <a:pt x="5482" y="11237"/>
                </a:cubicBezTo>
                <a:cubicBezTo>
                  <a:pt x="5526" y="11224"/>
                  <a:pt x="5620" y="11092"/>
                  <a:pt x="5581" y="11038"/>
                </a:cubicBezTo>
                <a:cubicBezTo>
                  <a:pt x="5573" y="11038"/>
                  <a:pt x="5564" y="11038"/>
                  <a:pt x="5556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55960" y="3857760"/>
            <a:ext cx="374760" cy="517320"/>
          </a:xfrm>
          <a:custGeom>
            <a:avLst/>
            <a:gdLst/>
            <a:ahLst/>
            <a:rect l="l" t="t" r="r" b="b"/>
            <a:pathLst>
              <a:path w="1043" h="1439">
                <a:moveTo>
                  <a:pt x="8210" y="12154"/>
                </a:moveTo>
                <a:cubicBezTo>
                  <a:pt x="8308" y="12095"/>
                  <a:pt x="8517" y="12118"/>
                  <a:pt x="8632" y="12105"/>
                </a:cubicBezTo>
                <a:cubicBezTo>
                  <a:pt x="8833" y="12082"/>
                  <a:pt x="9025" y="12055"/>
                  <a:pt x="9227" y="12055"/>
                </a:cubicBezTo>
                <a:cubicBezTo>
                  <a:pt x="9235" y="12055"/>
                  <a:pt x="9244" y="12055"/>
                  <a:pt x="9252" y="12055"/>
                </a:cubicBezTo>
              </a:path>
              <a:path w="1043" h="1439">
                <a:moveTo>
                  <a:pt x="8310" y="10765"/>
                </a:moveTo>
                <a:cubicBezTo>
                  <a:pt x="8302" y="10731"/>
                  <a:pt x="8305" y="10701"/>
                  <a:pt x="8285" y="10740"/>
                </a:cubicBezTo>
                <a:cubicBezTo>
                  <a:pt x="8378" y="10843"/>
                  <a:pt x="8451" y="10954"/>
                  <a:pt x="8533" y="11063"/>
                </a:cubicBezTo>
                <a:cubicBezTo>
                  <a:pt x="8542" y="10928"/>
                  <a:pt x="8542" y="10774"/>
                  <a:pt x="8731" y="10815"/>
                </a:cubicBezTo>
                <a:cubicBezTo>
                  <a:pt x="8918" y="10855"/>
                  <a:pt x="8789" y="11092"/>
                  <a:pt x="8706" y="11162"/>
                </a:cubicBezTo>
                <a:cubicBezTo>
                  <a:pt x="8670" y="11192"/>
                  <a:pt x="8624" y="11187"/>
                  <a:pt x="8582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1800" y="2732040"/>
            <a:ext cx="1785960" cy="1295280"/>
          </a:xfrm>
          <a:custGeom>
            <a:avLst/>
            <a:gdLst/>
            <a:ahLst/>
            <a:rect l="l" t="t" r="r" b="b"/>
            <a:pathLst>
              <a:path w="4961" h="3598">
                <a:moveTo>
                  <a:pt x="13494" y="8657"/>
                </a:moveTo>
                <a:cubicBezTo>
                  <a:pt x="13735" y="8657"/>
                  <a:pt x="13973" y="8639"/>
                  <a:pt x="14213" y="8632"/>
                </a:cubicBezTo>
                <a:cubicBezTo>
                  <a:pt x="14293" y="8630"/>
                  <a:pt x="14524" y="8620"/>
                  <a:pt x="14585" y="8657"/>
                </a:cubicBezTo>
              </a:path>
              <a:path w="4961" h="3598">
                <a:moveTo>
                  <a:pt x="15255" y="8409"/>
                </a:moveTo>
                <a:cubicBezTo>
                  <a:pt x="15358" y="8409"/>
                  <a:pt x="15648" y="8344"/>
                  <a:pt x="15553" y="8458"/>
                </a:cubicBezTo>
              </a:path>
              <a:path w="4961" h="3598">
                <a:moveTo>
                  <a:pt x="15280" y="8632"/>
                </a:moveTo>
                <a:cubicBezTo>
                  <a:pt x="15343" y="8623"/>
                  <a:pt x="15550" y="8623"/>
                  <a:pt x="15577" y="8582"/>
                </a:cubicBezTo>
              </a:path>
              <a:path w="4961" h="3598">
                <a:moveTo>
                  <a:pt x="16024" y="8558"/>
                </a:moveTo>
                <a:cubicBezTo>
                  <a:pt x="16286" y="8558"/>
                  <a:pt x="16557" y="8548"/>
                  <a:pt x="16818" y="8533"/>
                </a:cubicBezTo>
                <a:cubicBezTo>
                  <a:pt x="16925" y="8527"/>
                  <a:pt x="17133" y="8484"/>
                  <a:pt x="17214" y="8533"/>
                </a:cubicBezTo>
              </a:path>
              <a:path w="4961" h="3598">
                <a:moveTo>
                  <a:pt x="14089" y="7813"/>
                </a:moveTo>
                <a:cubicBezTo>
                  <a:pt x="14089" y="7742"/>
                  <a:pt x="14043" y="7610"/>
                  <a:pt x="13965" y="7590"/>
                </a:cubicBezTo>
                <a:cubicBezTo>
                  <a:pt x="13828" y="7555"/>
                  <a:pt x="13745" y="7783"/>
                  <a:pt x="13692" y="7863"/>
                </a:cubicBezTo>
                <a:cubicBezTo>
                  <a:pt x="13692" y="7888"/>
                  <a:pt x="13692" y="7913"/>
                  <a:pt x="13692" y="7938"/>
                </a:cubicBezTo>
                <a:cubicBezTo>
                  <a:pt x="13866" y="7886"/>
                  <a:pt x="13912" y="7858"/>
                  <a:pt x="14015" y="7714"/>
                </a:cubicBezTo>
                <a:cubicBezTo>
                  <a:pt x="14015" y="7879"/>
                  <a:pt x="14015" y="8045"/>
                  <a:pt x="14015" y="8210"/>
                </a:cubicBezTo>
              </a:path>
              <a:path w="4961" h="3598">
                <a:moveTo>
                  <a:pt x="13643" y="9203"/>
                </a:moveTo>
                <a:cubicBezTo>
                  <a:pt x="13643" y="9354"/>
                  <a:pt x="13596" y="9566"/>
                  <a:pt x="13618" y="9699"/>
                </a:cubicBezTo>
                <a:cubicBezTo>
                  <a:pt x="13626" y="9699"/>
                  <a:pt x="13635" y="9699"/>
                  <a:pt x="13643" y="9699"/>
                </a:cubicBezTo>
              </a:path>
              <a:path w="4961" h="3598">
                <a:moveTo>
                  <a:pt x="14412" y="9079"/>
                </a:moveTo>
                <a:cubicBezTo>
                  <a:pt x="14337" y="9093"/>
                  <a:pt x="14268" y="9123"/>
                  <a:pt x="14188" y="9128"/>
                </a:cubicBezTo>
                <a:cubicBezTo>
                  <a:pt x="14151" y="9130"/>
                  <a:pt x="14100" y="9274"/>
                  <a:pt x="14089" y="9327"/>
                </a:cubicBezTo>
                <a:cubicBezTo>
                  <a:pt x="14089" y="9335"/>
                  <a:pt x="14089" y="9343"/>
                  <a:pt x="14089" y="9351"/>
                </a:cubicBezTo>
                <a:cubicBezTo>
                  <a:pt x="14181" y="9341"/>
                  <a:pt x="14293" y="9274"/>
                  <a:pt x="14387" y="9302"/>
                </a:cubicBezTo>
                <a:cubicBezTo>
                  <a:pt x="14568" y="9356"/>
                  <a:pt x="14531" y="9563"/>
                  <a:pt x="14387" y="9624"/>
                </a:cubicBezTo>
                <a:cubicBezTo>
                  <a:pt x="14282" y="9668"/>
                  <a:pt x="14255" y="9639"/>
                  <a:pt x="14163" y="9624"/>
                </a:cubicBezTo>
              </a:path>
              <a:path w="4961" h="3598">
                <a:moveTo>
                  <a:pt x="12427" y="7962"/>
                </a:moveTo>
                <a:cubicBezTo>
                  <a:pt x="12403" y="8065"/>
                  <a:pt x="12302" y="8258"/>
                  <a:pt x="12452" y="8285"/>
                </a:cubicBezTo>
                <a:cubicBezTo>
                  <a:pt x="12508" y="8295"/>
                  <a:pt x="12589" y="8285"/>
                  <a:pt x="12650" y="8285"/>
                </a:cubicBezTo>
              </a:path>
              <a:path w="4961" h="3598">
                <a:moveTo>
                  <a:pt x="12254" y="8508"/>
                </a:moveTo>
                <a:cubicBezTo>
                  <a:pt x="12425" y="8479"/>
                  <a:pt x="12580" y="8466"/>
                  <a:pt x="12750" y="8483"/>
                </a:cubicBezTo>
              </a:path>
              <a:path w="4961" h="3598">
                <a:moveTo>
                  <a:pt x="12353" y="8781"/>
                </a:moveTo>
                <a:cubicBezTo>
                  <a:pt x="12353" y="8738"/>
                  <a:pt x="12333" y="8812"/>
                  <a:pt x="12328" y="8855"/>
                </a:cubicBezTo>
                <a:cubicBezTo>
                  <a:pt x="12320" y="8927"/>
                  <a:pt x="12328" y="9007"/>
                  <a:pt x="12328" y="9079"/>
                </a:cubicBezTo>
                <a:cubicBezTo>
                  <a:pt x="12455" y="9106"/>
                  <a:pt x="12447" y="9071"/>
                  <a:pt x="12526" y="8979"/>
                </a:cubicBezTo>
                <a:cubicBezTo>
                  <a:pt x="12566" y="8932"/>
                  <a:pt x="12605" y="8923"/>
                  <a:pt x="12551" y="8905"/>
                </a:cubicBezTo>
                <a:cubicBezTo>
                  <a:pt x="12551" y="8847"/>
                  <a:pt x="12564" y="9015"/>
                  <a:pt x="12576" y="9054"/>
                </a:cubicBezTo>
                <a:cubicBezTo>
                  <a:pt x="12673" y="9054"/>
                  <a:pt x="12815" y="9066"/>
                  <a:pt x="12824" y="8930"/>
                </a:cubicBezTo>
                <a:cubicBezTo>
                  <a:pt x="12829" y="8849"/>
                  <a:pt x="12788" y="8837"/>
                  <a:pt x="12774" y="8781"/>
                </a:cubicBezTo>
              </a:path>
              <a:path w="4961" h="3598">
                <a:moveTo>
                  <a:pt x="16197" y="7913"/>
                </a:moveTo>
                <a:cubicBezTo>
                  <a:pt x="16249" y="7861"/>
                  <a:pt x="16333" y="7747"/>
                  <a:pt x="16421" y="7789"/>
                </a:cubicBezTo>
                <a:cubicBezTo>
                  <a:pt x="16643" y="7896"/>
                  <a:pt x="16517" y="8162"/>
                  <a:pt x="16371" y="8260"/>
                </a:cubicBezTo>
                <a:cubicBezTo>
                  <a:pt x="16285" y="8318"/>
                  <a:pt x="16180" y="8365"/>
                  <a:pt x="16123" y="8310"/>
                </a:cubicBezTo>
                <a:cubicBezTo>
                  <a:pt x="16189" y="8176"/>
                  <a:pt x="16283" y="8196"/>
                  <a:pt x="16421" y="8235"/>
                </a:cubicBezTo>
                <a:cubicBezTo>
                  <a:pt x="16472" y="8249"/>
                  <a:pt x="16485" y="8268"/>
                  <a:pt x="16495" y="8310"/>
                </a:cubicBezTo>
              </a:path>
              <a:path w="4961" h="3598">
                <a:moveTo>
                  <a:pt x="16842" y="7789"/>
                </a:moveTo>
                <a:cubicBezTo>
                  <a:pt x="16724" y="7828"/>
                  <a:pt x="16652" y="7982"/>
                  <a:pt x="16669" y="8111"/>
                </a:cubicBezTo>
                <a:cubicBezTo>
                  <a:pt x="16685" y="8136"/>
                  <a:pt x="16702" y="8161"/>
                  <a:pt x="16718" y="8186"/>
                </a:cubicBezTo>
                <a:cubicBezTo>
                  <a:pt x="16858" y="8185"/>
                  <a:pt x="17145" y="8146"/>
                  <a:pt x="17016" y="7913"/>
                </a:cubicBezTo>
                <a:cubicBezTo>
                  <a:pt x="16966" y="7823"/>
                  <a:pt x="16853" y="7822"/>
                  <a:pt x="16768" y="7813"/>
                </a:cubicBezTo>
              </a:path>
              <a:path w="4961" h="3598">
                <a:moveTo>
                  <a:pt x="16371" y="9079"/>
                </a:moveTo>
                <a:cubicBezTo>
                  <a:pt x="16356" y="9197"/>
                  <a:pt x="16346" y="9306"/>
                  <a:pt x="16346" y="9426"/>
                </a:cubicBezTo>
                <a:cubicBezTo>
                  <a:pt x="16346" y="9434"/>
                  <a:pt x="16346" y="9443"/>
                  <a:pt x="16346" y="9451"/>
                </a:cubicBezTo>
                <a:cubicBezTo>
                  <a:pt x="16320" y="9348"/>
                  <a:pt x="16309" y="9286"/>
                  <a:pt x="16371" y="9178"/>
                </a:cubicBezTo>
                <a:cubicBezTo>
                  <a:pt x="16448" y="9043"/>
                  <a:pt x="16508" y="9010"/>
                  <a:pt x="16619" y="9128"/>
                </a:cubicBezTo>
                <a:cubicBezTo>
                  <a:pt x="16683" y="9196"/>
                  <a:pt x="16719" y="9265"/>
                  <a:pt x="16743" y="9351"/>
                </a:cubicBezTo>
                <a:cubicBezTo>
                  <a:pt x="16706" y="9214"/>
                  <a:pt x="16670" y="9145"/>
                  <a:pt x="16768" y="9029"/>
                </a:cubicBezTo>
                <a:cubicBezTo>
                  <a:pt x="16866" y="8914"/>
                  <a:pt x="16954" y="9033"/>
                  <a:pt x="17016" y="9128"/>
                </a:cubicBezTo>
                <a:cubicBezTo>
                  <a:pt x="17058" y="9193"/>
                  <a:pt x="17078" y="9254"/>
                  <a:pt x="17090" y="9327"/>
                </a:cubicBezTo>
              </a:path>
              <a:path w="4961" h="3598">
                <a:moveTo>
                  <a:pt x="14808" y="9004"/>
                </a:moveTo>
                <a:cubicBezTo>
                  <a:pt x="15029" y="8960"/>
                  <a:pt x="15268" y="8819"/>
                  <a:pt x="15478" y="8731"/>
                </a:cubicBezTo>
                <a:cubicBezTo>
                  <a:pt x="15509" y="8718"/>
                  <a:pt x="15880" y="8514"/>
                  <a:pt x="15974" y="8533"/>
                </a:cubicBezTo>
                <a:cubicBezTo>
                  <a:pt x="15974" y="8541"/>
                  <a:pt x="15974" y="8550"/>
                  <a:pt x="15974" y="8558"/>
                </a:cubicBezTo>
              </a:path>
              <a:path w="4961" h="3598">
                <a:moveTo>
                  <a:pt x="14833" y="8409"/>
                </a:moveTo>
                <a:cubicBezTo>
                  <a:pt x="14983" y="8430"/>
                  <a:pt x="15065" y="8481"/>
                  <a:pt x="15205" y="8558"/>
                </a:cubicBezTo>
                <a:cubicBezTo>
                  <a:pt x="15523" y="8733"/>
                  <a:pt x="15832" y="8928"/>
                  <a:pt x="16148" y="9103"/>
                </a:cubicBezTo>
                <a:cubicBezTo>
                  <a:pt x="16292" y="9183"/>
                  <a:pt x="16237" y="9141"/>
                  <a:pt x="16297" y="9178"/>
                </a:cubicBezTo>
              </a:path>
              <a:path w="4961" h="3598">
                <a:moveTo>
                  <a:pt x="13146" y="10641"/>
                </a:moveTo>
                <a:cubicBezTo>
                  <a:pt x="13191" y="10775"/>
                  <a:pt x="13270" y="10937"/>
                  <a:pt x="13345" y="11063"/>
                </a:cubicBezTo>
                <a:cubicBezTo>
                  <a:pt x="13370" y="11096"/>
                  <a:pt x="13394" y="11129"/>
                  <a:pt x="13419" y="11162"/>
                </a:cubicBezTo>
                <a:cubicBezTo>
                  <a:pt x="13342" y="11162"/>
                  <a:pt x="13357" y="11064"/>
                  <a:pt x="13370" y="10988"/>
                </a:cubicBezTo>
                <a:cubicBezTo>
                  <a:pt x="13390" y="10867"/>
                  <a:pt x="13520" y="10846"/>
                  <a:pt x="13618" y="10914"/>
                </a:cubicBezTo>
                <a:cubicBezTo>
                  <a:pt x="13679" y="10956"/>
                  <a:pt x="13715" y="11073"/>
                  <a:pt x="13742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53240" y="2544840"/>
            <a:ext cx="919440" cy="214200"/>
          </a:xfrm>
          <a:custGeom>
            <a:avLst/>
            <a:gdLst/>
            <a:ahLst/>
            <a:rect l="l" t="t" r="r" b="b"/>
            <a:pathLst>
              <a:path w="2555" h="597">
                <a:moveTo>
                  <a:pt x="22002" y="7169"/>
                </a:moveTo>
                <a:cubicBezTo>
                  <a:pt x="22071" y="7147"/>
                  <a:pt x="22356" y="7050"/>
                  <a:pt x="22225" y="7218"/>
                </a:cubicBezTo>
                <a:cubicBezTo>
                  <a:pt x="22183" y="7260"/>
                  <a:pt x="22175" y="7267"/>
                  <a:pt x="22151" y="7293"/>
                </a:cubicBezTo>
                <a:cubicBezTo>
                  <a:pt x="22295" y="7293"/>
                  <a:pt x="22359" y="7316"/>
                  <a:pt x="22473" y="7392"/>
                </a:cubicBezTo>
                <a:cubicBezTo>
                  <a:pt x="22450" y="7428"/>
                  <a:pt x="22090" y="7843"/>
                  <a:pt x="22027" y="7640"/>
                </a:cubicBezTo>
                <a:cubicBezTo>
                  <a:pt x="22043" y="7599"/>
                  <a:pt x="22060" y="7557"/>
                  <a:pt x="22076" y="7516"/>
                </a:cubicBezTo>
              </a:path>
              <a:path w="2555" h="597">
                <a:moveTo>
                  <a:pt x="22845" y="7119"/>
                </a:moveTo>
                <a:cubicBezTo>
                  <a:pt x="22767" y="7191"/>
                  <a:pt x="22522" y="7435"/>
                  <a:pt x="22796" y="7466"/>
                </a:cubicBezTo>
                <a:cubicBezTo>
                  <a:pt x="22936" y="7442"/>
                  <a:pt x="22978" y="7439"/>
                  <a:pt x="23044" y="7367"/>
                </a:cubicBezTo>
                <a:cubicBezTo>
                  <a:pt x="22978" y="7199"/>
                  <a:pt x="22998" y="7202"/>
                  <a:pt x="22820" y="7169"/>
                </a:cubicBezTo>
              </a:path>
              <a:path w="2555" h="597">
                <a:moveTo>
                  <a:pt x="23366" y="7094"/>
                </a:moveTo>
                <a:cubicBezTo>
                  <a:pt x="23313" y="7334"/>
                  <a:pt x="23312" y="7472"/>
                  <a:pt x="23614" y="7417"/>
                </a:cubicBezTo>
                <a:cubicBezTo>
                  <a:pt x="23904" y="7364"/>
                  <a:pt x="23813" y="7191"/>
                  <a:pt x="23664" y="7069"/>
                </a:cubicBezTo>
              </a:path>
              <a:path w="2555" h="597">
                <a:moveTo>
                  <a:pt x="21258" y="7392"/>
                </a:moveTo>
                <a:cubicBezTo>
                  <a:pt x="21370" y="7387"/>
                  <a:pt x="21585" y="7340"/>
                  <a:pt x="21654" y="7392"/>
                </a:cubicBezTo>
              </a:path>
              <a:path w="2555" h="597">
                <a:moveTo>
                  <a:pt x="21382" y="7640"/>
                </a:moveTo>
                <a:cubicBezTo>
                  <a:pt x="21530" y="7619"/>
                  <a:pt x="21562" y="7610"/>
                  <a:pt x="21654" y="7615"/>
                </a:cubicBezTo>
              </a:path>
              <a:path w="2555" h="597">
                <a:moveTo>
                  <a:pt x="23316" y="7144"/>
                </a:moveTo>
                <a:cubicBezTo>
                  <a:pt x="23405" y="7126"/>
                  <a:pt x="23495" y="7080"/>
                  <a:pt x="23589" y="7069"/>
                </a:cubicBezTo>
                <a:cubicBezTo>
                  <a:pt x="23659" y="7061"/>
                  <a:pt x="23755" y="7069"/>
                  <a:pt x="23788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93000" y="3205080"/>
            <a:ext cx="1224000" cy="455760"/>
          </a:xfrm>
          <a:custGeom>
            <a:avLst/>
            <a:gdLst/>
            <a:ahLst/>
            <a:rect l="l" t="t" r="r" b="b"/>
            <a:pathLst>
              <a:path w="3400" h="1266">
                <a:moveTo>
                  <a:pt x="21927" y="9599"/>
                </a:moveTo>
                <a:cubicBezTo>
                  <a:pt x="21951" y="9481"/>
                  <a:pt x="22112" y="9412"/>
                  <a:pt x="22225" y="9401"/>
                </a:cubicBezTo>
                <a:cubicBezTo>
                  <a:pt x="22258" y="9409"/>
                  <a:pt x="22291" y="9418"/>
                  <a:pt x="22324" y="9426"/>
                </a:cubicBezTo>
                <a:cubicBezTo>
                  <a:pt x="22286" y="9616"/>
                  <a:pt x="22252" y="9638"/>
                  <a:pt x="22101" y="9773"/>
                </a:cubicBezTo>
                <a:cubicBezTo>
                  <a:pt x="22275" y="9773"/>
                  <a:pt x="22470" y="9864"/>
                  <a:pt x="22275" y="10071"/>
                </a:cubicBezTo>
                <a:cubicBezTo>
                  <a:pt x="22181" y="10171"/>
                  <a:pt x="22100" y="10173"/>
                  <a:pt x="22027" y="10120"/>
                </a:cubicBezTo>
              </a:path>
              <a:path w="3400" h="1266">
                <a:moveTo>
                  <a:pt x="22572" y="9376"/>
                </a:moveTo>
                <a:cubicBezTo>
                  <a:pt x="22643" y="9344"/>
                  <a:pt x="22908" y="9211"/>
                  <a:pt x="22895" y="9401"/>
                </a:cubicBezTo>
                <a:cubicBezTo>
                  <a:pt x="22846" y="9498"/>
                  <a:pt x="22830" y="9530"/>
                  <a:pt x="22771" y="9575"/>
                </a:cubicBezTo>
                <a:cubicBezTo>
                  <a:pt x="22625" y="9622"/>
                  <a:pt x="22824" y="9517"/>
                  <a:pt x="22870" y="9550"/>
                </a:cubicBezTo>
                <a:cubicBezTo>
                  <a:pt x="23021" y="9656"/>
                  <a:pt x="22999" y="9932"/>
                  <a:pt x="22820" y="9996"/>
                </a:cubicBezTo>
                <a:cubicBezTo>
                  <a:pt x="22760" y="10017"/>
                  <a:pt x="22623" y="9991"/>
                  <a:pt x="22597" y="9971"/>
                </a:cubicBezTo>
              </a:path>
              <a:path w="3400" h="1266">
                <a:moveTo>
                  <a:pt x="23391" y="9897"/>
                </a:moveTo>
                <a:cubicBezTo>
                  <a:pt x="23425" y="9886"/>
                  <a:pt x="23414" y="9884"/>
                  <a:pt x="23440" y="9847"/>
                </a:cubicBezTo>
                <a:cubicBezTo>
                  <a:pt x="23381" y="9855"/>
                  <a:pt x="23366" y="9847"/>
                  <a:pt x="23341" y="9897"/>
                </a:cubicBezTo>
              </a:path>
              <a:path w="3400" h="1266">
                <a:moveTo>
                  <a:pt x="23614" y="9327"/>
                </a:moveTo>
                <a:cubicBezTo>
                  <a:pt x="23680" y="9298"/>
                  <a:pt x="23974" y="9105"/>
                  <a:pt x="23961" y="9302"/>
                </a:cubicBezTo>
                <a:cubicBezTo>
                  <a:pt x="23913" y="9399"/>
                  <a:pt x="23898" y="9431"/>
                  <a:pt x="23837" y="9475"/>
                </a:cubicBezTo>
                <a:cubicBezTo>
                  <a:pt x="23837" y="9483"/>
                  <a:pt x="23837" y="9492"/>
                  <a:pt x="23837" y="9500"/>
                </a:cubicBezTo>
                <a:cubicBezTo>
                  <a:pt x="23942" y="9485"/>
                  <a:pt x="24151" y="9419"/>
                  <a:pt x="24160" y="9599"/>
                </a:cubicBezTo>
                <a:cubicBezTo>
                  <a:pt x="24169" y="9767"/>
                  <a:pt x="24064" y="9853"/>
                  <a:pt x="23937" y="9847"/>
                </a:cubicBezTo>
                <a:cubicBezTo>
                  <a:pt x="23895" y="9847"/>
                  <a:pt x="23887" y="9847"/>
                  <a:pt x="23862" y="9847"/>
                </a:cubicBezTo>
              </a:path>
              <a:path w="3400" h="1266">
                <a:moveTo>
                  <a:pt x="23540" y="8954"/>
                </a:moveTo>
                <a:cubicBezTo>
                  <a:pt x="23532" y="8954"/>
                  <a:pt x="23523" y="8954"/>
                  <a:pt x="23515" y="8954"/>
                </a:cubicBezTo>
                <a:cubicBezTo>
                  <a:pt x="23625" y="8901"/>
                  <a:pt x="23783" y="8909"/>
                  <a:pt x="23912" y="8905"/>
                </a:cubicBezTo>
                <a:cubicBezTo>
                  <a:pt x="23970" y="8905"/>
                  <a:pt x="23978" y="8905"/>
                  <a:pt x="24011" y="8905"/>
                </a:cubicBezTo>
              </a:path>
              <a:path w="3400" h="1266">
                <a:moveTo>
                  <a:pt x="24557" y="9699"/>
                </a:moveTo>
                <a:cubicBezTo>
                  <a:pt x="24604" y="9683"/>
                  <a:pt x="24576" y="9646"/>
                  <a:pt x="24557" y="9599"/>
                </a:cubicBezTo>
                <a:cubicBezTo>
                  <a:pt x="24483" y="9700"/>
                  <a:pt x="24353" y="9902"/>
                  <a:pt x="24482" y="10021"/>
                </a:cubicBezTo>
                <a:cubicBezTo>
                  <a:pt x="24588" y="10048"/>
                  <a:pt x="24628" y="10052"/>
                  <a:pt x="24681" y="9971"/>
                </a:cubicBezTo>
              </a:path>
              <a:path w="3400" h="1266">
                <a:moveTo>
                  <a:pt x="24730" y="9649"/>
                </a:moveTo>
                <a:cubicBezTo>
                  <a:pt x="24767" y="9748"/>
                  <a:pt x="24795" y="9819"/>
                  <a:pt x="24805" y="9922"/>
                </a:cubicBezTo>
                <a:cubicBezTo>
                  <a:pt x="24783" y="9793"/>
                  <a:pt x="24766" y="9724"/>
                  <a:pt x="24829" y="9599"/>
                </a:cubicBezTo>
                <a:cubicBezTo>
                  <a:pt x="24879" y="9498"/>
                  <a:pt x="25031" y="9762"/>
                  <a:pt x="25053" y="9798"/>
                </a:cubicBezTo>
                <a:cubicBezTo>
                  <a:pt x="25065" y="9575"/>
                  <a:pt x="25145" y="9526"/>
                  <a:pt x="25276" y="9773"/>
                </a:cubicBezTo>
                <a:cubicBezTo>
                  <a:pt x="25352" y="9917"/>
                  <a:pt x="25336" y="9951"/>
                  <a:pt x="25276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48760" y="741240"/>
            <a:ext cx="331560" cy="1581120"/>
          </a:xfrm>
          <a:custGeom>
            <a:avLst/>
            <a:gdLst/>
            <a:ahLst/>
            <a:rect l="l" t="t" r="r" b="b"/>
            <a:pathLst>
              <a:path w="919" h="4391">
                <a:moveTo>
                  <a:pt x="23267" y="3969"/>
                </a:moveTo>
                <a:cubicBezTo>
                  <a:pt x="23275" y="3977"/>
                  <a:pt x="23284" y="3986"/>
                  <a:pt x="23292" y="3994"/>
                </a:cubicBezTo>
              </a:path>
              <a:path w="919" h="4391">
                <a:moveTo>
                  <a:pt x="23192" y="3076"/>
                </a:moveTo>
                <a:lnTo>
                  <a:pt x="23192" y="3076"/>
                </a:lnTo>
                <a:lnTo>
                  <a:pt x="23192" y="3076"/>
                </a:lnTo>
                <a:lnTo>
                  <a:pt x="23192" y="3076"/>
                </a:lnTo>
              </a:path>
              <a:path w="919" h="4391">
                <a:moveTo>
                  <a:pt x="23664" y="3597"/>
                </a:moveTo>
                <a:cubicBezTo>
                  <a:pt x="23629" y="3492"/>
                  <a:pt x="23588" y="3753"/>
                  <a:pt x="23589" y="3770"/>
                </a:cubicBezTo>
                <a:cubicBezTo>
                  <a:pt x="23597" y="3795"/>
                  <a:pt x="23606" y="3820"/>
                  <a:pt x="23614" y="3845"/>
                </a:cubicBezTo>
                <a:cubicBezTo>
                  <a:pt x="23715" y="3829"/>
                  <a:pt x="23881" y="3798"/>
                  <a:pt x="23837" y="3646"/>
                </a:cubicBezTo>
                <a:cubicBezTo>
                  <a:pt x="23788" y="3572"/>
                  <a:pt x="23771" y="3547"/>
                  <a:pt x="23713" y="3522"/>
                </a:cubicBezTo>
              </a:path>
              <a:path w="919" h="4391">
                <a:moveTo>
                  <a:pt x="23788" y="3870"/>
                </a:moveTo>
                <a:cubicBezTo>
                  <a:pt x="23799" y="4069"/>
                  <a:pt x="23823" y="4266"/>
                  <a:pt x="23837" y="4465"/>
                </a:cubicBezTo>
                <a:cubicBezTo>
                  <a:pt x="23868" y="4912"/>
                  <a:pt x="23914" y="5359"/>
                  <a:pt x="23961" y="5804"/>
                </a:cubicBezTo>
              </a:path>
              <a:path w="919" h="4391">
                <a:moveTo>
                  <a:pt x="23961" y="6028"/>
                </a:moveTo>
                <a:cubicBezTo>
                  <a:pt x="23840" y="6148"/>
                  <a:pt x="23836" y="6247"/>
                  <a:pt x="23887" y="6400"/>
                </a:cubicBezTo>
                <a:cubicBezTo>
                  <a:pt x="24021" y="6441"/>
                  <a:pt x="24158" y="6399"/>
                  <a:pt x="24110" y="6201"/>
                </a:cubicBezTo>
                <a:cubicBezTo>
                  <a:pt x="24089" y="6112"/>
                  <a:pt x="24029" y="6111"/>
                  <a:pt x="23961" y="6102"/>
                </a:cubicBezTo>
              </a:path>
              <a:path w="919" h="4391">
                <a:moveTo>
                  <a:pt x="23515" y="2604"/>
                </a:moveTo>
                <a:cubicBezTo>
                  <a:pt x="23515" y="2535"/>
                  <a:pt x="23552" y="2502"/>
                  <a:pt x="23614" y="2456"/>
                </a:cubicBezTo>
                <a:cubicBezTo>
                  <a:pt x="23711" y="2383"/>
                  <a:pt x="23709" y="2532"/>
                  <a:pt x="23664" y="2580"/>
                </a:cubicBezTo>
                <a:cubicBezTo>
                  <a:pt x="23647" y="2588"/>
                  <a:pt x="23631" y="2596"/>
                  <a:pt x="23614" y="2604"/>
                </a:cubicBezTo>
                <a:cubicBezTo>
                  <a:pt x="23606" y="2604"/>
                  <a:pt x="23597" y="2604"/>
                  <a:pt x="23589" y="2604"/>
                </a:cubicBezTo>
                <a:cubicBezTo>
                  <a:pt x="23669" y="2604"/>
                  <a:pt x="23746" y="2578"/>
                  <a:pt x="23788" y="2679"/>
                </a:cubicBezTo>
                <a:cubicBezTo>
                  <a:pt x="23853" y="2836"/>
                  <a:pt x="23696" y="2879"/>
                  <a:pt x="23589" y="2828"/>
                </a:cubicBezTo>
                <a:cubicBezTo>
                  <a:pt x="23564" y="2803"/>
                  <a:pt x="23556" y="2795"/>
                  <a:pt x="23540" y="2778"/>
                </a:cubicBezTo>
              </a:path>
              <a:path w="919" h="4391">
                <a:moveTo>
                  <a:pt x="23341" y="2158"/>
                </a:moveTo>
                <a:cubicBezTo>
                  <a:pt x="23418" y="2119"/>
                  <a:pt x="23545" y="2102"/>
                  <a:pt x="23639" y="2084"/>
                </a:cubicBezTo>
                <a:cubicBezTo>
                  <a:pt x="23664" y="2084"/>
                  <a:pt x="23672" y="2084"/>
                  <a:pt x="23639" y="2084"/>
                </a:cubicBezTo>
                <a:cubicBezTo>
                  <a:pt x="23518" y="2120"/>
                  <a:pt x="23419" y="2133"/>
                  <a:pt x="23292" y="2133"/>
                </a:cubicBezTo>
                <a:cubicBezTo>
                  <a:pt x="23404" y="2133"/>
                  <a:pt x="23530" y="2103"/>
                  <a:pt x="23639" y="2084"/>
                </a:cubicBezTo>
                <a:cubicBezTo>
                  <a:pt x="23680" y="2076"/>
                  <a:pt x="23722" y="2067"/>
                  <a:pt x="23763" y="20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67760" y="965160"/>
            <a:ext cx="1143000" cy="1392120"/>
          </a:xfrm>
          <a:custGeom>
            <a:avLst/>
            <a:gdLst/>
            <a:ahLst/>
            <a:rect l="l" t="t" r="r" b="b"/>
            <a:pathLst>
              <a:path w="3176" h="3870">
                <a:moveTo>
                  <a:pt x="21506" y="3597"/>
                </a:moveTo>
                <a:cubicBezTo>
                  <a:pt x="21715" y="3607"/>
                  <a:pt x="21885" y="3654"/>
                  <a:pt x="21654" y="3870"/>
                </a:cubicBezTo>
                <a:cubicBezTo>
                  <a:pt x="21577" y="3908"/>
                  <a:pt x="21562" y="3907"/>
                  <a:pt x="21530" y="3944"/>
                </a:cubicBezTo>
                <a:cubicBezTo>
                  <a:pt x="21690" y="3907"/>
                  <a:pt x="21717" y="3929"/>
                  <a:pt x="21853" y="3994"/>
                </a:cubicBezTo>
                <a:cubicBezTo>
                  <a:pt x="21679" y="4208"/>
                  <a:pt x="21531" y="4307"/>
                  <a:pt x="21307" y="4142"/>
                </a:cubicBezTo>
              </a:path>
              <a:path w="3176" h="3870">
                <a:moveTo>
                  <a:pt x="22027" y="3671"/>
                </a:moveTo>
                <a:cubicBezTo>
                  <a:pt x="21955" y="3911"/>
                  <a:pt x="21953" y="4152"/>
                  <a:pt x="22299" y="3969"/>
                </a:cubicBezTo>
                <a:cubicBezTo>
                  <a:pt x="22572" y="3825"/>
                  <a:pt x="22257" y="3674"/>
                  <a:pt x="22126" y="3621"/>
                </a:cubicBezTo>
              </a:path>
              <a:path w="3176" h="3870">
                <a:moveTo>
                  <a:pt x="22647" y="3671"/>
                </a:moveTo>
                <a:cubicBezTo>
                  <a:pt x="22634" y="3838"/>
                  <a:pt x="22728" y="4197"/>
                  <a:pt x="22994" y="3944"/>
                </a:cubicBezTo>
                <a:cubicBezTo>
                  <a:pt x="23246" y="3705"/>
                  <a:pt x="22906" y="3630"/>
                  <a:pt x="22771" y="3572"/>
                </a:cubicBezTo>
              </a:path>
              <a:path w="3176" h="3870">
                <a:moveTo>
                  <a:pt x="21258" y="4390"/>
                </a:moveTo>
                <a:cubicBezTo>
                  <a:pt x="21190" y="4188"/>
                  <a:pt x="21125" y="3976"/>
                  <a:pt x="21059" y="3770"/>
                </a:cubicBezTo>
                <a:cubicBezTo>
                  <a:pt x="21035" y="3695"/>
                  <a:pt x="21047" y="3679"/>
                  <a:pt x="21034" y="3621"/>
                </a:cubicBezTo>
                <a:cubicBezTo>
                  <a:pt x="21100" y="3595"/>
                  <a:pt x="21166" y="3572"/>
                  <a:pt x="21233" y="3547"/>
                </a:cubicBezTo>
                <a:cubicBezTo>
                  <a:pt x="21477" y="3454"/>
                  <a:pt x="21746" y="3427"/>
                  <a:pt x="22002" y="3398"/>
                </a:cubicBezTo>
                <a:cubicBezTo>
                  <a:pt x="22476" y="3345"/>
                  <a:pt x="23065" y="3200"/>
                  <a:pt x="23540" y="3249"/>
                </a:cubicBezTo>
                <a:cubicBezTo>
                  <a:pt x="23540" y="3257"/>
                  <a:pt x="23540" y="3266"/>
                  <a:pt x="23540" y="3274"/>
                </a:cubicBezTo>
              </a:path>
              <a:path w="3176" h="3870">
                <a:moveTo>
                  <a:pt x="20786" y="3870"/>
                </a:moveTo>
                <a:cubicBezTo>
                  <a:pt x="20763" y="3774"/>
                  <a:pt x="20758" y="3745"/>
                  <a:pt x="20712" y="3696"/>
                </a:cubicBezTo>
                <a:cubicBezTo>
                  <a:pt x="20587" y="3735"/>
                  <a:pt x="20380" y="3876"/>
                  <a:pt x="20464" y="4068"/>
                </a:cubicBezTo>
                <a:cubicBezTo>
                  <a:pt x="20513" y="4180"/>
                  <a:pt x="20724" y="3861"/>
                  <a:pt x="20737" y="3845"/>
                </a:cubicBezTo>
                <a:cubicBezTo>
                  <a:pt x="20745" y="3837"/>
                  <a:pt x="20754" y="3828"/>
                  <a:pt x="20762" y="3820"/>
                </a:cubicBezTo>
                <a:cubicBezTo>
                  <a:pt x="20762" y="3966"/>
                  <a:pt x="20815" y="4097"/>
                  <a:pt x="20836" y="4242"/>
                </a:cubicBezTo>
                <a:cubicBezTo>
                  <a:pt x="20836" y="4283"/>
                  <a:pt x="20836" y="4291"/>
                  <a:pt x="20836" y="4316"/>
                </a:cubicBezTo>
              </a:path>
              <a:path w="3176" h="3870">
                <a:moveTo>
                  <a:pt x="21977" y="2828"/>
                </a:moveTo>
                <a:cubicBezTo>
                  <a:pt x="22024" y="2816"/>
                  <a:pt x="22055" y="2786"/>
                  <a:pt x="22101" y="2753"/>
                </a:cubicBezTo>
                <a:cubicBezTo>
                  <a:pt x="22119" y="2867"/>
                  <a:pt x="22118" y="2882"/>
                  <a:pt x="22051" y="2977"/>
                </a:cubicBezTo>
                <a:cubicBezTo>
                  <a:pt x="22128" y="2977"/>
                  <a:pt x="22289" y="2990"/>
                  <a:pt x="22225" y="3125"/>
                </a:cubicBezTo>
                <a:cubicBezTo>
                  <a:pt x="22191" y="3197"/>
                  <a:pt x="22067" y="3261"/>
                  <a:pt x="22027" y="3200"/>
                </a:cubicBezTo>
              </a:path>
              <a:path w="3176" h="3870">
                <a:moveTo>
                  <a:pt x="21704" y="4316"/>
                </a:moveTo>
                <a:cubicBezTo>
                  <a:pt x="21820" y="4337"/>
                  <a:pt x="21896" y="4398"/>
                  <a:pt x="21828" y="4539"/>
                </a:cubicBezTo>
                <a:cubicBezTo>
                  <a:pt x="21764" y="4671"/>
                  <a:pt x="21704" y="4655"/>
                  <a:pt x="21580" y="4663"/>
                </a:cubicBezTo>
                <a:cubicBezTo>
                  <a:pt x="21606" y="4559"/>
                  <a:pt x="21723" y="4599"/>
                  <a:pt x="21803" y="4614"/>
                </a:cubicBezTo>
                <a:cubicBezTo>
                  <a:pt x="21932" y="4639"/>
                  <a:pt x="21887" y="4647"/>
                  <a:pt x="22002" y="4614"/>
                </a:cubicBezTo>
              </a:path>
              <a:path w="3176" h="3870">
                <a:moveTo>
                  <a:pt x="22101" y="4291"/>
                </a:moveTo>
                <a:cubicBezTo>
                  <a:pt x="22128" y="4280"/>
                  <a:pt x="22186" y="4214"/>
                  <a:pt x="22225" y="4242"/>
                </a:cubicBezTo>
                <a:cubicBezTo>
                  <a:pt x="22294" y="4290"/>
                  <a:pt x="22318" y="4388"/>
                  <a:pt x="22324" y="4465"/>
                </a:cubicBezTo>
                <a:cubicBezTo>
                  <a:pt x="22328" y="4520"/>
                  <a:pt x="22312" y="4537"/>
                  <a:pt x="22299" y="4589"/>
                </a:cubicBezTo>
                <a:cubicBezTo>
                  <a:pt x="22299" y="4597"/>
                  <a:pt x="22299" y="4606"/>
                  <a:pt x="22299" y="4614"/>
                </a:cubicBezTo>
              </a:path>
              <a:path w="3176" h="3870">
                <a:moveTo>
                  <a:pt x="21456" y="4986"/>
                </a:moveTo>
                <a:cubicBezTo>
                  <a:pt x="21742" y="4914"/>
                  <a:pt x="22038" y="4882"/>
                  <a:pt x="22324" y="4812"/>
                </a:cubicBezTo>
                <a:cubicBezTo>
                  <a:pt x="22365" y="4792"/>
                  <a:pt x="22371" y="4783"/>
                  <a:pt x="22399" y="4787"/>
                </a:cubicBezTo>
              </a:path>
              <a:path w="3176" h="3870">
                <a:moveTo>
                  <a:pt x="22275" y="4936"/>
                </a:moveTo>
                <a:cubicBezTo>
                  <a:pt x="22333" y="4936"/>
                  <a:pt x="22390" y="4936"/>
                  <a:pt x="22448" y="4936"/>
                </a:cubicBezTo>
                <a:cubicBezTo>
                  <a:pt x="22432" y="5032"/>
                  <a:pt x="22421" y="5096"/>
                  <a:pt x="22324" y="5135"/>
                </a:cubicBezTo>
                <a:cubicBezTo>
                  <a:pt x="22398" y="5135"/>
                  <a:pt x="22454" y="5137"/>
                  <a:pt x="22523" y="5159"/>
                </a:cubicBezTo>
                <a:cubicBezTo>
                  <a:pt x="22544" y="5257"/>
                  <a:pt x="22488" y="5367"/>
                  <a:pt x="22349" y="5333"/>
                </a:cubicBezTo>
                <a:cubicBezTo>
                  <a:pt x="22332" y="5316"/>
                  <a:pt x="22316" y="5300"/>
                  <a:pt x="22299" y="5283"/>
                </a:cubicBezTo>
              </a:path>
              <a:path w="3176" h="3870">
                <a:moveTo>
                  <a:pt x="22845" y="4118"/>
                </a:moveTo>
                <a:cubicBezTo>
                  <a:pt x="22845" y="4280"/>
                  <a:pt x="22842" y="4431"/>
                  <a:pt x="22870" y="4589"/>
                </a:cubicBezTo>
              </a:path>
              <a:path w="3176" h="3870">
                <a:moveTo>
                  <a:pt x="22920" y="5035"/>
                </a:moveTo>
                <a:cubicBezTo>
                  <a:pt x="22830" y="4970"/>
                  <a:pt x="22796" y="5138"/>
                  <a:pt x="22796" y="5209"/>
                </a:cubicBezTo>
                <a:cubicBezTo>
                  <a:pt x="22804" y="5226"/>
                  <a:pt x="22812" y="5242"/>
                  <a:pt x="22820" y="5259"/>
                </a:cubicBezTo>
                <a:cubicBezTo>
                  <a:pt x="22958" y="5292"/>
                  <a:pt x="23051" y="5253"/>
                  <a:pt x="23093" y="5110"/>
                </a:cubicBezTo>
                <a:cubicBezTo>
                  <a:pt x="23120" y="5017"/>
                  <a:pt x="22977" y="5017"/>
                  <a:pt x="22920" y="5011"/>
                </a:cubicBezTo>
              </a:path>
              <a:path w="3176" h="3870">
                <a:moveTo>
                  <a:pt x="22423" y="2729"/>
                </a:moveTo>
                <a:cubicBezTo>
                  <a:pt x="22524" y="2688"/>
                  <a:pt x="22542" y="2652"/>
                  <a:pt x="22647" y="2729"/>
                </a:cubicBezTo>
                <a:cubicBezTo>
                  <a:pt x="22693" y="2763"/>
                  <a:pt x="22666" y="2909"/>
                  <a:pt x="22622" y="2877"/>
                </a:cubicBezTo>
                <a:cubicBezTo>
                  <a:pt x="22622" y="2869"/>
                  <a:pt x="22622" y="2861"/>
                  <a:pt x="22622" y="2853"/>
                </a:cubicBezTo>
                <a:cubicBezTo>
                  <a:pt x="22683" y="2839"/>
                  <a:pt x="22901" y="2794"/>
                  <a:pt x="22845" y="2952"/>
                </a:cubicBezTo>
                <a:cubicBezTo>
                  <a:pt x="22804" y="3068"/>
                  <a:pt x="22698" y="3120"/>
                  <a:pt x="22597" y="3076"/>
                </a:cubicBezTo>
              </a:path>
              <a:path w="3176" h="3870">
                <a:moveTo>
                  <a:pt x="22448" y="5556"/>
                </a:moveTo>
                <a:cubicBezTo>
                  <a:pt x="22593" y="5515"/>
                  <a:pt x="22699" y="5427"/>
                  <a:pt x="22771" y="5631"/>
                </a:cubicBezTo>
                <a:cubicBezTo>
                  <a:pt x="22838" y="5821"/>
                  <a:pt x="22664" y="5906"/>
                  <a:pt x="22523" y="5928"/>
                </a:cubicBezTo>
                <a:cubicBezTo>
                  <a:pt x="22523" y="5782"/>
                  <a:pt x="22633" y="5887"/>
                  <a:pt x="22746" y="5854"/>
                </a:cubicBezTo>
                <a:cubicBezTo>
                  <a:pt x="22771" y="5837"/>
                  <a:pt x="22795" y="5821"/>
                  <a:pt x="22820" y="5804"/>
                </a:cubicBezTo>
              </a:path>
              <a:path w="3176" h="3870">
                <a:moveTo>
                  <a:pt x="22820" y="5482"/>
                </a:moveTo>
                <a:cubicBezTo>
                  <a:pt x="22886" y="5449"/>
                  <a:pt x="22988" y="5446"/>
                  <a:pt x="23068" y="5432"/>
                </a:cubicBezTo>
                <a:cubicBezTo>
                  <a:pt x="23076" y="5432"/>
                  <a:pt x="23085" y="5432"/>
                  <a:pt x="23093" y="5432"/>
                </a:cubicBezTo>
                <a:cubicBezTo>
                  <a:pt x="23112" y="5567"/>
                  <a:pt x="23157" y="5665"/>
                  <a:pt x="23118" y="5804"/>
                </a:cubicBezTo>
                <a:cubicBezTo>
                  <a:pt x="23110" y="5812"/>
                  <a:pt x="23101" y="5821"/>
                  <a:pt x="23093" y="5829"/>
                </a:cubicBezTo>
              </a:path>
              <a:path w="3176" h="3870">
                <a:moveTo>
                  <a:pt x="22622" y="6102"/>
                </a:moveTo>
                <a:cubicBezTo>
                  <a:pt x="22865" y="5998"/>
                  <a:pt x="23119" y="5924"/>
                  <a:pt x="23366" y="5829"/>
                </a:cubicBezTo>
                <a:cubicBezTo>
                  <a:pt x="23406" y="5809"/>
                  <a:pt x="23413" y="5800"/>
                  <a:pt x="23440" y="5804"/>
                </a:cubicBezTo>
              </a:path>
              <a:path w="3176" h="3870">
                <a:moveTo>
                  <a:pt x="23217" y="6127"/>
                </a:moveTo>
                <a:cubicBezTo>
                  <a:pt x="23316" y="6110"/>
                  <a:pt x="23471" y="5993"/>
                  <a:pt x="23564" y="6077"/>
                </a:cubicBezTo>
                <a:cubicBezTo>
                  <a:pt x="23647" y="6152"/>
                  <a:pt x="23410" y="6288"/>
                  <a:pt x="23366" y="6325"/>
                </a:cubicBezTo>
                <a:cubicBezTo>
                  <a:pt x="23452" y="6268"/>
                  <a:pt x="23585" y="6250"/>
                  <a:pt x="23639" y="6375"/>
                </a:cubicBezTo>
                <a:cubicBezTo>
                  <a:pt x="23714" y="6548"/>
                  <a:pt x="23488" y="6548"/>
                  <a:pt x="23391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56720" y="2768760"/>
            <a:ext cx="679320" cy="320400"/>
          </a:xfrm>
          <a:custGeom>
            <a:avLst/>
            <a:gdLst/>
            <a:ahLst/>
            <a:rect l="l" t="t" r="r" b="b"/>
            <a:pathLst>
              <a:path w="1886" h="894">
                <a:moveTo>
                  <a:pt x="22101" y="7962"/>
                </a:moveTo>
                <a:cubicBezTo>
                  <a:pt x="22575" y="7830"/>
                  <a:pt x="23050" y="7784"/>
                  <a:pt x="23540" y="7739"/>
                </a:cubicBezTo>
                <a:cubicBezTo>
                  <a:pt x="23697" y="7724"/>
                  <a:pt x="23828" y="7720"/>
                  <a:pt x="23986" y="7714"/>
                </a:cubicBezTo>
              </a:path>
              <a:path w="1886" h="894">
                <a:moveTo>
                  <a:pt x="23068" y="8285"/>
                </a:moveTo>
                <a:cubicBezTo>
                  <a:pt x="23038" y="8209"/>
                  <a:pt x="22923" y="8027"/>
                  <a:pt x="22796" y="8086"/>
                </a:cubicBezTo>
                <a:cubicBezTo>
                  <a:pt x="22656" y="8151"/>
                  <a:pt x="22693" y="8262"/>
                  <a:pt x="22721" y="8359"/>
                </a:cubicBezTo>
                <a:cubicBezTo>
                  <a:pt x="22832" y="8337"/>
                  <a:pt x="22899" y="8325"/>
                  <a:pt x="22944" y="8210"/>
                </a:cubicBezTo>
                <a:cubicBezTo>
                  <a:pt x="22961" y="8327"/>
                  <a:pt x="22996" y="8443"/>
                  <a:pt x="23019" y="8558"/>
                </a:cubicBezTo>
                <a:cubicBezTo>
                  <a:pt x="23019" y="8566"/>
                  <a:pt x="23019" y="8574"/>
                  <a:pt x="23019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99200" y="2544840"/>
            <a:ext cx="723960" cy="1098360"/>
          </a:xfrm>
          <a:custGeom>
            <a:avLst/>
            <a:gdLst/>
            <a:ahLst/>
            <a:rect l="l" t="t" r="r" b="b"/>
            <a:pathLst>
              <a:path w="2010" h="3052">
                <a:moveTo>
                  <a:pt x="20166" y="7218"/>
                </a:moveTo>
                <a:cubicBezTo>
                  <a:pt x="20064" y="7185"/>
                  <a:pt x="19989" y="7128"/>
                  <a:pt x="19869" y="7144"/>
                </a:cubicBezTo>
                <a:cubicBezTo>
                  <a:pt x="19725" y="7163"/>
                  <a:pt x="19689" y="7337"/>
                  <a:pt x="19769" y="7441"/>
                </a:cubicBezTo>
                <a:cubicBezTo>
                  <a:pt x="19880" y="7585"/>
                  <a:pt x="20081" y="7388"/>
                  <a:pt x="20141" y="7293"/>
                </a:cubicBezTo>
                <a:cubicBezTo>
                  <a:pt x="20149" y="7268"/>
                  <a:pt x="20158" y="7243"/>
                  <a:pt x="20166" y="7218"/>
                </a:cubicBezTo>
                <a:cubicBezTo>
                  <a:pt x="20153" y="7417"/>
                  <a:pt x="20123" y="7613"/>
                  <a:pt x="20117" y="7813"/>
                </a:cubicBezTo>
                <a:cubicBezTo>
                  <a:pt x="20117" y="7838"/>
                  <a:pt x="20117" y="7846"/>
                  <a:pt x="20117" y="7863"/>
                </a:cubicBezTo>
              </a:path>
              <a:path w="2010" h="3052">
                <a:moveTo>
                  <a:pt x="20290" y="7615"/>
                </a:moveTo>
                <a:cubicBezTo>
                  <a:pt x="20290" y="7723"/>
                  <a:pt x="20292" y="7765"/>
                  <a:pt x="20315" y="7838"/>
                </a:cubicBezTo>
                <a:cubicBezTo>
                  <a:pt x="20315" y="7795"/>
                  <a:pt x="20335" y="7623"/>
                  <a:pt x="20414" y="7516"/>
                </a:cubicBezTo>
                <a:cubicBezTo>
                  <a:pt x="20527" y="7364"/>
                  <a:pt x="20599" y="7743"/>
                  <a:pt x="20613" y="7813"/>
                </a:cubicBezTo>
                <a:cubicBezTo>
                  <a:pt x="20613" y="7821"/>
                  <a:pt x="20613" y="7830"/>
                  <a:pt x="20613" y="7838"/>
                </a:cubicBezTo>
                <a:cubicBezTo>
                  <a:pt x="20613" y="7724"/>
                  <a:pt x="20613" y="7534"/>
                  <a:pt x="20737" y="7466"/>
                </a:cubicBezTo>
                <a:cubicBezTo>
                  <a:pt x="20912" y="7370"/>
                  <a:pt x="20994" y="7632"/>
                  <a:pt x="21010" y="7739"/>
                </a:cubicBezTo>
                <a:cubicBezTo>
                  <a:pt x="21010" y="7797"/>
                  <a:pt x="21010" y="7805"/>
                  <a:pt x="21010" y="7838"/>
                </a:cubicBezTo>
              </a:path>
              <a:path w="2010" h="3052">
                <a:moveTo>
                  <a:pt x="19918" y="8136"/>
                </a:moveTo>
                <a:cubicBezTo>
                  <a:pt x="20161" y="8105"/>
                  <a:pt x="20416" y="8093"/>
                  <a:pt x="20662" y="8086"/>
                </a:cubicBezTo>
                <a:cubicBezTo>
                  <a:pt x="20804" y="8082"/>
                  <a:pt x="21130" y="8064"/>
                  <a:pt x="21233" y="8086"/>
                </a:cubicBezTo>
                <a:cubicBezTo>
                  <a:pt x="21241" y="8086"/>
                  <a:pt x="21250" y="8086"/>
                  <a:pt x="21258" y="8086"/>
                </a:cubicBezTo>
              </a:path>
              <a:path w="2010" h="3052">
                <a:moveTo>
                  <a:pt x="20290" y="8409"/>
                </a:moveTo>
                <a:cubicBezTo>
                  <a:pt x="20341" y="8443"/>
                  <a:pt x="20287" y="8351"/>
                  <a:pt x="20241" y="8310"/>
                </a:cubicBezTo>
                <a:cubicBezTo>
                  <a:pt x="20127" y="8206"/>
                  <a:pt x="19979" y="8289"/>
                  <a:pt x="19943" y="8434"/>
                </a:cubicBezTo>
                <a:cubicBezTo>
                  <a:pt x="19897" y="8619"/>
                  <a:pt x="20162" y="8581"/>
                  <a:pt x="20241" y="8508"/>
                </a:cubicBezTo>
                <a:cubicBezTo>
                  <a:pt x="20300" y="8429"/>
                  <a:pt x="20325" y="8420"/>
                  <a:pt x="20315" y="8359"/>
                </a:cubicBezTo>
                <a:cubicBezTo>
                  <a:pt x="20315" y="8541"/>
                  <a:pt x="20315" y="8723"/>
                  <a:pt x="20315" y="8905"/>
                </a:cubicBezTo>
              </a:path>
              <a:path w="2010" h="3052">
                <a:moveTo>
                  <a:pt x="20017" y="7094"/>
                </a:moveTo>
                <a:cubicBezTo>
                  <a:pt x="20081" y="7349"/>
                  <a:pt x="20128" y="7557"/>
                  <a:pt x="20191" y="7813"/>
                </a:cubicBezTo>
                <a:cubicBezTo>
                  <a:pt x="20266" y="8122"/>
                  <a:pt x="20307" y="8453"/>
                  <a:pt x="20389" y="8756"/>
                </a:cubicBezTo>
                <a:cubicBezTo>
                  <a:pt x="20389" y="8784"/>
                  <a:pt x="20391" y="8795"/>
                  <a:pt x="20414" y="8806"/>
                </a:cubicBezTo>
              </a:path>
              <a:path w="2010" h="3052">
                <a:moveTo>
                  <a:pt x="20265" y="9723"/>
                </a:moveTo>
                <a:cubicBezTo>
                  <a:pt x="20251" y="9849"/>
                  <a:pt x="20241" y="9945"/>
                  <a:pt x="20241" y="10071"/>
                </a:cubicBezTo>
                <a:cubicBezTo>
                  <a:pt x="20241" y="10201"/>
                  <a:pt x="20263" y="9867"/>
                  <a:pt x="20315" y="9748"/>
                </a:cubicBezTo>
                <a:cubicBezTo>
                  <a:pt x="20332" y="9715"/>
                  <a:pt x="20348" y="9682"/>
                  <a:pt x="20365" y="9649"/>
                </a:cubicBezTo>
                <a:cubicBezTo>
                  <a:pt x="20547" y="9747"/>
                  <a:pt x="20551" y="9835"/>
                  <a:pt x="20563" y="10046"/>
                </a:cubicBezTo>
                <a:cubicBezTo>
                  <a:pt x="20563" y="9905"/>
                  <a:pt x="20602" y="9812"/>
                  <a:pt x="20687" y="9699"/>
                </a:cubicBezTo>
                <a:cubicBezTo>
                  <a:pt x="20829" y="9510"/>
                  <a:pt x="20901" y="9896"/>
                  <a:pt x="20910" y="9971"/>
                </a:cubicBezTo>
                <a:cubicBezTo>
                  <a:pt x="20915" y="10016"/>
                  <a:pt x="20910" y="10072"/>
                  <a:pt x="20910" y="10120"/>
                </a:cubicBezTo>
              </a:path>
              <a:path w="2010" h="3052">
                <a:moveTo>
                  <a:pt x="21208" y="9872"/>
                </a:moveTo>
                <a:cubicBezTo>
                  <a:pt x="21340" y="9828"/>
                  <a:pt x="21440" y="9823"/>
                  <a:pt x="21580" y="9823"/>
                </a:cubicBezTo>
                <a:cubicBezTo>
                  <a:pt x="21605" y="9823"/>
                  <a:pt x="21629" y="9823"/>
                  <a:pt x="21654" y="9823"/>
                </a:cubicBezTo>
              </a:path>
              <a:path w="2010" h="3052">
                <a:moveTo>
                  <a:pt x="21382" y="10071"/>
                </a:moveTo>
                <a:cubicBezTo>
                  <a:pt x="21499" y="10064"/>
                  <a:pt x="21612" y="10046"/>
                  <a:pt x="21729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7240" y="4643280"/>
            <a:ext cx="2973600" cy="2044800"/>
          </a:xfrm>
          <a:custGeom>
            <a:avLst/>
            <a:gdLst/>
            <a:ahLst/>
            <a:rect l="l" t="t" r="r" b="b"/>
            <a:pathLst>
              <a:path w="8261" h="5682">
                <a:moveTo>
                  <a:pt x="3051" y="14536"/>
                </a:moveTo>
                <a:cubicBezTo>
                  <a:pt x="3146" y="14812"/>
                  <a:pt x="3198" y="15053"/>
                  <a:pt x="3225" y="15354"/>
                </a:cubicBezTo>
                <a:cubicBezTo>
                  <a:pt x="3256" y="15701"/>
                  <a:pt x="3249" y="16048"/>
                  <a:pt x="3249" y="16396"/>
                </a:cubicBezTo>
                <a:cubicBezTo>
                  <a:pt x="3249" y="16436"/>
                  <a:pt x="3228" y="16467"/>
                  <a:pt x="3225" y="16495"/>
                </a:cubicBezTo>
                <a:cubicBezTo>
                  <a:pt x="3219" y="16559"/>
                  <a:pt x="3208" y="16607"/>
                  <a:pt x="3200" y="16669"/>
                </a:cubicBezTo>
                <a:cubicBezTo>
                  <a:pt x="3200" y="16694"/>
                  <a:pt x="3200" y="16702"/>
                  <a:pt x="3200" y="16718"/>
                </a:cubicBezTo>
                <a:cubicBezTo>
                  <a:pt x="3532" y="16718"/>
                  <a:pt x="3862" y="16728"/>
                  <a:pt x="4192" y="16743"/>
                </a:cubicBezTo>
                <a:cubicBezTo>
                  <a:pt x="4427" y="16753"/>
                  <a:pt x="4655" y="16793"/>
                  <a:pt x="4887" y="16842"/>
                </a:cubicBezTo>
                <a:cubicBezTo>
                  <a:pt x="4957" y="16857"/>
                  <a:pt x="5074" y="16880"/>
                  <a:pt x="5110" y="16892"/>
                </a:cubicBezTo>
                <a:cubicBezTo>
                  <a:pt x="5087" y="16852"/>
                  <a:pt x="5069" y="16814"/>
                  <a:pt x="5035" y="16768"/>
                </a:cubicBezTo>
                <a:cubicBezTo>
                  <a:pt x="4977" y="16688"/>
                  <a:pt x="4892" y="16608"/>
                  <a:pt x="4812" y="16545"/>
                </a:cubicBezTo>
                <a:cubicBezTo>
                  <a:pt x="4715" y="16468"/>
                  <a:pt x="4627" y="16410"/>
                  <a:pt x="4539" y="16321"/>
                </a:cubicBezTo>
                <a:cubicBezTo>
                  <a:pt x="4453" y="16235"/>
                  <a:pt x="4380" y="16159"/>
                  <a:pt x="4291" y="16073"/>
                </a:cubicBezTo>
                <a:cubicBezTo>
                  <a:pt x="4175" y="15961"/>
                  <a:pt x="4007" y="15907"/>
                  <a:pt x="3894" y="15801"/>
                </a:cubicBezTo>
                <a:cubicBezTo>
                  <a:pt x="3811" y="15723"/>
                  <a:pt x="3754" y="15611"/>
                  <a:pt x="3671" y="15528"/>
                </a:cubicBezTo>
                <a:cubicBezTo>
                  <a:pt x="3605" y="15462"/>
                  <a:pt x="3573" y="15403"/>
                  <a:pt x="3522" y="15329"/>
                </a:cubicBezTo>
                <a:cubicBezTo>
                  <a:pt x="3463" y="15243"/>
                  <a:pt x="3440" y="15138"/>
                  <a:pt x="3398" y="15056"/>
                </a:cubicBezTo>
                <a:cubicBezTo>
                  <a:pt x="3360" y="14982"/>
                  <a:pt x="3326" y="14900"/>
                  <a:pt x="3274" y="14833"/>
                </a:cubicBezTo>
                <a:cubicBezTo>
                  <a:pt x="3219" y="14761"/>
                  <a:pt x="3164" y="14723"/>
                  <a:pt x="3101" y="14660"/>
                </a:cubicBezTo>
                <a:cubicBezTo>
                  <a:pt x="3076" y="14660"/>
                  <a:pt x="3068" y="14660"/>
                  <a:pt x="3076" y="14635"/>
                </a:cubicBezTo>
              </a:path>
              <a:path w="8261" h="5682">
                <a:moveTo>
                  <a:pt x="6251" y="14188"/>
                </a:moveTo>
                <a:cubicBezTo>
                  <a:pt x="6271" y="14364"/>
                  <a:pt x="6280" y="14534"/>
                  <a:pt x="6325" y="14709"/>
                </a:cubicBezTo>
                <a:cubicBezTo>
                  <a:pt x="6504" y="15398"/>
                  <a:pt x="6720" y="16055"/>
                  <a:pt x="6796" y="16768"/>
                </a:cubicBezTo>
                <a:cubicBezTo>
                  <a:pt x="6831" y="17096"/>
                  <a:pt x="6828" y="17432"/>
                  <a:pt x="6846" y="17760"/>
                </a:cubicBezTo>
                <a:cubicBezTo>
                  <a:pt x="6850" y="17841"/>
                  <a:pt x="6826" y="17917"/>
                  <a:pt x="6821" y="17983"/>
                </a:cubicBezTo>
                <a:cubicBezTo>
                  <a:pt x="7017" y="17962"/>
                  <a:pt x="7219" y="17920"/>
                  <a:pt x="7417" y="17909"/>
                </a:cubicBezTo>
                <a:cubicBezTo>
                  <a:pt x="7772" y="17889"/>
                  <a:pt x="8127" y="17884"/>
                  <a:pt x="8483" y="17884"/>
                </a:cubicBezTo>
                <a:cubicBezTo>
                  <a:pt x="8830" y="17884"/>
                  <a:pt x="9180" y="17878"/>
                  <a:pt x="9525" y="17909"/>
                </a:cubicBezTo>
                <a:cubicBezTo>
                  <a:pt x="9682" y="17923"/>
                  <a:pt x="9840" y="17950"/>
                  <a:pt x="9996" y="17959"/>
                </a:cubicBezTo>
                <a:cubicBezTo>
                  <a:pt x="10054" y="17962"/>
                  <a:pt x="10112" y="17957"/>
                  <a:pt x="10170" y="17959"/>
                </a:cubicBezTo>
                <a:cubicBezTo>
                  <a:pt x="10096" y="17925"/>
                  <a:pt x="10027" y="17914"/>
                  <a:pt x="9947" y="17859"/>
                </a:cubicBezTo>
                <a:cubicBezTo>
                  <a:pt x="9781" y="17743"/>
                  <a:pt x="9628" y="17620"/>
                  <a:pt x="9475" y="17487"/>
                </a:cubicBezTo>
                <a:cubicBezTo>
                  <a:pt x="9351" y="17380"/>
                  <a:pt x="9217" y="17283"/>
                  <a:pt x="9103" y="17165"/>
                </a:cubicBezTo>
                <a:cubicBezTo>
                  <a:pt x="8956" y="17013"/>
                  <a:pt x="8833" y="16845"/>
                  <a:pt x="8682" y="16694"/>
                </a:cubicBezTo>
                <a:cubicBezTo>
                  <a:pt x="8528" y="16540"/>
                  <a:pt x="8383" y="16381"/>
                  <a:pt x="8235" y="16222"/>
                </a:cubicBezTo>
                <a:cubicBezTo>
                  <a:pt x="8135" y="16115"/>
                  <a:pt x="8036" y="16009"/>
                  <a:pt x="7938" y="15900"/>
                </a:cubicBezTo>
                <a:cubicBezTo>
                  <a:pt x="7818" y="15766"/>
                  <a:pt x="7695" y="15625"/>
                  <a:pt x="7590" y="15478"/>
                </a:cubicBezTo>
                <a:cubicBezTo>
                  <a:pt x="7487" y="15334"/>
                  <a:pt x="7368" y="15201"/>
                  <a:pt x="7268" y="15056"/>
                </a:cubicBezTo>
                <a:cubicBezTo>
                  <a:pt x="7212" y="14975"/>
                  <a:pt x="7142" y="14868"/>
                  <a:pt x="7094" y="14784"/>
                </a:cubicBezTo>
                <a:cubicBezTo>
                  <a:pt x="7036" y="14683"/>
                  <a:pt x="6998" y="14584"/>
                  <a:pt x="6945" y="14486"/>
                </a:cubicBezTo>
                <a:cubicBezTo>
                  <a:pt x="6861" y="14329"/>
                  <a:pt x="6760" y="14162"/>
                  <a:pt x="6672" y="14015"/>
                </a:cubicBezTo>
                <a:cubicBezTo>
                  <a:pt x="6639" y="13960"/>
                  <a:pt x="6611" y="13893"/>
                  <a:pt x="6573" y="13841"/>
                </a:cubicBezTo>
                <a:cubicBezTo>
                  <a:pt x="6528" y="13780"/>
                  <a:pt x="6450" y="13668"/>
                  <a:pt x="6400" y="13618"/>
                </a:cubicBezTo>
                <a:cubicBezTo>
                  <a:pt x="6371" y="13589"/>
                  <a:pt x="6319" y="13560"/>
                  <a:pt x="6300" y="13543"/>
                </a:cubicBezTo>
                <a:cubicBezTo>
                  <a:pt x="6290" y="13616"/>
                  <a:pt x="6278" y="13681"/>
                  <a:pt x="6276" y="13767"/>
                </a:cubicBezTo>
                <a:cubicBezTo>
                  <a:pt x="6274" y="13881"/>
                  <a:pt x="6275" y="13982"/>
                  <a:pt x="6300" y="14089"/>
                </a:cubicBezTo>
                <a:cubicBezTo>
                  <a:pt x="6314" y="14148"/>
                  <a:pt x="6335" y="14180"/>
                  <a:pt x="6350" y="14238"/>
                </a:cubicBezTo>
                <a:cubicBezTo>
                  <a:pt x="6361" y="14279"/>
                  <a:pt x="6365" y="14321"/>
                  <a:pt x="6375" y="14362"/>
                </a:cubicBezTo>
                <a:cubicBezTo>
                  <a:pt x="6384" y="14398"/>
                  <a:pt x="6391" y="14423"/>
                  <a:pt x="6400" y="14461"/>
                </a:cubicBezTo>
              </a:path>
              <a:path w="8261" h="5682">
                <a:moveTo>
                  <a:pt x="3696" y="15999"/>
                </a:moveTo>
                <a:cubicBezTo>
                  <a:pt x="3712" y="16124"/>
                  <a:pt x="3738" y="16249"/>
                  <a:pt x="3770" y="16371"/>
                </a:cubicBezTo>
              </a:path>
              <a:path w="8261" h="5682">
                <a:moveTo>
                  <a:pt x="3497" y="16545"/>
                </a:moveTo>
                <a:cubicBezTo>
                  <a:pt x="3680" y="16635"/>
                  <a:pt x="3784" y="16627"/>
                  <a:pt x="3969" y="16520"/>
                </a:cubicBezTo>
                <a:cubicBezTo>
                  <a:pt x="4091" y="16449"/>
                  <a:pt x="4138" y="16364"/>
                  <a:pt x="4043" y="16247"/>
                </a:cubicBezTo>
                <a:cubicBezTo>
                  <a:pt x="3925" y="16102"/>
                  <a:pt x="3712" y="16008"/>
                  <a:pt x="3522" y="16049"/>
                </a:cubicBezTo>
                <a:cubicBezTo>
                  <a:pt x="3332" y="16090"/>
                  <a:pt x="3326" y="16380"/>
                  <a:pt x="3398" y="16520"/>
                </a:cubicBezTo>
                <a:cubicBezTo>
                  <a:pt x="3505" y="16627"/>
                  <a:pt x="3550" y="16662"/>
                  <a:pt x="3671" y="16644"/>
                </a:cubicBezTo>
              </a:path>
              <a:path w="8261" h="5682">
                <a:moveTo>
                  <a:pt x="7243" y="16446"/>
                </a:moveTo>
                <a:cubicBezTo>
                  <a:pt x="7332" y="16446"/>
                  <a:pt x="7410" y="16436"/>
                  <a:pt x="7491" y="16470"/>
                </a:cubicBezTo>
                <a:cubicBezTo>
                  <a:pt x="7439" y="16575"/>
                  <a:pt x="7340" y="16663"/>
                  <a:pt x="7293" y="16768"/>
                </a:cubicBezTo>
                <a:cubicBezTo>
                  <a:pt x="7293" y="16776"/>
                  <a:pt x="7293" y="16785"/>
                  <a:pt x="7293" y="16793"/>
                </a:cubicBezTo>
                <a:cubicBezTo>
                  <a:pt x="7413" y="16826"/>
                  <a:pt x="7503" y="16825"/>
                  <a:pt x="7615" y="16768"/>
                </a:cubicBezTo>
              </a:path>
              <a:path w="8261" h="5682">
                <a:moveTo>
                  <a:pt x="7169" y="17090"/>
                </a:moveTo>
                <a:cubicBezTo>
                  <a:pt x="7448" y="17122"/>
                  <a:pt x="7658" y="17104"/>
                  <a:pt x="7913" y="16966"/>
                </a:cubicBezTo>
                <a:cubicBezTo>
                  <a:pt x="8130" y="16849"/>
                  <a:pt x="8095" y="16556"/>
                  <a:pt x="7987" y="16371"/>
                </a:cubicBezTo>
                <a:cubicBezTo>
                  <a:pt x="7877" y="16181"/>
                  <a:pt x="7468" y="15943"/>
                  <a:pt x="7243" y="16098"/>
                </a:cubicBezTo>
                <a:cubicBezTo>
                  <a:pt x="6979" y="16279"/>
                  <a:pt x="6869" y="16785"/>
                  <a:pt x="7144" y="16991"/>
                </a:cubicBezTo>
                <a:cubicBezTo>
                  <a:pt x="7382" y="17071"/>
                  <a:pt x="7472" y="17092"/>
                  <a:pt x="7640" y="16991"/>
                </a:cubicBezTo>
              </a:path>
              <a:path w="8261" h="5682">
                <a:moveTo>
                  <a:pt x="4043" y="17041"/>
                </a:moveTo>
                <a:cubicBezTo>
                  <a:pt x="3932" y="17061"/>
                  <a:pt x="3724" y="17122"/>
                  <a:pt x="3696" y="17264"/>
                </a:cubicBezTo>
                <a:cubicBezTo>
                  <a:pt x="3652" y="17486"/>
                  <a:pt x="3975" y="17528"/>
                  <a:pt x="4068" y="17661"/>
                </a:cubicBezTo>
                <a:cubicBezTo>
                  <a:pt x="4092" y="17756"/>
                  <a:pt x="4103" y="17786"/>
                  <a:pt x="4043" y="17835"/>
                </a:cubicBezTo>
                <a:cubicBezTo>
                  <a:pt x="3914" y="17898"/>
                  <a:pt x="3988" y="17542"/>
                  <a:pt x="3994" y="17512"/>
                </a:cubicBezTo>
                <a:cubicBezTo>
                  <a:pt x="4011" y="17419"/>
                  <a:pt x="4053" y="17331"/>
                  <a:pt x="4068" y="17239"/>
                </a:cubicBezTo>
              </a:path>
              <a:path w="8261" h="5682">
                <a:moveTo>
                  <a:pt x="4415" y="17165"/>
                </a:moveTo>
                <a:cubicBezTo>
                  <a:pt x="4389" y="17243"/>
                  <a:pt x="4449" y="17288"/>
                  <a:pt x="4465" y="17338"/>
                </a:cubicBezTo>
                <a:cubicBezTo>
                  <a:pt x="4465" y="17380"/>
                  <a:pt x="4465" y="17388"/>
                  <a:pt x="4465" y="17413"/>
                </a:cubicBezTo>
              </a:path>
              <a:path w="8261" h="5682">
                <a:moveTo>
                  <a:pt x="1910" y="15354"/>
                </a:moveTo>
                <a:cubicBezTo>
                  <a:pt x="1936" y="15536"/>
                  <a:pt x="1983" y="15252"/>
                  <a:pt x="2133" y="15304"/>
                </a:cubicBezTo>
                <a:cubicBezTo>
                  <a:pt x="2380" y="15389"/>
                  <a:pt x="2277" y="15774"/>
                  <a:pt x="2108" y="15875"/>
                </a:cubicBezTo>
                <a:cubicBezTo>
                  <a:pt x="2092" y="15867"/>
                  <a:pt x="2075" y="15858"/>
                  <a:pt x="2059" y="15850"/>
                </a:cubicBezTo>
                <a:cubicBezTo>
                  <a:pt x="2007" y="15714"/>
                  <a:pt x="2092" y="15690"/>
                  <a:pt x="2232" y="15701"/>
                </a:cubicBezTo>
                <a:cubicBezTo>
                  <a:pt x="2295" y="15706"/>
                  <a:pt x="2324" y="15726"/>
                  <a:pt x="2381" y="15726"/>
                </a:cubicBezTo>
              </a:path>
              <a:path w="8261" h="5682">
                <a:moveTo>
                  <a:pt x="2282" y="15180"/>
                </a:moveTo>
                <a:cubicBezTo>
                  <a:pt x="2370" y="15323"/>
                  <a:pt x="2466" y="15453"/>
                  <a:pt x="2580" y="15577"/>
                </a:cubicBezTo>
              </a:path>
              <a:path w="8261" h="5682">
                <a:moveTo>
                  <a:pt x="2456" y="14759"/>
                </a:moveTo>
                <a:cubicBezTo>
                  <a:pt x="2481" y="14823"/>
                  <a:pt x="2542" y="14890"/>
                  <a:pt x="2580" y="14957"/>
                </a:cubicBezTo>
              </a:path>
              <a:path w="8261" h="5682">
                <a:moveTo>
                  <a:pt x="2853" y="12923"/>
                </a:moveTo>
                <a:cubicBezTo>
                  <a:pt x="2880" y="12866"/>
                  <a:pt x="3055" y="13156"/>
                  <a:pt x="3076" y="13196"/>
                </a:cubicBezTo>
                <a:cubicBezTo>
                  <a:pt x="3113" y="13290"/>
                  <a:pt x="3106" y="13308"/>
                  <a:pt x="3150" y="13345"/>
                </a:cubicBezTo>
                <a:cubicBezTo>
                  <a:pt x="3150" y="13254"/>
                  <a:pt x="3112" y="13157"/>
                  <a:pt x="3225" y="13122"/>
                </a:cubicBezTo>
                <a:cubicBezTo>
                  <a:pt x="3379" y="13075"/>
                  <a:pt x="3500" y="13205"/>
                  <a:pt x="3448" y="13345"/>
                </a:cubicBezTo>
                <a:cubicBezTo>
                  <a:pt x="3408" y="13454"/>
                  <a:pt x="3273" y="13453"/>
                  <a:pt x="3175" y="13469"/>
                </a:cubicBezTo>
              </a:path>
              <a:path w="8261" h="5682">
                <a:moveTo>
                  <a:pt x="7764" y="18157"/>
                </a:moveTo>
                <a:cubicBezTo>
                  <a:pt x="7878" y="18113"/>
                  <a:pt x="8087" y="18120"/>
                  <a:pt x="8012" y="18331"/>
                </a:cubicBezTo>
                <a:cubicBezTo>
                  <a:pt x="7955" y="18492"/>
                  <a:pt x="7850" y="18527"/>
                  <a:pt x="7714" y="18579"/>
                </a:cubicBezTo>
                <a:cubicBezTo>
                  <a:pt x="7645" y="18510"/>
                  <a:pt x="7767" y="18415"/>
                  <a:pt x="7863" y="18405"/>
                </a:cubicBezTo>
                <a:cubicBezTo>
                  <a:pt x="7964" y="18395"/>
                  <a:pt x="7982" y="18531"/>
                  <a:pt x="8062" y="18554"/>
                </a:cubicBezTo>
              </a:path>
              <a:path w="8261" h="5682">
                <a:moveTo>
                  <a:pt x="8458" y="18157"/>
                </a:moveTo>
                <a:cubicBezTo>
                  <a:pt x="8320" y="18203"/>
                  <a:pt x="8261" y="18306"/>
                  <a:pt x="8235" y="18455"/>
                </a:cubicBezTo>
                <a:cubicBezTo>
                  <a:pt x="8235" y="18480"/>
                  <a:pt x="8235" y="18504"/>
                  <a:pt x="8235" y="18529"/>
                </a:cubicBezTo>
                <a:cubicBezTo>
                  <a:pt x="8350" y="18536"/>
                  <a:pt x="8607" y="18520"/>
                  <a:pt x="8607" y="18331"/>
                </a:cubicBezTo>
                <a:cubicBezTo>
                  <a:pt x="8607" y="18187"/>
                  <a:pt x="8485" y="18131"/>
                  <a:pt x="8384" y="18182"/>
                </a:cubicBezTo>
              </a:path>
              <a:path w="8261" h="5682">
                <a:moveTo>
                  <a:pt x="8880" y="18083"/>
                </a:moveTo>
                <a:cubicBezTo>
                  <a:pt x="8880" y="18157"/>
                  <a:pt x="8880" y="18232"/>
                  <a:pt x="8880" y="18306"/>
                </a:cubicBezTo>
              </a:path>
              <a:path w="8261" h="5682">
                <a:moveTo>
                  <a:pt x="5953" y="15577"/>
                </a:moveTo>
                <a:cubicBezTo>
                  <a:pt x="5897" y="15503"/>
                  <a:pt x="5790" y="15409"/>
                  <a:pt x="5680" y="15453"/>
                </a:cubicBezTo>
                <a:cubicBezTo>
                  <a:pt x="5554" y="15503"/>
                  <a:pt x="5659" y="15680"/>
                  <a:pt x="5680" y="15751"/>
                </a:cubicBezTo>
                <a:cubicBezTo>
                  <a:pt x="5801" y="15721"/>
                  <a:pt x="5850" y="15682"/>
                  <a:pt x="5879" y="15553"/>
                </a:cubicBezTo>
                <a:cubicBezTo>
                  <a:pt x="5934" y="15718"/>
                  <a:pt x="5967" y="15888"/>
                  <a:pt x="5978" y="16073"/>
                </a:cubicBezTo>
                <a:cubicBezTo>
                  <a:pt x="5987" y="16228"/>
                  <a:pt x="5952" y="16228"/>
                  <a:pt x="6028" y="16321"/>
                </a:cubicBezTo>
                <a:cubicBezTo>
                  <a:pt x="6130" y="16238"/>
                  <a:pt x="6238" y="16089"/>
                  <a:pt x="6127" y="15949"/>
                </a:cubicBezTo>
                <a:cubicBezTo>
                  <a:pt x="6092" y="15905"/>
                  <a:pt x="5958" y="15900"/>
                  <a:pt x="5904" y="15900"/>
                </a:cubicBezTo>
                <a:cubicBezTo>
                  <a:pt x="6025" y="15850"/>
                  <a:pt x="6095" y="15719"/>
                  <a:pt x="6152" y="15602"/>
                </a:cubicBezTo>
                <a:cubicBezTo>
                  <a:pt x="6172" y="15541"/>
                  <a:pt x="6170" y="15527"/>
                  <a:pt x="6201" y="155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0000" y="4357800"/>
            <a:ext cx="1044360" cy="1187280"/>
          </a:xfrm>
          <a:custGeom>
            <a:avLst/>
            <a:gdLst/>
            <a:ahLst/>
            <a:rect l="l" t="t" r="r" b="b"/>
            <a:pathLst>
              <a:path w="2903" h="3300">
                <a:moveTo>
                  <a:pt x="12998" y="12129"/>
                </a:moveTo>
                <a:cubicBezTo>
                  <a:pt x="13378" y="12129"/>
                  <a:pt x="13763" y="12151"/>
                  <a:pt x="14139" y="12105"/>
                </a:cubicBezTo>
                <a:cubicBezTo>
                  <a:pt x="14171" y="12101"/>
                  <a:pt x="14205" y="12105"/>
                  <a:pt x="14238" y="12105"/>
                </a:cubicBezTo>
              </a:path>
              <a:path w="2903" h="3300">
                <a:moveTo>
                  <a:pt x="15453" y="14635"/>
                </a:moveTo>
                <a:cubicBezTo>
                  <a:pt x="15445" y="14642"/>
                  <a:pt x="15107" y="14866"/>
                  <a:pt x="15032" y="14908"/>
                </a:cubicBezTo>
                <a:cubicBezTo>
                  <a:pt x="14847" y="15012"/>
                  <a:pt x="14340" y="15306"/>
                  <a:pt x="14511" y="15180"/>
                </a:cubicBezTo>
                <a:cubicBezTo>
                  <a:pt x="14585" y="15131"/>
                  <a:pt x="14660" y="15081"/>
                  <a:pt x="14734" y="15032"/>
                </a:cubicBezTo>
                <a:cubicBezTo>
                  <a:pt x="15045" y="14887"/>
                  <a:pt x="15550" y="14559"/>
                  <a:pt x="15900" y="14560"/>
                </a:cubicBezTo>
                <a:cubicBezTo>
                  <a:pt x="16313" y="14561"/>
                  <a:pt x="15168" y="14929"/>
                  <a:pt x="14808" y="15131"/>
                </a:cubicBezTo>
                <a:cubicBezTo>
                  <a:pt x="14734" y="15172"/>
                  <a:pt x="14659" y="15214"/>
                  <a:pt x="14585" y="15255"/>
                </a:cubicBezTo>
                <a:cubicBezTo>
                  <a:pt x="14413" y="15401"/>
                  <a:pt x="14811" y="15119"/>
                  <a:pt x="15007" y="15007"/>
                </a:cubicBezTo>
                <a:cubicBezTo>
                  <a:pt x="15300" y="14849"/>
                  <a:pt x="15377" y="14803"/>
                  <a:pt x="15577" y="14734"/>
                </a:cubicBezTo>
                <a:cubicBezTo>
                  <a:pt x="15316" y="14861"/>
                  <a:pt x="14911" y="15092"/>
                  <a:pt x="14610" y="15280"/>
                </a:cubicBezTo>
                <a:cubicBezTo>
                  <a:pt x="14464" y="15372"/>
                  <a:pt x="14459" y="15413"/>
                  <a:pt x="14362" y="15404"/>
                </a:cubicBezTo>
                <a:cubicBezTo>
                  <a:pt x="14772" y="15131"/>
                  <a:pt x="15179" y="14909"/>
                  <a:pt x="15627" y="14709"/>
                </a:cubicBezTo>
                <a:cubicBezTo>
                  <a:pt x="15708" y="14673"/>
                  <a:pt x="15299" y="14921"/>
                  <a:pt x="15205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61080" y="4089240"/>
            <a:ext cx="1438200" cy="2475000"/>
          </a:xfrm>
          <a:custGeom>
            <a:avLst/>
            <a:gdLst/>
            <a:ahLst/>
            <a:rect l="l" t="t" r="r" b="b"/>
            <a:pathLst>
              <a:path w="3995" h="6871">
                <a:moveTo>
                  <a:pt x="19273" y="14635"/>
                </a:moveTo>
                <a:cubicBezTo>
                  <a:pt x="19168" y="14550"/>
                  <a:pt x="19075" y="14548"/>
                  <a:pt x="18951" y="14610"/>
                </a:cubicBezTo>
                <a:cubicBezTo>
                  <a:pt x="18918" y="14635"/>
                  <a:pt x="18885" y="14659"/>
                  <a:pt x="18852" y="14684"/>
                </a:cubicBezTo>
                <a:cubicBezTo>
                  <a:pt x="18907" y="14790"/>
                  <a:pt x="19241" y="15012"/>
                  <a:pt x="19224" y="15106"/>
                </a:cubicBezTo>
                <a:cubicBezTo>
                  <a:pt x="19151" y="15179"/>
                  <a:pt x="19128" y="15203"/>
                  <a:pt x="19050" y="15180"/>
                </a:cubicBezTo>
                <a:cubicBezTo>
                  <a:pt x="19050" y="14960"/>
                  <a:pt x="19187" y="14773"/>
                  <a:pt x="19273" y="14560"/>
                </a:cubicBezTo>
                <a:cubicBezTo>
                  <a:pt x="19273" y="14552"/>
                  <a:pt x="19273" y="14544"/>
                  <a:pt x="19273" y="14536"/>
                </a:cubicBezTo>
              </a:path>
              <a:path w="3995" h="6871">
                <a:moveTo>
                  <a:pt x="19695" y="14908"/>
                </a:moveTo>
                <a:cubicBezTo>
                  <a:pt x="19642" y="14843"/>
                  <a:pt x="19570" y="14727"/>
                  <a:pt x="19447" y="14759"/>
                </a:cubicBezTo>
                <a:cubicBezTo>
                  <a:pt x="19312" y="14794"/>
                  <a:pt x="19298" y="14938"/>
                  <a:pt x="19298" y="15032"/>
                </a:cubicBezTo>
                <a:cubicBezTo>
                  <a:pt x="19470" y="15012"/>
                  <a:pt x="19497" y="14996"/>
                  <a:pt x="19596" y="14858"/>
                </a:cubicBezTo>
                <a:cubicBezTo>
                  <a:pt x="19623" y="15067"/>
                  <a:pt x="19638" y="15186"/>
                  <a:pt x="19621" y="15404"/>
                </a:cubicBezTo>
                <a:cubicBezTo>
                  <a:pt x="19609" y="15562"/>
                  <a:pt x="19549" y="15592"/>
                  <a:pt x="19670" y="15627"/>
                </a:cubicBezTo>
                <a:cubicBezTo>
                  <a:pt x="19771" y="15482"/>
                  <a:pt x="19879" y="15301"/>
                  <a:pt x="19670" y="15180"/>
                </a:cubicBezTo>
                <a:cubicBezTo>
                  <a:pt x="19654" y="15180"/>
                  <a:pt x="19637" y="15180"/>
                  <a:pt x="19621" y="15180"/>
                </a:cubicBezTo>
                <a:cubicBezTo>
                  <a:pt x="19845" y="15180"/>
                  <a:pt x="19944" y="15096"/>
                  <a:pt x="20117" y="14957"/>
                </a:cubicBezTo>
                <a:cubicBezTo>
                  <a:pt x="20139" y="14935"/>
                  <a:pt x="20150" y="14926"/>
                  <a:pt x="20117" y="14932"/>
                </a:cubicBezTo>
              </a:path>
              <a:path w="3995" h="6871">
                <a:moveTo>
                  <a:pt x="18777" y="15379"/>
                </a:moveTo>
                <a:cubicBezTo>
                  <a:pt x="19166" y="15370"/>
                  <a:pt x="19553" y="15354"/>
                  <a:pt x="19943" y="15354"/>
                </a:cubicBezTo>
                <a:cubicBezTo>
                  <a:pt x="19960" y="15354"/>
                  <a:pt x="19976" y="15354"/>
                  <a:pt x="19993" y="15354"/>
                </a:cubicBezTo>
              </a:path>
              <a:path w="3995" h="6871">
                <a:moveTo>
                  <a:pt x="19298" y="15577"/>
                </a:moveTo>
                <a:cubicBezTo>
                  <a:pt x="19167" y="15686"/>
                  <a:pt x="19131" y="15709"/>
                  <a:pt x="19075" y="15801"/>
                </a:cubicBezTo>
                <a:cubicBezTo>
                  <a:pt x="19275" y="15870"/>
                  <a:pt x="19483" y="15897"/>
                  <a:pt x="19670" y="15999"/>
                </a:cubicBezTo>
                <a:cubicBezTo>
                  <a:pt x="19526" y="16075"/>
                  <a:pt x="19320" y="16129"/>
                  <a:pt x="19447" y="15875"/>
                </a:cubicBezTo>
                <a:cubicBezTo>
                  <a:pt x="19460" y="15849"/>
                  <a:pt x="19672" y="15581"/>
                  <a:pt x="19496" y="15652"/>
                </a:cubicBezTo>
              </a:path>
              <a:path w="3995" h="6871">
                <a:moveTo>
                  <a:pt x="21034" y="15429"/>
                </a:moveTo>
                <a:cubicBezTo>
                  <a:pt x="21408" y="15429"/>
                  <a:pt x="21778" y="15408"/>
                  <a:pt x="22151" y="15379"/>
                </a:cubicBezTo>
                <a:cubicBezTo>
                  <a:pt x="22233" y="15373"/>
                  <a:pt x="22439" y="15320"/>
                  <a:pt x="22498" y="15379"/>
                </a:cubicBezTo>
              </a:path>
              <a:path w="3995" h="6871">
                <a:moveTo>
                  <a:pt x="22002" y="15577"/>
                </a:moveTo>
                <a:cubicBezTo>
                  <a:pt x="21848" y="15609"/>
                  <a:pt x="21728" y="15639"/>
                  <a:pt x="21580" y="15701"/>
                </a:cubicBezTo>
                <a:cubicBezTo>
                  <a:pt x="21753" y="15770"/>
                  <a:pt x="21927" y="15834"/>
                  <a:pt x="22101" y="15900"/>
                </a:cubicBezTo>
                <a:cubicBezTo>
                  <a:pt x="22053" y="15960"/>
                  <a:pt x="21758" y="16123"/>
                  <a:pt x="21853" y="15900"/>
                </a:cubicBezTo>
                <a:cubicBezTo>
                  <a:pt x="21948" y="15679"/>
                  <a:pt x="22152" y="15656"/>
                  <a:pt x="21853" y="15577"/>
                </a:cubicBezTo>
              </a:path>
              <a:path w="3995" h="6871">
                <a:moveTo>
                  <a:pt x="18926" y="14436"/>
                </a:moveTo>
                <a:cubicBezTo>
                  <a:pt x="18908" y="14497"/>
                  <a:pt x="18941" y="14632"/>
                  <a:pt x="18976" y="14734"/>
                </a:cubicBezTo>
                <a:cubicBezTo>
                  <a:pt x="19082" y="15046"/>
                  <a:pt x="19133" y="15350"/>
                  <a:pt x="19174" y="15677"/>
                </a:cubicBezTo>
                <a:cubicBezTo>
                  <a:pt x="19199" y="15872"/>
                  <a:pt x="19251" y="16056"/>
                  <a:pt x="19298" y="16247"/>
                </a:cubicBezTo>
                <a:cubicBezTo>
                  <a:pt x="19316" y="16321"/>
                  <a:pt x="19325" y="16384"/>
                  <a:pt x="19348" y="16446"/>
                </a:cubicBezTo>
              </a:path>
              <a:path w="3995" h="6871">
                <a:moveTo>
                  <a:pt x="19273" y="17165"/>
                </a:moveTo>
                <a:cubicBezTo>
                  <a:pt x="19241" y="17126"/>
                  <a:pt x="19164" y="16982"/>
                  <a:pt x="19075" y="17041"/>
                </a:cubicBezTo>
                <a:cubicBezTo>
                  <a:pt x="18944" y="17128"/>
                  <a:pt x="18944" y="17306"/>
                  <a:pt x="18926" y="17438"/>
                </a:cubicBezTo>
                <a:cubicBezTo>
                  <a:pt x="19067" y="17437"/>
                  <a:pt x="19153" y="17354"/>
                  <a:pt x="19224" y="17214"/>
                </a:cubicBezTo>
                <a:cubicBezTo>
                  <a:pt x="19224" y="17206"/>
                  <a:pt x="19224" y="17198"/>
                  <a:pt x="19224" y="17190"/>
                </a:cubicBezTo>
                <a:cubicBezTo>
                  <a:pt x="19216" y="17423"/>
                  <a:pt x="19177" y="17609"/>
                  <a:pt x="19124" y="17835"/>
                </a:cubicBezTo>
                <a:cubicBezTo>
                  <a:pt x="19081" y="18033"/>
                  <a:pt x="19068" y="18082"/>
                  <a:pt x="19050" y="18207"/>
                </a:cubicBezTo>
                <a:cubicBezTo>
                  <a:pt x="19200" y="18230"/>
                  <a:pt x="19245" y="17994"/>
                  <a:pt x="19248" y="17859"/>
                </a:cubicBezTo>
                <a:cubicBezTo>
                  <a:pt x="19251" y="17713"/>
                  <a:pt x="19187" y="17659"/>
                  <a:pt x="19100" y="17562"/>
                </a:cubicBezTo>
                <a:cubicBezTo>
                  <a:pt x="19220" y="17572"/>
                  <a:pt x="19371" y="17532"/>
                  <a:pt x="19496" y="17462"/>
                </a:cubicBezTo>
                <a:cubicBezTo>
                  <a:pt x="19515" y="17451"/>
                  <a:pt x="19630" y="17363"/>
                  <a:pt x="19670" y="17338"/>
                </a:cubicBezTo>
              </a:path>
              <a:path w="3995" h="6871">
                <a:moveTo>
                  <a:pt x="20315" y="16991"/>
                </a:moveTo>
                <a:cubicBezTo>
                  <a:pt x="20407" y="16991"/>
                  <a:pt x="20434" y="16989"/>
                  <a:pt x="20489" y="17016"/>
                </a:cubicBezTo>
              </a:path>
              <a:path w="3995" h="6871">
                <a:moveTo>
                  <a:pt x="20315" y="17239"/>
                </a:moveTo>
                <a:cubicBezTo>
                  <a:pt x="20422" y="17239"/>
                  <a:pt x="20447" y="17239"/>
                  <a:pt x="20513" y="17239"/>
                </a:cubicBezTo>
              </a:path>
              <a:path w="3995" h="6871">
                <a:moveTo>
                  <a:pt x="19447" y="12328"/>
                </a:moveTo>
                <a:cubicBezTo>
                  <a:pt x="19429" y="12462"/>
                  <a:pt x="19394" y="12596"/>
                  <a:pt x="19348" y="12725"/>
                </a:cubicBezTo>
                <a:cubicBezTo>
                  <a:pt x="19504" y="12716"/>
                  <a:pt x="19632" y="12702"/>
                  <a:pt x="19769" y="12626"/>
                </a:cubicBezTo>
              </a:path>
              <a:path w="3995" h="6871">
                <a:moveTo>
                  <a:pt x="19720" y="12303"/>
                </a:moveTo>
                <a:cubicBezTo>
                  <a:pt x="19679" y="12510"/>
                  <a:pt x="19637" y="12716"/>
                  <a:pt x="19596" y="12923"/>
                </a:cubicBezTo>
              </a:path>
              <a:path w="3995" h="6871">
                <a:moveTo>
                  <a:pt x="19993" y="12278"/>
                </a:moveTo>
                <a:cubicBezTo>
                  <a:pt x="20172" y="12401"/>
                  <a:pt x="20395" y="12581"/>
                  <a:pt x="20092" y="12750"/>
                </a:cubicBezTo>
                <a:cubicBezTo>
                  <a:pt x="19991" y="12769"/>
                  <a:pt x="19961" y="12799"/>
                  <a:pt x="19943" y="12725"/>
                </a:cubicBezTo>
                <a:cubicBezTo>
                  <a:pt x="20117" y="12603"/>
                  <a:pt x="20073" y="12715"/>
                  <a:pt x="20241" y="12774"/>
                </a:cubicBezTo>
                <a:cubicBezTo>
                  <a:pt x="20257" y="12774"/>
                  <a:pt x="20274" y="12774"/>
                  <a:pt x="20290" y="12774"/>
                </a:cubicBezTo>
              </a:path>
              <a:path w="3995" h="6871">
                <a:moveTo>
                  <a:pt x="20464" y="12229"/>
                </a:moveTo>
                <a:cubicBezTo>
                  <a:pt x="20415" y="12441"/>
                  <a:pt x="20411" y="12501"/>
                  <a:pt x="20489" y="12700"/>
                </a:cubicBezTo>
                <a:cubicBezTo>
                  <a:pt x="20653" y="12669"/>
                  <a:pt x="20837" y="12508"/>
                  <a:pt x="20687" y="12303"/>
                </a:cubicBezTo>
                <a:cubicBezTo>
                  <a:pt x="20646" y="12287"/>
                  <a:pt x="20604" y="12270"/>
                  <a:pt x="20563" y="12254"/>
                </a:cubicBezTo>
              </a:path>
              <a:path w="3995" h="6871">
                <a:moveTo>
                  <a:pt x="19149" y="12948"/>
                </a:moveTo>
                <a:cubicBezTo>
                  <a:pt x="19141" y="12806"/>
                  <a:pt x="19117" y="12669"/>
                  <a:pt x="19100" y="12526"/>
                </a:cubicBezTo>
                <a:cubicBezTo>
                  <a:pt x="19079" y="12336"/>
                  <a:pt x="19070" y="12295"/>
                  <a:pt x="19075" y="12179"/>
                </a:cubicBezTo>
                <a:cubicBezTo>
                  <a:pt x="19359" y="12122"/>
                  <a:pt x="19792" y="12117"/>
                  <a:pt x="20092" y="12105"/>
                </a:cubicBezTo>
                <a:cubicBezTo>
                  <a:pt x="20313" y="12096"/>
                  <a:pt x="20809" y="12065"/>
                  <a:pt x="21010" y="12129"/>
                </a:cubicBezTo>
              </a:path>
              <a:path w="3995" h="6871">
                <a:moveTo>
                  <a:pt x="18728" y="12353"/>
                </a:moveTo>
                <a:cubicBezTo>
                  <a:pt x="18611" y="12377"/>
                  <a:pt x="18575" y="12380"/>
                  <a:pt x="18529" y="12452"/>
                </a:cubicBezTo>
                <a:cubicBezTo>
                  <a:pt x="18545" y="12728"/>
                  <a:pt x="18770" y="12639"/>
                  <a:pt x="18876" y="12849"/>
                </a:cubicBezTo>
                <a:cubicBezTo>
                  <a:pt x="18868" y="12874"/>
                  <a:pt x="18860" y="12898"/>
                  <a:pt x="18852" y="12923"/>
                </a:cubicBezTo>
                <a:cubicBezTo>
                  <a:pt x="18584" y="12990"/>
                  <a:pt x="18630" y="12833"/>
                  <a:pt x="18752" y="12626"/>
                </a:cubicBezTo>
                <a:cubicBezTo>
                  <a:pt x="18807" y="12553"/>
                  <a:pt x="18832" y="12553"/>
                  <a:pt x="18827" y="12502"/>
                </a:cubicBezTo>
              </a:path>
              <a:path w="3995" h="6871">
                <a:moveTo>
                  <a:pt x="20042" y="11410"/>
                </a:moveTo>
                <a:cubicBezTo>
                  <a:pt x="20003" y="11428"/>
                  <a:pt x="19889" y="11456"/>
                  <a:pt x="19869" y="11485"/>
                </a:cubicBezTo>
                <a:cubicBezTo>
                  <a:pt x="19837" y="11532"/>
                  <a:pt x="19844" y="11597"/>
                  <a:pt x="19844" y="11658"/>
                </a:cubicBezTo>
                <a:cubicBezTo>
                  <a:pt x="19844" y="11666"/>
                  <a:pt x="19844" y="11675"/>
                  <a:pt x="19844" y="11683"/>
                </a:cubicBezTo>
                <a:cubicBezTo>
                  <a:pt x="19902" y="11639"/>
                  <a:pt x="19995" y="11609"/>
                  <a:pt x="20067" y="11658"/>
                </a:cubicBezTo>
                <a:cubicBezTo>
                  <a:pt x="20226" y="11767"/>
                  <a:pt x="20039" y="11870"/>
                  <a:pt x="19943" y="11881"/>
                </a:cubicBezTo>
                <a:cubicBezTo>
                  <a:pt x="19935" y="11881"/>
                  <a:pt x="19926" y="11881"/>
                  <a:pt x="19918" y="11881"/>
                </a:cubicBezTo>
              </a:path>
              <a:path w="3995" h="6871">
                <a:moveTo>
                  <a:pt x="19496" y="13072"/>
                </a:moveTo>
                <a:cubicBezTo>
                  <a:pt x="19507" y="13177"/>
                  <a:pt x="19478" y="13216"/>
                  <a:pt x="19397" y="13295"/>
                </a:cubicBezTo>
                <a:cubicBezTo>
                  <a:pt x="19533" y="13177"/>
                  <a:pt x="19595" y="13313"/>
                  <a:pt x="19720" y="13271"/>
                </a:cubicBezTo>
                <a:cubicBezTo>
                  <a:pt x="19728" y="13254"/>
                  <a:pt x="19737" y="13238"/>
                  <a:pt x="19745" y="13221"/>
                </a:cubicBezTo>
              </a:path>
              <a:path w="3995" h="6871">
                <a:moveTo>
                  <a:pt x="19745" y="12998"/>
                </a:moveTo>
                <a:cubicBezTo>
                  <a:pt x="19736" y="13148"/>
                  <a:pt x="19709" y="13295"/>
                  <a:pt x="19695" y="13444"/>
                </a:cubicBezTo>
              </a:path>
              <a:path w="3995" h="6871">
                <a:moveTo>
                  <a:pt x="20117" y="12973"/>
                </a:moveTo>
                <a:cubicBezTo>
                  <a:pt x="20083" y="13041"/>
                  <a:pt x="20057" y="13099"/>
                  <a:pt x="20042" y="13171"/>
                </a:cubicBezTo>
                <a:cubicBezTo>
                  <a:pt x="20112" y="13202"/>
                  <a:pt x="20279" y="13141"/>
                  <a:pt x="20166" y="13047"/>
                </a:cubicBezTo>
                <a:cubicBezTo>
                  <a:pt x="20101" y="13025"/>
                  <a:pt x="20086" y="13017"/>
                  <a:pt x="20042" y="13022"/>
                </a:cubicBezTo>
              </a:path>
              <a:path w="3995" h="6871">
                <a:moveTo>
                  <a:pt x="19596" y="13519"/>
                </a:moveTo>
                <a:cubicBezTo>
                  <a:pt x="19784" y="13476"/>
                  <a:pt x="19974" y="13418"/>
                  <a:pt x="20166" y="13395"/>
                </a:cubicBezTo>
              </a:path>
              <a:path w="3995" h="6871">
                <a:moveTo>
                  <a:pt x="20141" y="13519"/>
                </a:moveTo>
                <a:cubicBezTo>
                  <a:pt x="20175" y="13508"/>
                  <a:pt x="20369" y="13456"/>
                  <a:pt x="20315" y="13568"/>
                </a:cubicBezTo>
                <a:cubicBezTo>
                  <a:pt x="20244" y="13662"/>
                  <a:pt x="20224" y="13691"/>
                  <a:pt x="20166" y="13742"/>
                </a:cubicBezTo>
                <a:cubicBezTo>
                  <a:pt x="20158" y="13750"/>
                  <a:pt x="20149" y="13759"/>
                  <a:pt x="20141" y="13767"/>
                </a:cubicBezTo>
                <a:cubicBezTo>
                  <a:pt x="20271" y="13780"/>
                  <a:pt x="20383" y="13767"/>
                  <a:pt x="20513" y="13767"/>
                </a:cubicBezTo>
              </a:path>
              <a:path w="3995" h="6871">
                <a:moveTo>
                  <a:pt x="20638" y="12725"/>
                </a:moveTo>
                <a:cubicBezTo>
                  <a:pt x="20644" y="12898"/>
                  <a:pt x="20642" y="13082"/>
                  <a:pt x="20687" y="13246"/>
                </a:cubicBezTo>
              </a:path>
              <a:path w="3995" h="6871">
                <a:moveTo>
                  <a:pt x="20737" y="13444"/>
                </a:moveTo>
                <a:cubicBezTo>
                  <a:pt x="20659" y="13444"/>
                  <a:pt x="20557" y="13482"/>
                  <a:pt x="20588" y="13593"/>
                </a:cubicBezTo>
                <a:cubicBezTo>
                  <a:pt x="20629" y="13741"/>
                  <a:pt x="20799" y="13687"/>
                  <a:pt x="20836" y="13568"/>
                </a:cubicBezTo>
                <a:cubicBezTo>
                  <a:pt x="20836" y="13502"/>
                  <a:pt x="20844" y="13477"/>
                  <a:pt x="20786" y="13494"/>
                </a:cubicBezTo>
              </a:path>
              <a:path w="3995" h="6871">
                <a:moveTo>
                  <a:pt x="20439" y="11509"/>
                </a:moveTo>
                <a:cubicBezTo>
                  <a:pt x="20454" y="11437"/>
                  <a:pt x="20485" y="11399"/>
                  <a:pt x="20563" y="11385"/>
                </a:cubicBezTo>
                <a:cubicBezTo>
                  <a:pt x="20612" y="11376"/>
                  <a:pt x="20620" y="11385"/>
                  <a:pt x="20638" y="11410"/>
                </a:cubicBezTo>
                <a:cubicBezTo>
                  <a:pt x="20677" y="11464"/>
                  <a:pt x="20672" y="11522"/>
                  <a:pt x="20638" y="11584"/>
                </a:cubicBezTo>
                <a:cubicBezTo>
                  <a:pt x="20585" y="11683"/>
                  <a:pt x="20485" y="11770"/>
                  <a:pt x="20414" y="11857"/>
                </a:cubicBezTo>
                <a:cubicBezTo>
                  <a:pt x="20384" y="11886"/>
                  <a:pt x="20373" y="11900"/>
                  <a:pt x="20365" y="11931"/>
                </a:cubicBezTo>
                <a:cubicBezTo>
                  <a:pt x="20365" y="11975"/>
                  <a:pt x="20422" y="11862"/>
                  <a:pt x="20464" y="11832"/>
                </a:cubicBezTo>
                <a:cubicBezTo>
                  <a:pt x="20511" y="11798"/>
                  <a:pt x="20612" y="11835"/>
                  <a:pt x="20662" y="11857"/>
                </a:cubicBezTo>
                <a:cubicBezTo>
                  <a:pt x="20692" y="11886"/>
                  <a:pt x="20707" y="11891"/>
                  <a:pt x="20737" y="11857"/>
                </a:cubicBezTo>
              </a:path>
              <a:path w="3995" h="6871">
                <a:moveTo>
                  <a:pt x="20439" y="13841"/>
                </a:moveTo>
                <a:cubicBezTo>
                  <a:pt x="20449" y="13910"/>
                  <a:pt x="20476" y="13974"/>
                  <a:pt x="20489" y="14039"/>
                </a:cubicBezTo>
              </a:path>
              <a:path w="3995" h="6871">
                <a:moveTo>
                  <a:pt x="20662" y="13816"/>
                </a:moveTo>
                <a:cubicBezTo>
                  <a:pt x="20671" y="13860"/>
                  <a:pt x="20691" y="13941"/>
                  <a:pt x="20737" y="13965"/>
                </a:cubicBezTo>
                <a:cubicBezTo>
                  <a:pt x="20842" y="14021"/>
                  <a:pt x="20911" y="13995"/>
                  <a:pt x="20960" y="13891"/>
                </a:cubicBezTo>
                <a:cubicBezTo>
                  <a:pt x="20960" y="13883"/>
                  <a:pt x="20960" y="13874"/>
                  <a:pt x="20960" y="13866"/>
                </a:cubicBezTo>
                <a:cubicBezTo>
                  <a:pt x="20848" y="13880"/>
                  <a:pt x="20837" y="13909"/>
                  <a:pt x="20861" y="14015"/>
                </a:cubicBezTo>
              </a:path>
              <a:path w="3995" h="6871">
                <a:moveTo>
                  <a:pt x="20513" y="14139"/>
                </a:moveTo>
                <a:cubicBezTo>
                  <a:pt x="20690" y="14113"/>
                  <a:pt x="20863" y="14080"/>
                  <a:pt x="21034" y="14039"/>
                </a:cubicBezTo>
                <a:cubicBezTo>
                  <a:pt x="21042" y="14039"/>
                  <a:pt x="21051" y="14039"/>
                  <a:pt x="21059" y="14039"/>
                </a:cubicBezTo>
              </a:path>
              <a:path w="3995" h="6871">
                <a:moveTo>
                  <a:pt x="21084" y="14139"/>
                </a:moveTo>
                <a:cubicBezTo>
                  <a:pt x="21032" y="14156"/>
                  <a:pt x="21038" y="14229"/>
                  <a:pt x="21034" y="14288"/>
                </a:cubicBezTo>
                <a:cubicBezTo>
                  <a:pt x="21034" y="14296"/>
                  <a:pt x="21034" y="14304"/>
                  <a:pt x="21034" y="14312"/>
                </a:cubicBezTo>
                <a:cubicBezTo>
                  <a:pt x="21136" y="14305"/>
                  <a:pt x="21356" y="14320"/>
                  <a:pt x="21282" y="14163"/>
                </a:cubicBezTo>
                <a:cubicBezTo>
                  <a:pt x="21266" y="14147"/>
                  <a:pt x="21249" y="14130"/>
                  <a:pt x="21233" y="14114"/>
                </a:cubicBezTo>
              </a:path>
              <a:path w="3995" h="6871">
                <a:moveTo>
                  <a:pt x="21183" y="14089"/>
                </a:moveTo>
                <a:cubicBezTo>
                  <a:pt x="21191" y="14206"/>
                  <a:pt x="21200" y="14327"/>
                  <a:pt x="21233" y="14436"/>
                </a:cubicBezTo>
              </a:path>
              <a:path w="3995" h="6871">
                <a:moveTo>
                  <a:pt x="21059" y="12626"/>
                </a:moveTo>
                <a:lnTo>
                  <a:pt x="21059" y="12626"/>
                </a:lnTo>
              </a:path>
              <a:path w="3995" h="6871">
                <a:moveTo>
                  <a:pt x="21034" y="11906"/>
                </a:moveTo>
                <a:cubicBezTo>
                  <a:pt x="21026" y="11898"/>
                  <a:pt x="21018" y="11889"/>
                  <a:pt x="21010" y="11881"/>
                </a:cubicBezTo>
              </a:path>
              <a:path w="3995" h="6871">
                <a:moveTo>
                  <a:pt x="21332" y="12204"/>
                </a:moveTo>
                <a:cubicBezTo>
                  <a:pt x="21225" y="12390"/>
                  <a:pt x="21158" y="12487"/>
                  <a:pt x="21307" y="12650"/>
                </a:cubicBezTo>
                <a:cubicBezTo>
                  <a:pt x="21428" y="12580"/>
                  <a:pt x="21604" y="12427"/>
                  <a:pt x="21382" y="12303"/>
                </a:cubicBezTo>
                <a:cubicBezTo>
                  <a:pt x="21357" y="12303"/>
                  <a:pt x="21332" y="12303"/>
                  <a:pt x="21307" y="12303"/>
                </a:cubicBezTo>
              </a:path>
              <a:path w="3995" h="6871">
                <a:moveTo>
                  <a:pt x="21382" y="12750"/>
                </a:moveTo>
                <a:cubicBezTo>
                  <a:pt x="21334" y="12978"/>
                  <a:pt x="21293" y="13210"/>
                  <a:pt x="21307" y="13444"/>
                </a:cubicBezTo>
                <a:cubicBezTo>
                  <a:pt x="21315" y="13573"/>
                  <a:pt x="21359" y="13652"/>
                  <a:pt x="21382" y="13767"/>
                </a:cubicBezTo>
              </a:path>
              <a:path w="3995" h="6871">
                <a:moveTo>
                  <a:pt x="21530" y="14064"/>
                </a:moveTo>
                <a:cubicBezTo>
                  <a:pt x="21490" y="14122"/>
                  <a:pt x="21367" y="14318"/>
                  <a:pt x="21530" y="14337"/>
                </a:cubicBezTo>
                <a:cubicBezTo>
                  <a:pt x="21637" y="14349"/>
                  <a:pt x="21814" y="14225"/>
                  <a:pt x="21704" y="14139"/>
                </a:cubicBezTo>
                <a:cubicBezTo>
                  <a:pt x="21679" y="14122"/>
                  <a:pt x="21655" y="14106"/>
                  <a:pt x="21630" y="14089"/>
                </a:cubicBezTo>
              </a:path>
              <a:path w="3995" h="6871">
                <a:moveTo>
                  <a:pt x="21357" y="11361"/>
                </a:moveTo>
                <a:cubicBezTo>
                  <a:pt x="21266" y="11361"/>
                  <a:pt x="21175" y="11361"/>
                  <a:pt x="21084" y="11361"/>
                </a:cubicBezTo>
                <a:cubicBezTo>
                  <a:pt x="21084" y="11455"/>
                  <a:pt x="21117" y="11541"/>
                  <a:pt x="21134" y="11633"/>
                </a:cubicBezTo>
                <a:cubicBezTo>
                  <a:pt x="21134" y="11641"/>
                  <a:pt x="21134" y="11650"/>
                  <a:pt x="21134" y="11658"/>
                </a:cubicBezTo>
                <a:cubicBezTo>
                  <a:pt x="21240" y="11643"/>
                  <a:pt x="21364" y="11591"/>
                  <a:pt x="21456" y="11683"/>
                </a:cubicBezTo>
                <a:cubicBezTo>
                  <a:pt x="21592" y="11819"/>
                  <a:pt x="21245" y="11895"/>
                  <a:pt x="21183" y="119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76760" y="5081760"/>
            <a:ext cx="260280" cy="669600"/>
          </a:xfrm>
          <a:custGeom>
            <a:avLst/>
            <a:gdLst/>
            <a:ahLst/>
            <a:rect l="l" t="t" r="r" b="b"/>
            <a:pathLst>
              <a:path w="721" h="1861">
                <a:moveTo>
                  <a:pt x="10517" y="14114"/>
                </a:moveTo>
                <a:cubicBezTo>
                  <a:pt x="10458" y="14134"/>
                  <a:pt x="10628" y="14638"/>
                  <a:pt x="10641" y="14684"/>
                </a:cubicBezTo>
                <a:cubicBezTo>
                  <a:pt x="10681" y="14824"/>
                  <a:pt x="10698" y="14846"/>
                  <a:pt x="10691" y="14932"/>
                </a:cubicBezTo>
                <a:cubicBezTo>
                  <a:pt x="10671" y="14834"/>
                  <a:pt x="10642" y="14737"/>
                  <a:pt x="10691" y="14635"/>
                </a:cubicBezTo>
                <a:cubicBezTo>
                  <a:pt x="10779" y="14451"/>
                  <a:pt x="10924" y="14633"/>
                  <a:pt x="10964" y="14734"/>
                </a:cubicBezTo>
                <a:cubicBezTo>
                  <a:pt x="10988" y="14794"/>
                  <a:pt x="10988" y="14828"/>
                  <a:pt x="10988" y="14883"/>
                </a:cubicBezTo>
              </a:path>
              <a:path w="721" h="1861">
                <a:moveTo>
                  <a:pt x="10542" y="15180"/>
                </a:moveTo>
                <a:cubicBezTo>
                  <a:pt x="10753" y="15127"/>
                  <a:pt x="10973" y="15035"/>
                  <a:pt x="11187" y="15007"/>
                </a:cubicBezTo>
                <a:cubicBezTo>
                  <a:pt x="11195" y="15007"/>
                  <a:pt x="11204" y="15007"/>
                  <a:pt x="11212" y="15007"/>
                </a:cubicBezTo>
              </a:path>
              <a:path w="721" h="1861">
                <a:moveTo>
                  <a:pt x="10815" y="15354"/>
                </a:moveTo>
                <a:cubicBezTo>
                  <a:pt x="10815" y="15269"/>
                  <a:pt x="10850" y="15469"/>
                  <a:pt x="10864" y="15553"/>
                </a:cubicBezTo>
                <a:cubicBezTo>
                  <a:pt x="10884" y="15734"/>
                  <a:pt x="10893" y="15767"/>
                  <a:pt x="10889" y="15875"/>
                </a:cubicBezTo>
                <a:cubicBezTo>
                  <a:pt x="10889" y="15925"/>
                  <a:pt x="10889" y="15826"/>
                  <a:pt x="10889" y="15776"/>
                </a:cubicBezTo>
                <a:cubicBezTo>
                  <a:pt x="10889" y="15650"/>
                  <a:pt x="11052" y="15611"/>
                  <a:pt x="11137" y="15701"/>
                </a:cubicBezTo>
                <a:cubicBezTo>
                  <a:pt x="11227" y="15795"/>
                  <a:pt x="11105" y="15945"/>
                  <a:pt x="11013" y="15974"/>
                </a:cubicBezTo>
                <a:cubicBezTo>
                  <a:pt x="10990" y="15981"/>
                  <a:pt x="10940" y="15974"/>
                  <a:pt x="10914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9080" y="4991040"/>
            <a:ext cx="536760" cy="849240"/>
          </a:xfrm>
          <a:custGeom>
            <a:avLst/>
            <a:gdLst/>
            <a:ahLst/>
            <a:rect l="l" t="t" r="r" b="b"/>
            <a:pathLst>
              <a:path w="1489" h="2357">
                <a:moveTo>
                  <a:pt x="12328" y="14858"/>
                </a:moveTo>
                <a:cubicBezTo>
                  <a:pt x="12179" y="14858"/>
                  <a:pt x="12576" y="14850"/>
                  <a:pt x="12725" y="14858"/>
                </a:cubicBezTo>
                <a:cubicBezTo>
                  <a:pt x="13072" y="14876"/>
                  <a:pt x="13422" y="14903"/>
                  <a:pt x="13767" y="14932"/>
                </a:cubicBezTo>
                <a:cubicBezTo>
                  <a:pt x="13775" y="14932"/>
                  <a:pt x="13783" y="14932"/>
                  <a:pt x="13791" y="14932"/>
                </a:cubicBezTo>
              </a:path>
              <a:path w="1489" h="2357">
                <a:moveTo>
                  <a:pt x="12601" y="14039"/>
                </a:moveTo>
                <a:cubicBezTo>
                  <a:pt x="12641" y="14139"/>
                  <a:pt x="12529" y="14107"/>
                  <a:pt x="12700" y="14015"/>
                </a:cubicBezTo>
                <a:cubicBezTo>
                  <a:pt x="13026" y="13838"/>
                  <a:pt x="13058" y="14267"/>
                  <a:pt x="12898" y="14461"/>
                </a:cubicBezTo>
                <a:cubicBezTo>
                  <a:pt x="12782" y="14602"/>
                  <a:pt x="12635" y="14621"/>
                  <a:pt x="12526" y="14560"/>
                </a:cubicBezTo>
                <a:cubicBezTo>
                  <a:pt x="12693" y="14450"/>
                  <a:pt x="12804" y="14452"/>
                  <a:pt x="12998" y="14536"/>
                </a:cubicBezTo>
                <a:cubicBezTo>
                  <a:pt x="13006" y="14544"/>
                  <a:pt x="13014" y="14552"/>
                  <a:pt x="13022" y="14560"/>
                </a:cubicBezTo>
              </a:path>
              <a:path w="1489" h="2357">
                <a:moveTo>
                  <a:pt x="13171" y="13866"/>
                </a:moveTo>
                <a:cubicBezTo>
                  <a:pt x="13303" y="13940"/>
                  <a:pt x="13283" y="14199"/>
                  <a:pt x="13320" y="14362"/>
                </a:cubicBezTo>
                <a:cubicBezTo>
                  <a:pt x="13328" y="14387"/>
                  <a:pt x="13337" y="14411"/>
                  <a:pt x="13345" y="14436"/>
                </a:cubicBezTo>
              </a:path>
              <a:path w="1489" h="2357">
                <a:moveTo>
                  <a:pt x="13271" y="15577"/>
                </a:moveTo>
                <a:cubicBezTo>
                  <a:pt x="13255" y="15481"/>
                  <a:pt x="13129" y="15486"/>
                  <a:pt x="13047" y="15553"/>
                </a:cubicBezTo>
                <a:cubicBezTo>
                  <a:pt x="13022" y="15586"/>
                  <a:pt x="12998" y="15619"/>
                  <a:pt x="12973" y="15652"/>
                </a:cubicBezTo>
                <a:cubicBezTo>
                  <a:pt x="13079" y="15804"/>
                  <a:pt x="13376" y="15872"/>
                  <a:pt x="13444" y="16049"/>
                </a:cubicBezTo>
                <a:cubicBezTo>
                  <a:pt x="13504" y="16205"/>
                  <a:pt x="13328" y="16209"/>
                  <a:pt x="13246" y="16222"/>
                </a:cubicBezTo>
                <a:cubicBezTo>
                  <a:pt x="13204" y="15971"/>
                  <a:pt x="13376" y="15906"/>
                  <a:pt x="13469" y="15677"/>
                </a:cubicBezTo>
                <a:cubicBezTo>
                  <a:pt x="13482" y="15645"/>
                  <a:pt x="13420" y="15676"/>
                  <a:pt x="13395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22960" y="5081760"/>
            <a:ext cx="1062000" cy="687240"/>
          </a:xfrm>
          <a:custGeom>
            <a:avLst/>
            <a:gdLst/>
            <a:ahLst/>
            <a:rect l="l" t="t" r="r" b="b"/>
            <a:pathLst>
              <a:path w="2952" h="1911">
                <a:moveTo>
                  <a:pt x="14784" y="14660"/>
                </a:moveTo>
                <a:cubicBezTo>
                  <a:pt x="14929" y="14660"/>
                  <a:pt x="15063" y="14654"/>
                  <a:pt x="15205" y="14635"/>
                </a:cubicBezTo>
                <a:cubicBezTo>
                  <a:pt x="15248" y="14635"/>
                  <a:pt x="15250" y="14652"/>
                  <a:pt x="15205" y="14709"/>
                </a:cubicBezTo>
              </a:path>
              <a:path w="2952" h="1911">
                <a:moveTo>
                  <a:pt x="14858" y="15056"/>
                </a:moveTo>
                <a:cubicBezTo>
                  <a:pt x="15001" y="15039"/>
                  <a:pt x="15136" y="15032"/>
                  <a:pt x="15280" y="15032"/>
                </a:cubicBezTo>
              </a:path>
              <a:path w="2952" h="1911">
                <a:moveTo>
                  <a:pt x="16024" y="14957"/>
                </a:moveTo>
                <a:cubicBezTo>
                  <a:pt x="16136" y="14889"/>
                  <a:pt x="16394" y="14888"/>
                  <a:pt x="16520" y="14883"/>
                </a:cubicBezTo>
                <a:cubicBezTo>
                  <a:pt x="16909" y="14868"/>
                  <a:pt x="17300" y="14881"/>
                  <a:pt x="17686" y="14908"/>
                </a:cubicBezTo>
                <a:cubicBezTo>
                  <a:pt x="17711" y="14908"/>
                  <a:pt x="17719" y="14908"/>
                  <a:pt x="17735" y="14908"/>
                </a:cubicBezTo>
              </a:path>
              <a:path w="2952" h="1911">
                <a:moveTo>
                  <a:pt x="16793" y="14312"/>
                </a:moveTo>
                <a:cubicBezTo>
                  <a:pt x="16758" y="14271"/>
                  <a:pt x="16722" y="14199"/>
                  <a:pt x="16669" y="14188"/>
                </a:cubicBezTo>
                <a:cubicBezTo>
                  <a:pt x="16575" y="14168"/>
                  <a:pt x="16578" y="14215"/>
                  <a:pt x="16545" y="14288"/>
                </a:cubicBezTo>
                <a:cubicBezTo>
                  <a:pt x="16525" y="14328"/>
                  <a:pt x="16516" y="14334"/>
                  <a:pt x="16520" y="14362"/>
                </a:cubicBezTo>
              </a:path>
              <a:path w="2952" h="1911">
                <a:moveTo>
                  <a:pt x="16594" y="14263"/>
                </a:moveTo>
                <a:cubicBezTo>
                  <a:pt x="16594" y="14271"/>
                  <a:pt x="16594" y="14280"/>
                  <a:pt x="16594" y="14288"/>
                </a:cubicBezTo>
              </a:path>
              <a:path w="2952" h="1911">
                <a:moveTo>
                  <a:pt x="16644" y="14436"/>
                </a:moveTo>
                <a:cubicBezTo>
                  <a:pt x="16644" y="14409"/>
                  <a:pt x="16680" y="14339"/>
                  <a:pt x="16694" y="14288"/>
                </a:cubicBezTo>
              </a:path>
              <a:path w="2952" h="1911">
                <a:moveTo>
                  <a:pt x="16718" y="14213"/>
                </a:moveTo>
                <a:cubicBezTo>
                  <a:pt x="16718" y="14205"/>
                  <a:pt x="16718" y="14196"/>
                  <a:pt x="16718" y="14188"/>
                </a:cubicBezTo>
                <a:cubicBezTo>
                  <a:pt x="16656" y="14188"/>
                  <a:pt x="16621" y="14167"/>
                  <a:pt x="16594" y="14238"/>
                </a:cubicBezTo>
                <a:cubicBezTo>
                  <a:pt x="16551" y="14352"/>
                  <a:pt x="16562" y="14428"/>
                  <a:pt x="16570" y="14536"/>
                </a:cubicBezTo>
                <a:cubicBezTo>
                  <a:pt x="16570" y="14570"/>
                  <a:pt x="16579" y="14583"/>
                  <a:pt x="16619" y="14585"/>
                </a:cubicBezTo>
                <a:cubicBezTo>
                  <a:pt x="16672" y="14577"/>
                  <a:pt x="16764" y="14535"/>
                  <a:pt x="16768" y="14486"/>
                </a:cubicBezTo>
                <a:cubicBezTo>
                  <a:pt x="16773" y="14416"/>
                  <a:pt x="16793" y="14362"/>
                  <a:pt x="16793" y="14288"/>
                </a:cubicBezTo>
                <a:cubicBezTo>
                  <a:pt x="16748" y="14392"/>
                  <a:pt x="16782" y="14516"/>
                  <a:pt x="16768" y="14635"/>
                </a:cubicBezTo>
                <a:cubicBezTo>
                  <a:pt x="16753" y="14766"/>
                  <a:pt x="16747" y="14854"/>
                  <a:pt x="16768" y="14982"/>
                </a:cubicBezTo>
                <a:cubicBezTo>
                  <a:pt x="16891" y="14926"/>
                  <a:pt x="16957" y="14860"/>
                  <a:pt x="16942" y="14709"/>
                </a:cubicBezTo>
                <a:cubicBezTo>
                  <a:pt x="16934" y="14629"/>
                  <a:pt x="16841" y="14525"/>
                  <a:pt x="16768" y="14511"/>
                </a:cubicBezTo>
                <a:cubicBezTo>
                  <a:pt x="16760" y="14511"/>
                  <a:pt x="16751" y="14511"/>
                  <a:pt x="16743" y="14511"/>
                </a:cubicBezTo>
                <a:cubicBezTo>
                  <a:pt x="16822" y="14479"/>
                  <a:pt x="16908" y="14522"/>
                  <a:pt x="16991" y="14412"/>
                </a:cubicBezTo>
                <a:cubicBezTo>
                  <a:pt x="17039" y="14348"/>
                  <a:pt x="17121" y="14171"/>
                  <a:pt x="17140" y="14114"/>
                </a:cubicBezTo>
              </a:path>
              <a:path w="2952" h="1911">
                <a:moveTo>
                  <a:pt x="16842" y="15404"/>
                </a:moveTo>
                <a:cubicBezTo>
                  <a:pt x="16813" y="15455"/>
                  <a:pt x="16819" y="15465"/>
                  <a:pt x="16768" y="15478"/>
                </a:cubicBezTo>
                <a:cubicBezTo>
                  <a:pt x="16741" y="15412"/>
                  <a:pt x="16848" y="15316"/>
                  <a:pt x="16892" y="15404"/>
                </a:cubicBezTo>
                <a:cubicBezTo>
                  <a:pt x="17006" y="15632"/>
                  <a:pt x="16810" y="15899"/>
                  <a:pt x="16619" y="15999"/>
                </a:cubicBezTo>
                <a:cubicBezTo>
                  <a:pt x="16537" y="16020"/>
                  <a:pt x="16521" y="16028"/>
                  <a:pt x="16470" y="16024"/>
                </a:cubicBezTo>
                <a:cubicBezTo>
                  <a:pt x="16471" y="15838"/>
                  <a:pt x="16644" y="15841"/>
                  <a:pt x="16818" y="15900"/>
                </a:cubicBezTo>
                <a:cubicBezTo>
                  <a:pt x="16899" y="15928"/>
                  <a:pt x="16924" y="15962"/>
                  <a:pt x="16942" y="16024"/>
                </a:cubicBezTo>
              </a:path>
              <a:path w="2952" h="1911">
                <a:moveTo>
                  <a:pt x="17314" y="15379"/>
                </a:moveTo>
                <a:cubicBezTo>
                  <a:pt x="17219" y="15332"/>
                  <a:pt x="17159" y="15525"/>
                  <a:pt x="17140" y="15602"/>
                </a:cubicBezTo>
                <a:cubicBezTo>
                  <a:pt x="17103" y="15747"/>
                  <a:pt x="17117" y="15819"/>
                  <a:pt x="17165" y="15949"/>
                </a:cubicBezTo>
                <a:cubicBezTo>
                  <a:pt x="17373" y="15901"/>
                  <a:pt x="17404" y="15807"/>
                  <a:pt x="17338" y="15602"/>
                </a:cubicBezTo>
                <a:cubicBezTo>
                  <a:pt x="17294" y="15467"/>
                  <a:pt x="17253" y="15394"/>
                  <a:pt x="17140" y="15478"/>
                </a:cubicBezTo>
              </a:path>
              <a:path w="2952" h="1911">
                <a:moveTo>
                  <a:pt x="15007" y="14585"/>
                </a:moveTo>
                <a:cubicBezTo>
                  <a:pt x="15051" y="14695"/>
                  <a:pt x="15406" y="14988"/>
                  <a:pt x="15528" y="15081"/>
                </a:cubicBezTo>
                <a:cubicBezTo>
                  <a:pt x="15718" y="15226"/>
                  <a:pt x="15993" y="15473"/>
                  <a:pt x="16222" y="15577"/>
                </a:cubicBezTo>
                <a:cubicBezTo>
                  <a:pt x="16230" y="15577"/>
                  <a:pt x="16239" y="15577"/>
                  <a:pt x="16247" y="155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86760" y="5232240"/>
            <a:ext cx="857160" cy="268560"/>
          </a:xfrm>
          <a:custGeom>
            <a:avLst/>
            <a:gdLst/>
            <a:ahLst/>
            <a:rect l="l" t="t" r="r" b="b"/>
            <a:pathLst>
              <a:path w="2382" h="745">
                <a:moveTo>
                  <a:pt x="20241" y="14808"/>
                </a:moveTo>
                <a:cubicBezTo>
                  <a:pt x="20376" y="14794"/>
                  <a:pt x="20503" y="14771"/>
                  <a:pt x="20638" y="14759"/>
                </a:cubicBezTo>
              </a:path>
              <a:path w="2382" h="745">
                <a:moveTo>
                  <a:pt x="20464" y="15056"/>
                </a:moveTo>
                <a:cubicBezTo>
                  <a:pt x="20620" y="15005"/>
                  <a:pt x="20677" y="14986"/>
                  <a:pt x="20786" y="14957"/>
                </a:cubicBezTo>
              </a:path>
              <a:path w="2382" h="745">
                <a:moveTo>
                  <a:pt x="21010" y="14635"/>
                </a:moveTo>
                <a:cubicBezTo>
                  <a:pt x="21010" y="14700"/>
                  <a:pt x="20952" y="14932"/>
                  <a:pt x="21084" y="14908"/>
                </a:cubicBezTo>
                <a:cubicBezTo>
                  <a:pt x="21216" y="14855"/>
                  <a:pt x="21264" y="14833"/>
                  <a:pt x="21332" y="14759"/>
                </a:cubicBezTo>
              </a:path>
              <a:path w="2382" h="745">
                <a:moveTo>
                  <a:pt x="21233" y="14709"/>
                </a:moveTo>
                <a:cubicBezTo>
                  <a:pt x="21269" y="14870"/>
                  <a:pt x="21301" y="15026"/>
                  <a:pt x="21357" y="15180"/>
                </a:cubicBezTo>
              </a:path>
              <a:path w="2382" h="745">
                <a:moveTo>
                  <a:pt x="21555" y="14635"/>
                </a:moveTo>
                <a:cubicBezTo>
                  <a:pt x="21756" y="14690"/>
                  <a:pt x="22087" y="14873"/>
                  <a:pt x="21903" y="15156"/>
                </a:cubicBezTo>
                <a:cubicBezTo>
                  <a:pt x="21798" y="15317"/>
                  <a:pt x="21678" y="15278"/>
                  <a:pt x="21605" y="15205"/>
                </a:cubicBezTo>
                <a:cubicBezTo>
                  <a:pt x="21821" y="15020"/>
                  <a:pt x="21790" y="15187"/>
                  <a:pt x="22027" y="15255"/>
                </a:cubicBezTo>
                <a:cubicBezTo>
                  <a:pt x="22060" y="15255"/>
                  <a:pt x="22093" y="15255"/>
                  <a:pt x="22126" y="15255"/>
                </a:cubicBezTo>
              </a:path>
              <a:path w="2382" h="745">
                <a:moveTo>
                  <a:pt x="22324" y="14759"/>
                </a:moveTo>
                <a:cubicBezTo>
                  <a:pt x="22254" y="14905"/>
                  <a:pt x="22059" y="15240"/>
                  <a:pt x="22349" y="15280"/>
                </a:cubicBezTo>
                <a:cubicBezTo>
                  <a:pt x="22616" y="15317"/>
                  <a:pt x="22595" y="15134"/>
                  <a:pt x="22622" y="14957"/>
                </a:cubicBezTo>
                <a:cubicBezTo>
                  <a:pt x="22481" y="14845"/>
                  <a:pt x="22418" y="14812"/>
                  <a:pt x="22275" y="14858"/>
                </a:cubicBezTo>
              </a:path>
              <a:path w="2382" h="745">
                <a:moveTo>
                  <a:pt x="21208" y="14536"/>
                </a:moveTo>
                <a:cubicBezTo>
                  <a:pt x="21219" y="14635"/>
                  <a:pt x="21250" y="14735"/>
                  <a:pt x="21258" y="14833"/>
                </a:cubicBezTo>
                <a:cubicBezTo>
                  <a:pt x="21258" y="14841"/>
                  <a:pt x="21258" y="14850"/>
                  <a:pt x="21258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29720" y="4010040"/>
            <a:ext cx="750600" cy="1258920"/>
          </a:xfrm>
          <a:custGeom>
            <a:avLst/>
            <a:gdLst/>
            <a:ahLst/>
            <a:rect l="l" t="t" r="r" b="b"/>
            <a:pathLst>
              <a:path w="2084" h="3499">
                <a:moveTo>
                  <a:pt x="22845" y="11361"/>
                </a:moveTo>
                <a:cubicBezTo>
                  <a:pt x="22786" y="11302"/>
                  <a:pt x="22960" y="11223"/>
                  <a:pt x="23019" y="11187"/>
                </a:cubicBezTo>
                <a:cubicBezTo>
                  <a:pt x="23217" y="11401"/>
                  <a:pt x="23134" y="11630"/>
                  <a:pt x="22870" y="11807"/>
                </a:cubicBezTo>
                <a:cubicBezTo>
                  <a:pt x="22748" y="11848"/>
                  <a:pt x="22719" y="11885"/>
                  <a:pt x="22671" y="11807"/>
                </a:cubicBezTo>
                <a:cubicBezTo>
                  <a:pt x="22784" y="11632"/>
                  <a:pt x="22913" y="11679"/>
                  <a:pt x="23093" y="11782"/>
                </a:cubicBezTo>
                <a:cubicBezTo>
                  <a:pt x="23180" y="11848"/>
                  <a:pt x="23199" y="11878"/>
                  <a:pt x="23267" y="11832"/>
                </a:cubicBezTo>
              </a:path>
              <a:path w="2084" h="3499">
                <a:moveTo>
                  <a:pt x="23540" y="11137"/>
                </a:moveTo>
                <a:cubicBezTo>
                  <a:pt x="23556" y="11364"/>
                  <a:pt x="23564" y="11558"/>
                  <a:pt x="23540" y="11782"/>
                </a:cubicBezTo>
              </a:path>
              <a:path w="2084" h="3499">
                <a:moveTo>
                  <a:pt x="22151" y="12154"/>
                </a:moveTo>
                <a:cubicBezTo>
                  <a:pt x="22224" y="12260"/>
                  <a:pt x="22289" y="12355"/>
                  <a:pt x="22374" y="12452"/>
                </a:cubicBezTo>
              </a:path>
              <a:path w="2084" h="3499">
                <a:moveTo>
                  <a:pt x="22349" y="12154"/>
                </a:moveTo>
                <a:cubicBezTo>
                  <a:pt x="22297" y="12316"/>
                  <a:pt x="22227" y="12456"/>
                  <a:pt x="22275" y="12576"/>
                </a:cubicBezTo>
              </a:path>
              <a:path w="2084" h="3499">
                <a:moveTo>
                  <a:pt x="22895" y="12204"/>
                </a:moveTo>
                <a:cubicBezTo>
                  <a:pt x="23049" y="12087"/>
                  <a:pt x="23117" y="12285"/>
                  <a:pt x="23168" y="12402"/>
                </a:cubicBezTo>
                <a:cubicBezTo>
                  <a:pt x="23002" y="12551"/>
                  <a:pt x="22946" y="12575"/>
                  <a:pt x="22721" y="12601"/>
                </a:cubicBezTo>
                <a:cubicBezTo>
                  <a:pt x="22771" y="12381"/>
                  <a:pt x="22975" y="12394"/>
                  <a:pt x="23192" y="12502"/>
                </a:cubicBezTo>
                <a:cubicBezTo>
                  <a:pt x="23209" y="12518"/>
                  <a:pt x="23225" y="12535"/>
                  <a:pt x="23242" y="12551"/>
                </a:cubicBezTo>
              </a:path>
              <a:path w="2084" h="3499">
                <a:moveTo>
                  <a:pt x="23589" y="12055"/>
                </a:moveTo>
                <a:cubicBezTo>
                  <a:pt x="23452" y="12232"/>
                  <a:pt x="23420" y="12238"/>
                  <a:pt x="23465" y="12452"/>
                </a:cubicBezTo>
                <a:cubicBezTo>
                  <a:pt x="23560" y="12448"/>
                  <a:pt x="24005" y="12273"/>
                  <a:pt x="23713" y="12154"/>
                </a:cubicBezTo>
                <a:cubicBezTo>
                  <a:pt x="23663" y="12154"/>
                  <a:pt x="23614" y="12154"/>
                  <a:pt x="23564" y="12154"/>
                </a:cubicBezTo>
              </a:path>
              <a:path w="2084" h="3499">
                <a:moveTo>
                  <a:pt x="22027" y="12774"/>
                </a:moveTo>
                <a:cubicBezTo>
                  <a:pt x="22560" y="12672"/>
                  <a:pt x="23069" y="12616"/>
                  <a:pt x="23614" y="12626"/>
                </a:cubicBezTo>
                <a:cubicBezTo>
                  <a:pt x="23890" y="12645"/>
                  <a:pt x="23939" y="12626"/>
                  <a:pt x="24085" y="12700"/>
                </a:cubicBezTo>
              </a:path>
              <a:path w="2084" h="3499">
                <a:moveTo>
                  <a:pt x="23763" y="12849"/>
                </a:moveTo>
                <a:cubicBezTo>
                  <a:pt x="23746" y="12763"/>
                  <a:pt x="23667" y="12727"/>
                  <a:pt x="23589" y="12824"/>
                </a:cubicBezTo>
                <a:cubicBezTo>
                  <a:pt x="23518" y="12968"/>
                  <a:pt x="23493" y="13012"/>
                  <a:pt x="23515" y="13122"/>
                </a:cubicBezTo>
                <a:cubicBezTo>
                  <a:pt x="23654" y="13185"/>
                  <a:pt x="24081" y="13189"/>
                  <a:pt x="23862" y="12874"/>
                </a:cubicBezTo>
                <a:cubicBezTo>
                  <a:pt x="23718" y="12816"/>
                  <a:pt x="23655" y="12799"/>
                  <a:pt x="23540" y="12824"/>
                </a:cubicBezTo>
              </a:path>
              <a:path w="2084" h="3499">
                <a:moveTo>
                  <a:pt x="22944" y="12799"/>
                </a:moveTo>
                <a:cubicBezTo>
                  <a:pt x="22979" y="12785"/>
                  <a:pt x="23089" y="12676"/>
                  <a:pt x="23143" y="12725"/>
                </a:cubicBezTo>
                <a:cubicBezTo>
                  <a:pt x="23251" y="12823"/>
                  <a:pt x="23181" y="12958"/>
                  <a:pt x="23118" y="13047"/>
                </a:cubicBezTo>
                <a:cubicBezTo>
                  <a:pt x="23100" y="12993"/>
                  <a:pt x="23100" y="13051"/>
                  <a:pt x="23118" y="12998"/>
                </a:cubicBezTo>
              </a:path>
              <a:path w="2084" h="3499">
                <a:moveTo>
                  <a:pt x="23118" y="12998"/>
                </a:moveTo>
                <a:lnTo>
                  <a:pt x="23118" y="12998"/>
                </a:lnTo>
              </a:path>
              <a:path w="2084" h="3499">
                <a:moveTo>
                  <a:pt x="23044" y="12725"/>
                </a:moveTo>
                <a:cubicBezTo>
                  <a:pt x="23028" y="12772"/>
                  <a:pt x="22968" y="12740"/>
                  <a:pt x="22920" y="12799"/>
                </a:cubicBezTo>
                <a:cubicBezTo>
                  <a:pt x="22868" y="12863"/>
                  <a:pt x="22817" y="13044"/>
                  <a:pt x="22820" y="13122"/>
                </a:cubicBezTo>
                <a:cubicBezTo>
                  <a:pt x="22828" y="13138"/>
                  <a:pt x="22837" y="13155"/>
                  <a:pt x="22845" y="13171"/>
                </a:cubicBezTo>
                <a:cubicBezTo>
                  <a:pt x="22999" y="13171"/>
                  <a:pt x="23140" y="13190"/>
                  <a:pt x="23217" y="13022"/>
                </a:cubicBezTo>
                <a:cubicBezTo>
                  <a:pt x="23285" y="12874"/>
                  <a:pt x="23162" y="12697"/>
                  <a:pt x="22994" y="12774"/>
                </a:cubicBezTo>
                <a:cubicBezTo>
                  <a:pt x="22933" y="12836"/>
                  <a:pt x="22909" y="12842"/>
                  <a:pt x="22920" y="12898"/>
                </a:cubicBezTo>
              </a:path>
              <a:path w="2084" h="3499">
                <a:moveTo>
                  <a:pt x="23788" y="13395"/>
                </a:moveTo>
                <a:cubicBezTo>
                  <a:pt x="23633" y="13292"/>
                  <a:pt x="23565" y="13406"/>
                  <a:pt x="23515" y="13568"/>
                </a:cubicBezTo>
                <a:cubicBezTo>
                  <a:pt x="23493" y="13719"/>
                  <a:pt x="23468" y="13760"/>
                  <a:pt x="23564" y="13816"/>
                </a:cubicBezTo>
                <a:cubicBezTo>
                  <a:pt x="23684" y="13785"/>
                  <a:pt x="24008" y="13705"/>
                  <a:pt x="23837" y="13494"/>
                </a:cubicBezTo>
                <a:cubicBezTo>
                  <a:pt x="23749" y="13450"/>
                  <a:pt x="23728" y="13433"/>
                  <a:pt x="23664" y="13444"/>
                </a:cubicBezTo>
              </a:path>
              <a:path w="2084" h="3499">
                <a:moveTo>
                  <a:pt x="23044" y="13419"/>
                </a:moveTo>
                <a:cubicBezTo>
                  <a:pt x="22961" y="13404"/>
                  <a:pt x="23011" y="13389"/>
                  <a:pt x="23093" y="13370"/>
                </a:cubicBezTo>
                <a:cubicBezTo>
                  <a:pt x="23134" y="13370"/>
                  <a:pt x="23176" y="13370"/>
                  <a:pt x="23217" y="13370"/>
                </a:cubicBezTo>
                <a:cubicBezTo>
                  <a:pt x="23299" y="13623"/>
                  <a:pt x="23303" y="13817"/>
                  <a:pt x="22969" y="13866"/>
                </a:cubicBezTo>
                <a:cubicBezTo>
                  <a:pt x="22944" y="13858"/>
                  <a:pt x="22920" y="13849"/>
                  <a:pt x="22895" y="13841"/>
                </a:cubicBezTo>
                <a:cubicBezTo>
                  <a:pt x="22972" y="13663"/>
                  <a:pt x="23038" y="13662"/>
                  <a:pt x="23192" y="13791"/>
                </a:cubicBezTo>
                <a:cubicBezTo>
                  <a:pt x="23209" y="13808"/>
                  <a:pt x="23225" y="13824"/>
                  <a:pt x="23242" y="13841"/>
                </a:cubicBezTo>
              </a:path>
              <a:path w="2084" h="3499">
                <a:moveTo>
                  <a:pt x="22374" y="13419"/>
                </a:moveTo>
                <a:cubicBezTo>
                  <a:pt x="22369" y="13511"/>
                  <a:pt x="22362" y="13578"/>
                  <a:pt x="22349" y="13667"/>
                </a:cubicBezTo>
                <a:cubicBezTo>
                  <a:pt x="22498" y="13655"/>
                  <a:pt x="22623" y="13640"/>
                  <a:pt x="22746" y="13568"/>
                </a:cubicBezTo>
              </a:path>
              <a:path w="2084" h="3499">
                <a:moveTo>
                  <a:pt x="22721" y="13246"/>
                </a:moveTo>
                <a:cubicBezTo>
                  <a:pt x="22692" y="13465"/>
                  <a:pt x="22709" y="13768"/>
                  <a:pt x="22622" y="13965"/>
                </a:cubicBezTo>
              </a:path>
              <a:path w="2084" h="3499">
                <a:moveTo>
                  <a:pt x="22027" y="14114"/>
                </a:moveTo>
                <a:cubicBezTo>
                  <a:pt x="22523" y="14041"/>
                  <a:pt x="23035" y="13962"/>
                  <a:pt x="23540" y="14015"/>
                </a:cubicBezTo>
                <a:cubicBezTo>
                  <a:pt x="23635" y="14025"/>
                  <a:pt x="23556" y="14061"/>
                  <a:pt x="23688" y="13990"/>
                </a:cubicBezTo>
              </a:path>
              <a:path w="2084" h="3499">
                <a:moveTo>
                  <a:pt x="22547" y="14163"/>
                </a:moveTo>
                <a:cubicBezTo>
                  <a:pt x="22497" y="14275"/>
                  <a:pt x="22448" y="14372"/>
                  <a:pt x="22423" y="14486"/>
                </a:cubicBezTo>
                <a:cubicBezTo>
                  <a:pt x="22657" y="14501"/>
                  <a:pt x="22765" y="14442"/>
                  <a:pt x="22895" y="14263"/>
                </a:cubicBezTo>
              </a:path>
              <a:path w="2084" h="3499">
                <a:moveTo>
                  <a:pt x="22820" y="14064"/>
                </a:moveTo>
                <a:cubicBezTo>
                  <a:pt x="22820" y="14259"/>
                  <a:pt x="22823" y="14442"/>
                  <a:pt x="22845" y="14635"/>
                </a:cubicBezTo>
              </a:path>
              <a:path w="2084" h="3499">
                <a:moveTo>
                  <a:pt x="23093" y="14114"/>
                </a:moveTo>
                <a:cubicBezTo>
                  <a:pt x="23258" y="14159"/>
                  <a:pt x="23637" y="14326"/>
                  <a:pt x="23416" y="14560"/>
                </a:cubicBezTo>
                <a:cubicBezTo>
                  <a:pt x="23279" y="14629"/>
                  <a:pt x="23243" y="14657"/>
                  <a:pt x="23143" y="14610"/>
                </a:cubicBezTo>
                <a:cubicBezTo>
                  <a:pt x="23219" y="14402"/>
                  <a:pt x="23356" y="14525"/>
                  <a:pt x="23540" y="14560"/>
                </a:cubicBezTo>
                <a:cubicBezTo>
                  <a:pt x="23565" y="14560"/>
                  <a:pt x="23589" y="14560"/>
                  <a:pt x="23614" y="14560"/>
                </a:cubicBezTo>
              </a:path>
              <a:path w="2084" h="3499">
                <a:moveTo>
                  <a:pt x="23862" y="14163"/>
                </a:moveTo>
                <a:cubicBezTo>
                  <a:pt x="23761" y="14424"/>
                  <a:pt x="23722" y="14413"/>
                  <a:pt x="23862" y="14635"/>
                </a:cubicBezTo>
                <a:cubicBezTo>
                  <a:pt x="24067" y="14570"/>
                  <a:pt x="24226" y="14445"/>
                  <a:pt x="23986" y="14238"/>
                </a:cubicBezTo>
                <a:cubicBezTo>
                  <a:pt x="23945" y="14221"/>
                  <a:pt x="23903" y="14205"/>
                  <a:pt x="23862" y="141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53240" y="6010200"/>
            <a:ext cx="687600" cy="276480"/>
          </a:xfrm>
          <a:custGeom>
            <a:avLst/>
            <a:gdLst/>
            <a:ahLst/>
            <a:rect l="l" t="t" r="r" b="b"/>
            <a:pathLst>
              <a:path w="1911" h="769">
                <a:moveTo>
                  <a:pt x="21605" y="16768"/>
                </a:moveTo>
                <a:cubicBezTo>
                  <a:pt x="21554" y="16785"/>
                  <a:pt x="21504" y="16822"/>
                  <a:pt x="21456" y="16842"/>
                </a:cubicBezTo>
                <a:cubicBezTo>
                  <a:pt x="21366" y="16880"/>
                  <a:pt x="21343" y="16980"/>
                  <a:pt x="21332" y="17066"/>
                </a:cubicBezTo>
                <a:cubicBezTo>
                  <a:pt x="21437" y="17066"/>
                  <a:pt x="21596" y="17063"/>
                  <a:pt x="21679" y="17140"/>
                </a:cubicBezTo>
                <a:cubicBezTo>
                  <a:pt x="21824" y="17274"/>
                  <a:pt x="21572" y="17439"/>
                  <a:pt x="21456" y="17462"/>
                </a:cubicBezTo>
                <a:cubicBezTo>
                  <a:pt x="21282" y="17497"/>
                  <a:pt x="21272" y="17475"/>
                  <a:pt x="21282" y="17363"/>
                </a:cubicBezTo>
              </a:path>
              <a:path w="1911" h="769">
                <a:moveTo>
                  <a:pt x="22002" y="16793"/>
                </a:moveTo>
                <a:cubicBezTo>
                  <a:pt x="22025" y="16863"/>
                  <a:pt x="22113" y="16750"/>
                  <a:pt x="22200" y="16917"/>
                </a:cubicBezTo>
                <a:cubicBezTo>
                  <a:pt x="22319" y="17145"/>
                  <a:pt x="22166" y="17324"/>
                  <a:pt x="21952" y="17388"/>
                </a:cubicBezTo>
                <a:cubicBezTo>
                  <a:pt x="21927" y="17388"/>
                  <a:pt x="21903" y="17388"/>
                  <a:pt x="21878" y="17388"/>
                </a:cubicBezTo>
                <a:cubicBezTo>
                  <a:pt x="21899" y="17292"/>
                  <a:pt x="21999" y="17136"/>
                  <a:pt x="22126" y="17239"/>
                </a:cubicBezTo>
                <a:cubicBezTo>
                  <a:pt x="22184" y="17286"/>
                  <a:pt x="22178" y="17398"/>
                  <a:pt x="22200" y="17462"/>
                </a:cubicBezTo>
              </a:path>
              <a:path w="1911" h="769">
                <a:moveTo>
                  <a:pt x="22473" y="17289"/>
                </a:moveTo>
                <a:cubicBezTo>
                  <a:pt x="22477" y="17325"/>
                  <a:pt x="22498" y="17445"/>
                  <a:pt x="22498" y="17338"/>
                </a:cubicBezTo>
              </a:path>
              <a:path w="1911" h="769">
                <a:moveTo>
                  <a:pt x="22969" y="16694"/>
                </a:moveTo>
                <a:cubicBezTo>
                  <a:pt x="22934" y="16713"/>
                  <a:pt x="22807" y="16768"/>
                  <a:pt x="22796" y="16793"/>
                </a:cubicBezTo>
                <a:cubicBezTo>
                  <a:pt x="22758" y="16882"/>
                  <a:pt x="22754" y="16957"/>
                  <a:pt x="22771" y="17041"/>
                </a:cubicBezTo>
                <a:cubicBezTo>
                  <a:pt x="22860" y="17023"/>
                  <a:pt x="22898" y="16979"/>
                  <a:pt x="22994" y="17016"/>
                </a:cubicBezTo>
                <a:cubicBezTo>
                  <a:pt x="23134" y="17069"/>
                  <a:pt x="23245" y="17190"/>
                  <a:pt x="23093" y="17289"/>
                </a:cubicBezTo>
                <a:cubicBezTo>
                  <a:pt x="22991" y="17356"/>
                  <a:pt x="22978" y="17329"/>
                  <a:pt x="22870" y="173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55040" y="5965920"/>
            <a:ext cx="214200" cy="276120"/>
          </a:xfrm>
          <a:custGeom>
            <a:avLst/>
            <a:gdLst/>
            <a:ahLst/>
            <a:rect l="l" t="t" r="r" b="b"/>
            <a:pathLst>
              <a:path w="596" h="769">
                <a:moveTo>
                  <a:pt x="24011" y="16718"/>
                </a:moveTo>
                <a:cubicBezTo>
                  <a:pt x="23986" y="16669"/>
                  <a:pt x="23978" y="16653"/>
                  <a:pt x="23937" y="16644"/>
                </a:cubicBezTo>
                <a:cubicBezTo>
                  <a:pt x="23779" y="16782"/>
                  <a:pt x="23849" y="16903"/>
                  <a:pt x="23887" y="17090"/>
                </a:cubicBezTo>
                <a:cubicBezTo>
                  <a:pt x="23891" y="17109"/>
                  <a:pt x="23961" y="17359"/>
                  <a:pt x="23912" y="17314"/>
                </a:cubicBezTo>
              </a:path>
              <a:path w="596" h="769">
                <a:moveTo>
                  <a:pt x="23763" y="17115"/>
                </a:moveTo>
                <a:cubicBezTo>
                  <a:pt x="23871" y="17110"/>
                  <a:pt x="23962" y="17113"/>
                  <a:pt x="23986" y="17066"/>
                </a:cubicBezTo>
              </a:path>
              <a:path w="596" h="769">
                <a:moveTo>
                  <a:pt x="23986" y="16570"/>
                </a:moveTo>
                <a:cubicBezTo>
                  <a:pt x="24111" y="16693"/>
                  <a:pt x="24067" y="16844"/>
                  <a:pt x="24061" y="17016"/>
                </a:cubicBezTo>
                <a:cubicBezTo>
                  <a:pt x="24055" y="17170"/>
                  <a:pt x="24027" y="17230"/>
                  <a:pt x="24185" y="17239"/>
                </a:cubicBezTo>
                <a:cubicBezTo>
                  <a:pt x="24277" y="17239"/>
                  <a:pt x="24303" y="17241"/>
                  <a:pt x="24358" y="17214"/>
                </a:cubicBezTo>
              </a:path>
              <a:path w="596" h="769">
                <a:moveTo>
                  <a:pt x="23887" y="16966"/>
                </a:moveTo>
                <a:cubicBezTo>
                  <a:pt x="24002" y="16952"/>
                  <a:pt x="24141" y="16916"/>
                  <a:pt x="24259" y="16942"/>
                </a:cubicBezTo>
                <a:cubicBezTo>
                  <a:pt x="24267" y="16950"/>
                  <a:pt x="24276" y="16958"/>
                  <a:pt x="24284" y="169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34120" y="3081240"/>
            <a:ext cx="1974960" cy="741600"/>
          </a:xfrm>
          <a:custGeom>
            <a:avLst/>
            <a:gdLst/>
            <a:ahLst/>
            <a:rect l="l" t="t" r="r" b="b"/>
            <a:pathLst>
              <a:path w="5483" h="2059">
                <a:moveTo>
                  <a:pt x="19844" y="10616"/>
                </a:moveTo>
                <a:cubicBezTo>
                  <a:pt x="20099" y="10616"/>
                  <a:pt x="20375" y="10607"/>
                  <a:pt x="20638" y="10592"/>
                </a:cubicBezTo>
                <a:cubicBezTo>
                  <a:pt x="21432" y="10546"/>
                  <a:pt x="22225" y="10491"/>
                  <a:pt x="23019" y="10443"/>
                </a:cubicBezTo>
                <a:cubicBezTo>
                  <a:pt x="23402" y="10420"/>
                  <a:pt x="23781" y="10397"/>
                  <a:pt x="24160" y="10344"/>
                </a:cubicBezTo>
                <a:cubicBezTo>
                  <a:pt x="24248" y="10332"/>
                  <a:pt x="24316" y="10321"/>
                  <a:pt x="24408" y="10319"/>
                </a:cubicBezTo>
                <a:cubicBezTo>
                  <a:pt x="24511" y="10317"/>
                  <a:pt x="24638" y="10348"/>
                  <a:pt x="24730" y="10344"/>
                </a:cubicBezTo>
                <a:cubicBezTo>
                  <a:pt x="24848" y="10339"/>
                  <a:pt x="24932" y="10339"/>
                  <a:pt x="25053" y="10344"/>
                </a:cubicBezTo>
                <a:cubicBezTo>
                  <a:pt x="25143" y="10348"/>
                  <a:pt x="25195" y="10338"/>
                  <a:pt x="25276" y="10319"/>
                </a:cubicBezTo>
                <a:cubicBezTo>
                  <a:pt x="25284" y="10311"/>
                  <a:pt x="25293" y="10302"/>
                  <a:pt x="25301" y="10294"/>
                </a:cubicBezTo>
                <a:cubicBezTo>
                  <a:pt x="25297" y="10202"/>
                  <a:pt x="25295" y="10110"/>
                  <a:pt x="25276" y="10021"/>
                </a:cubicBezTo>
                <a:cubicBezTo>
                  <a:pt x="25248" y="9885"/>
                  <a:pt x="25181" y="9754"/>
                  <a:pt x="25152" y="9624"/>
                </a:cubicBezTo>
                <a:cubicBezTo>
                  <a:pt x="25125" y="9502"/>
                  <a:pt x="25132" y="9370"/>
                  <a:pt x="25102" y="9252"/>
                </a:cubicBezTo>
                <a:cubicBezTo>
                  <a:pt x="25074" y="9142"/>
                  <a:pt x="25008" y="8998"/>
                  <a:pt x="24954" y="8905"/>
                </a:cubicBezTo>
                <a:cubicBezTo>
                  <a:pt x="24903" y="8818"/>
                  <a:pt x="25031" y="8872"/>
                  <a:pt x="24879" y="8806"/>
                </a:cubicBezTo>
                <a:cubicBezTo>
                  <a:pt x="24775" y="8761"/>
                  <a:pt x="24665" y="8777"/>
                  <a:pt x="24557" y="8731"/>
                </a:cubicBezTo>
                <a:cubicBezTo>
                  <a:pt x="24490" y="8703"/>
                  <a:pt x="24530" y="8710"/>
                  <a:pt x="24482" y="8682"/>
                </a:cubicBezTo>
                <a:cubicBezTo>
                  <a:pt x="24359" y="8611"/>
                  <a:pt x="24277" y="8595"/>
                  <a:pt x="24135" y="8582"/>
                </a:cubicBezTo>
                <a:cubicBezTo>
                  <a:pt x="24001" y="8570"/>
                  <a:pt x="23900" y="8590"/>
                  <a:pt x="23763" y="8607"/>
                </a:cubicBezTo>
                <a:cubicBezTo>
                  <a:pt x="23639" y="8622"/>
                  <a:pt x="23516" y="8661"/>
                  <a:pt x="23391" y="8682"/>
                </a:cubicBezTo>
                <a:cubicBezTo>
                  <a:pt x="23258" y="8704"/>
                  <a:pt x="23128" y="8726"/>
                  <a:pt x="22994" y="8756"/>
                </a:cubicBezTo>
                <a:cubicBezTo>
                  <a:pt x="22841" y="8790"/>
                  <a:pt x="22694" y="8841"/>
                  <a:pt x="22547" y="8880"/>
                </a:cubicBezTo>
                <a:cubicBezTo>
                  <a:pt x="22374" y="8926"/>
                  <a:pt x="22202" y="8925"/>
                  <a:pt x="22027" y="8954"/>
                </a:cubicBezTo>
                <a:cubicBezTo>
                  <a:pt x="21639" y="9018"/>
                  <a:pt x="21248" y="9072"/>
                  <a:pt x="20861" y="9128"/>
                </a:cubicBezTo>
                <a:cubicBezTo>
                  <a:pt x="20745" y="9145"/>
                  <a:pt x="20631" y="9140"/>
                  <a:pt x="20513" y="9153"/>
                </a:cubicBezTo>
                <a:cubicBezTo>
                  <a:pt x="20383" y="9167"/>
                  <a:pt x="20218" y="9177"/>
                  <a:pt x="20092" y="9203"/>
                </a:cubicBezTo>
                <a:cubicBezTo>
                  <a:pt x="20060" y="9210"/>
                  <a:pt x="19938" y="9239"/>
                  <a:pt x="19918" y="9252"/>
                </a:cubicBezTo>
                <a:cubicBezTo>
                  <a:pt x="19856" y="9293"/>
                  <a:pt x="19873" y="9285"/>
                  <a:pt x="19844" y="9351"/>
                </a:cubicBezTo>
                <a:cubicBezTo>
                  <a:pt x="19760" y="9541"/>
                  <a:pt x="19905" y="9911"/>
                  <a:pt x="19968" y="10096"/>
                </a:cubicBezTo>
                <a:cubicBezTo>
                  <a:pt x="20012" y="10224"/>
                  <a:pt x="20093" y="10390"/>
                  <a:pt x="20117" y="10517"/>
                </a:cubicBezTo>
                <a:cubicBezTo>
                  <a:pt x="20123" y="10548"/>
                  <a:pt x="20110" y="10585"/>
                  <a:pt x="20117" y="106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5749920"/>
            <a:ext cx="2189160" cy="768240"/>
          </a:xfrm>
          <a:custGeom>
            <a:avLst/>
            <a:gdLst/>
            <a:ahLst/>
            <a:rect l="l" t="t" r="r" b="b"/>
            <a:pathLst>
              <a:path w="6078" h="2134">
                <a:moveTo>
                  <a:pt x="19348" y="17959"/>
                </a:moveTo>
                <a:cubicBezTo>
                  <a:pt x="19606" y="17940"/>
                  <a:pt x="19880" y="17955"/>
                  <a:pt x="20141" y="17934"/>
                </a:cubicBezTo>
                <a:cubicBezTo>
                  <a:pt x="20679" y="17891"/>
                  <a:pt x="21215" y="17827"/>
                  <a:pt x="21754" y="17785"/>
                </a:cubicBezTo>
                <a:cubicBezTo>
                  <a:pt x="22168" y="17753"/>
                  <a:pt x="22580" y="17698"/>
                  <a:pt x="22994" y="17661"/>
                </a:cubicBezTo>
                <a:cubicBezTo>
                  <a:pt x="23294" y="17634"/>
                  <a:pt x="23587" y="17557"/>
                  <a:pt x="23887" y="17537"/>
                </a:cubicBezTo>
                <a:cubicBezTo>
                  <a:pt x="24011" y="17529"/>
                  <a:pt x="24020" y="17525"/>
                  <a:pt x="24110" y="17512"/>
                </a:cubicBezTo>
                <a:cubicBezTo>
                  <a:pt x="24177" y="17503"/>
                  <a:pt x="24244" y="17491"/>
                  <a:pt x="24309" y="17487"/>
                </a:cubicBezTo>
                <a:cubicBezTo>
                  <a:pt x="24368" y="17483"/>
                  <a:pt x="24411" y="17471"/>
                  <a:pt x="24457" y="17462"/>
                </a:cubicBezTo>
                <a:cubicBezTo>
                  <a:pt x="24500" y="17454"/>
                  <a:pt x="24543" y="17442"/>
                  <a:pt x="24581" y="17438"/>
                </a:cubicBezTo>
                <a:cubicBezTo>
                  <a:pt x="24614" y="17435"/>
                  <a:pt x="24648" y="17441"/>
                  <a:pt x="24681" y="17438"/>
                </a:cubicBezTo>
                <a:cubicBezTo>
                  <a:pt x="24681" y="17092"/>
                  <a:pt x="24618" y="16736"/>
                  <a:pt x="24631" y="16396"/>
                </a:cubicBezTo>
                <a:cubicBezTo>
                  <a:pt x="24635" y="16279"/>
                  <a:pt x="24691" y="16164"/>
                  <a:pt x="24705" y="16049"/>
                </a:cubicBezTo>
                <a:cubicBezTo>
                  <a:pt x="24708" y="16024"/>
                  <a:pt x="24703" y="15999"/>
                  <a:pt x="24705" y="15974"/>
                </a:cubicBezTo>
                <a:cubicBezTo>
                  <a:pt x="24614" y="16011"/>
                  <a:pt x="24503" y="16068"/>
                  <a:pt x="24408" y="16098"/>
                </a:cubicBezTo>
                <a:cubicBezTo>
                  <a:pt x="24318" y="16126"/>
                  <a:pt x="24229" y="16132"/>
                  <a:pt x="24135" y="16148"/>
                </a:cubicBezTo>
                <a:cubicBezTo>
                  <a:pt x="24027" y="16166"/>
                  <a:pt x="23920" y="16181"/>
                  <a:pt x="23812" y="16197"/>
                </a:cubicBezTo>
                <a:cubicBezTo>
                  <a:pt x="23686" y="16216"/>
                  <a:pt x="23566" y="16208"/>
                  <a:pt x="23440" y="16222"/>
                </a:cubicBezTo>
                <a:cubicBezTo>
                  <a:pt x="23291" y="16238"/>
                  <a:pt x="23142" y="16253"/>
                  <a:pt x="22994" y="16272"/>
                </a:cubicBezTo>
                <a:cubicBezTo>
                  <a:pt x="22809" y="16295"/>
                  <a:pt x="22632" y="16318"/>
                  <a:pt x="22448" y="16346"/>
                </a:cubicBezTo>
                <a:cubicBezTo>
                  <a:pt x="22316" y="16366"/>
                  <a:pt x="22184" y="16372"/>
                  <a:pt x="22051" y="16396"/>
                </a:cubicBezTo>
                <a:cubicBezTo>
                  <a:pt x="21902" y="16423"/>
                  <a:pt x="21756" y="16459"/>
                  <a:pt x="21605" y="16470"/>
                </a:cubicBezTo>
                <a:cubicBezTo>
                  <a:pt x="21430" y="16483"/>
                  <a:pt x="21260" y="16495"/>
                  <a:pt x="21084" y="16495"/>
                </a:cubicBezTo>
                <a:cubicBezTo>
                  <a:pt x="20752" y="16495"/>
                  <a:pt x="20419" y="16507"/>
                  <a:pt x="20092" y="16520"/>
                </a:cubicBezTo>
                <a:cubicBezTo>
                  <a:pt x="19816" y="16531"/>
                  <a:pt x="19547" y="16540"/>
                  <a:pt x="19273" y="16570"/>
                </a:cubicBezTo>
                <a:cubicBezTo>
                  <a:pt x="19190" y="16579"/>
                  <a:pt x="19136" y="16606"/>
                  <a:pt x="19050" y="16619"/>
                </a:cubicBezTo>
                <a:cubicBezTo>
                  <a:pt x="18946" y="16635"/>
                  <a:pt x="18846" y="16670"/>
                  <a:pt x="18752" y="16694"/>
                </a:cubicBezTo>
                <a:cubicBezTo>
                  <a:pt x="18632" y="16724"/>
                  <a:pt x="18628" y="16644"/>
                  <a:pt x="18628" y="16842"/>
                </a:cubicBezTo>
                <a:cubicBezTo>
                  <a:pt x="18628" y="17005"/>
                  <a:pt x="18678" y="17170"/>
                  <a:pt x="18678" y="17338"/>
                </a:cubicBezTo>
                <a:cubicBezTo>
                  <a:pt x="18678" y="17446"/>
                  <a:pt x="18679" y="17558"/>
                  <a:pt x="18703" y="17661"/>
                </a:cubicBezTo>
                <a:cubicBezTo>
                  <a:pt x="18719" y="17729"/>
                  <a:pt x="18768" y="17824"/>
                  <a:pt x="18777" y="17884"/>
                </a:cubicBezTo>
                <a:cubicBezTo>
                  <a:pt x="18786" y="17948"/>
                  <a:pt x="18750" y="18037"/>
                  <a:pt x="18802" y="18083"/>
                </a:cubicBezTo>
                <a:cubicBezTo>
                  <a:pt x="18831" y="18109"/>
                  <a:pt x="18962" y="18103"/>
                  <a:pt x="19000" y="18107"/>
                </a:cubicBezTo>
                <a:cubicBezTo>
                  <a:pt x="19120" y="18120"/>
                  <a:pt x="19233" y="18096"/>
                  <a:pt x="19348" y="18083"/>
                </a:cubicBezTo>
                <a:cubicBezTo>
                  <a:pt x="19440" y="18072"/>
                  <a:pt x="19533" y="18041"/>
                  <a:pt x="19621" y="18033"/>
                </a:cubicBezTo>
                <a:cubicBezTo>
                  <a:pt x="19653" y="18030"/>
                  <a:pt x="19744" y="18008"/>
                  <a:pt x="19745" y="18008"/>
                </a:cubicBezTo>
                <a:cubicBezTo>
                  <a:pt x="19753" y="18008"/>
                  <a:pt x="19761" y="18008"/>
                  <a:pt x="19769" y="180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Homework: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zzazz Worksheet E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2:53:40Z</dcterms:created>
  <dc:creator>ccps</dc:creator>
  <dc:description/>
  <dc:language>en-US</dc:language>
  <cp:lastModifiedBy>deanne elizabeth mcgrath</cp:lastModifiedBy>
  <dcterms:modified xsi:type="dcterms:W3CDTF">2011-05-18T18:27:39Z</dcterms:modified>
  <cp:revision>10</cp:revision>
  <dc:subject/>
  <dc:title>Unit 13</dc:title>
</cp:coreProperties>
</file>